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9993-BDEB-4F7D-A3B7-8142EF8A8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64B1-C6BC-4722-87DF-3CED1AF1517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L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 Feature List (”Product Backlog”): List of Issues for the whole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ation Feature List (”Sprint Backlog”): List of Issues for an 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nagement Activ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the Project Backlog: List of features from  developers, manager and 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the Sprint Backlog: List of issues to be addressed in current 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3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ypes of Mee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off Meeting: At the beginning of a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t Planning Meeting: At the beginning of an iteration (”sprint”) to establish a list of prioritized features to be implemen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Scrum: Daily informal status meeting, about 15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t Review Meeting: Demonstration of features, shown to management and 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3110-C3A8-46B6-8655-FB68159C8B1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3728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0CB7-64A2-43A7-BD13-8EA20838D62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waiting for instructions, the team takes initi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ugby the whole team moves simul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61FE-614E-446F-A839-D83B073E0A7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728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A8E5-7D9F-4335-980B-BB901BC69E1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3728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8D8D-D6B9-44B9-9DCF-BE7209571C1D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3728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5574-38BD-4A52-8928-0DC11C721A70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9CD2-3EDC-4237-A7B8-BE1A82AD4F4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>
              <a:lnSpc>
                <a:spcPts val="2599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-oriented software lifecycle with 30-day iterations (called “sprint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2599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53352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</a:t>
            </a:r>
            <a:fld id="{D83475EB-8B52-401E-B3FA-159FB6DCAD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UML, Patterns, and Java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 rot="16200000">
            <a:off x="-2662920" y="3204360"/>
            <a:ext cx="64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2" descr="_x0013_CO.12.Avalanche.tif                                            0012C2BC_x000c_Macintosh HD                   B7C803F1:"/>
          <p:cNvPicPr/>
          <p:nvPr/>
        </p:nvPicPr>
        <p:blipFill>
          <a:blip r:embed="rId1"/>
          <a:srcRect l="0" t="15679" r="0" b="0"/>
          <a:stretch/>
        </p:blipFill>
        <p:spPr>
          <a:xfrm>
            <a:off x="1282680" y="241200"/>
            <a:ext cx="7620120" cy="6426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85720" y="763200"/>
            <a:ext cx="7359480" cy="214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Chapter 12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Rationale Based Meeting Management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naging a Software Project with Scru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120320"/>
            <a:ext cx="8001000" cy="53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Backlog: Issues for the whole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rint Backlog: Issues for one iteration(“sprint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Management Activit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 the Project Backlog: List of requirements from stakeholders (developers, manager and custom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 the Sprint Backlog: List of issues to be addressed in current it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3_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 Types of Mee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ckoff Meeting: At the beginning of a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rint Planning Meeting: List of prioritized 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ily Scrum: Informal status meeting, about 15 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rint Review Meeting: Demonstration of features to management and custom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541520" y="2000160"/>
            <a:ext cx="2146320" cy="927000"/>
            <a:chOff x="1541520" y="2000160"/>
            <a:chExt cx="2146320" cy="927000"/>
          </a:xfrm>
        </p:grpSpPr>
        <p:sp>
          <p:nvSpPr>
            <p:cNvPr id="190" name="Freeform 3"/>
            <p:cNvSpPr/>
            <p:nvPr/>
          </p:nvSpPr>
          <p:spPr>
            <a:xfrm>
              <a:off x="1541520" y="2000160"/>
              <a:ext cx="2146320" cy="9270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1" name="Text Box 4"/>
            <p:cNvSpPr/>
            <p:nvPr/>
          </p:nvSpPr>
          <p:spPr>
            <a:xfrm>
              <a:off x="1698480" y="2147760"/>
              <a:ext cx="1902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Create Project 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Backlog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2" name="Group 5"/>
          <p:cNvGrpSpPr/>
          <p:nvPr/>
        </p:nvGrpSpPr>
        <p:grpSpPr>
          <a:xfrm>
            <a:off x="1600200" y="4730760"/>
            <a:ext cx="1994040" cy="1054080"/>
            <a:chOff x="1600200" y="4730760"/>
            <a:chExt cx="1994040" cy="1054080"/>
          </a:xfrm>
        </p:grpSpPr>
        <p:sp>
          <p:nvSpPr>
            <p:cNvPr id="193" name="Freeform 6"/>
            <p:cNvSpPr/>
            <p:nvPr/>
          </p:nvSpPr>
          <p:spPr>
            <a:xfrm>
              <a:off x="1600200" y="4730760"/>
              <a:ext cx="1994040" cy="10540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1788840" y="4954680"/>
              <a:ext cx="17899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Create Sprint 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Backlog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5" name="Group 8"/>
          <p:cNvGrpSpPr/>
          <p:nvPr/>
        </p:nvGrpSpPr>
        <p:grpSpPr>
          <a:xfrm>
            <a:off x="4395960" y="3556080"/>
            <a:ext cx="1172880" cy="1270080"/>
            <a:chOff x="4395960" y="3556080"/>
            <a:chExt cx="1172880" cy="1270080"/>
          </a:xfrm>
        </p:grpSpPr>
        <p:sp>
          <p:nvSpPr>
            <p:cNvPr id="196" name="Freeform 9"/>
            <p:cNvSpPr/>
            <p:nvPr/>
          </p:nvSpPr>
          <p:spPr>
            <a:xfrm>
              <a:off x="4395960" y="3556080"/>
              <a:ext cx="1172880" cy="12700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7" name="Text Box 10"/>
            <p:cNvSpPr/>
            <p:nvPr/>
          </p:nvSpPr>
          <p:spPr>
            <a:xfrm>
              <a:off x="4492080" y="3862440"/>
              <a:ext cx="10080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Sprint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Backlog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8" name="Group 11"/>
          <p:cNvGrpSpPr/>
          <p:nvPr/>
        </p:nvGrpSpPr>
        <p:grpSpPr>
          <a:xfrm>
            <a:off x="1612800" y="3321000"/>
            <a:ext cx="1992240" cy="1054080"/>
            <a:chOff x="1612800" y="3321000"/>
            <a:chExt cx="1992240" cy="1054080"/>
          </a:xfrm>
        </p:grpSpPr>
        <p:sp>
          <p:nvSpPr>
            <p:cNvPr id="199" name="Freeform 12"/>
            <p:cNvSpPr/>
            <p:nvPr/>
          </p:nvSpPr>
          <p:spPr>
            <a:xfrm>
              <a:off x="1612800" y="3321000"/>
              <a:ext cx="1992240" cy="1054080"/>
            </a:xfrm>
            <a:prstGeom prst="pie">
              <a:avLst/>
            </a:prstGeom>
            <a:solidFill>
              <a:srgbClr val="4bff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0" name="Text Box 13"/>
            <p:cNvSpPr/>
            <p:nvPr/>
          </p:nvSpPr>
          <p:spPr>
            <a:xfrm>
              <a:off x="2152800" y="3367080"/>
              <a:ext cx="11466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Sprint 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Planning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Meeting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01" name="Group 14"/>
          <p:cNvGrpSpPr/>
          <p:nvPr/>
        </p:nvGrpSpPr>
        <p:grpSpPr>
          <a:xfrm>
            <a:off x="6585120" y="4768920"/>
            <a:ext cx="1993680" cy="1054080"/>
            <a:chOff x="6585120" y="4768920"/>
            <a:chExt cx="1993680" cy="1054080"/>
          </a:xfrm>
        </p:grpSpPr>
        <p:sp>
          <p:nvSpPr>
            <p:cNvPr id="202" name="Freeform 15"/>
            <p:cNvSpPr/>
            <p:nvPr/>
          </p:nvSpPr>
          <p:spPr>
            <a:xfrm>
              <a:off x="6585120" y="4768920"/>
              <a:ext cx="1993680" cy="1054080"/>
            </a:xfrm>
            <a:prstGeom prst="pie">
              <a:avLst/>
            </a:prstGeom>
            <a:solidFill>
              <a:srgbClr val="1bff1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3" name="Text Box 16"/>
            <p:cNvSpPr/>
            <p:nvPr/>
          </p:nvSpPr>
          <p:spPr>
            <a:xfrm>
              <a:off x="7184160" y="4815000"/>
              <a:ext cx="10386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Daily 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Scrum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Meeting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04" name="Group 17"/>
          <p:cNvGrpSpPr/>
          <p:nvPr/>
        </p:nvGrpSpPr>
        <p:grpSpPr>
          <a:xfrm>
            <a:off x="6585120" y="3486240"/>
            <a:ext cx="1993680" cy="1054080"/>
            <a:chOff x="6585120" y="3486240"/>
            <a:chExt cx="1993680" cy="1054080"/>
          </a:xfrm>
        </p:grpSpPr>
        <p:sp>
          <p:nvSpPr>
            <p:cNvPr id="205" name="Freeform 18"/>
            <p:cNvSpPr/>
            <p:nvPr/>
          </p:nvSpPr>
          <p:spPr>
            <a:xfrm>
              <a:off x="6585120" y="3486240"/>
              <a:ext cx="1993680" cy="1054080"/>
            </a:xfrm>
            <a:prstGeom prst="pie">
              <a:avLst/>
            </a:prstGeom>
            <a:solidFill>
              <a:srgbClr val="14ff2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7090560" y="3532320"/>
              <a:ext cx="10386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Sprint 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Review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Meeting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07" name="Line 20"/>
          <p:cNvSpPr/>
          <p:nvPr/>
        </p:nvSpPr>
        <p:spPr>
          <a:xfrm>
            <a:off x="3600360" y="3987720"/>
            <a:ext cx="7970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 flipH="1">
            <a:off x="3576600" y="2743200"/>
            <a:ext cx="12780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Line 22"/>
          <p:cNvSpPr/>
          <p:nvPr/>
        </p:nvSpPr>
        <p:spPr>
          <a:xfrm>
            <a:off x="3611520" y="2425680"/>
            <a:ext cx="79848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10" name="Group 23"/>
          <p:cNvGrpSpPr/>
          <p:nvPr/>
        </p:nvGrpSpPr>
        <p:grpSpPr>
          <a:xfrm>
            <a:off x="4395960" y="1447920"/>
            <a:ext cx="1172880" cy="1269720"/>
            <a:chOff x="4395960" y="1447920"/>
            <a:chExt cx="1172880" cy="1269720"/>
          </a:xfrm>
        </p:grpSpPr>
        <p:sp>
          <p:nvSpPr>
            <p:cNvPr id="211" name="Freeform 24"/>
            <p:cNvSpPr/>
            <p:nvPr/>
          </p:nvSpPr>
          <p:spPr>
            <a:xfrm>
              <a:off x="4395960" y="1447920"/>
              <a:ext cx="1172880" cy="1269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4527360" y="1792080"/>
              <a:ext cx="10080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Project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Backlog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13" name="Group 26"/>
          <p:cNvGrpSpPr/>
          <p:nvPr/>
        </p:nvGrpSpPr>
        <p:grpSpPr>
          <a:xfrm>
            <a:off x="1353960" y="1022400"/>
            <a:ext cx="3043080" cy="996840"/>
            <a:chOff x="1353960" y="1022400"/>
            <a:chExt cx="3043080" cy="996840"/>
          </a:xfrm>
        </p:grpSpPr>
        <p:grpSp>
          <p:nvGrpSpPr>
            <p:cNvPr id="214" name="Group 27"/>
            <p:cNvGrpSpPr/>
            <p:nvPr/>
          </p:nvGrpSpPr>
          <p:grpSpPr>
            <a:xfrm>
              <a:off x="1353960" y="1022400"/>
              <a:ext cx="2145960" cy="927000"/>
              <a:chOff x="1353960" y="1022400"/>
              <a:chExt cx="2145960" cy="927000"/>
            </a:xfrm>
          </p:grpSpPr>
          <p:sp>
            <p:nvSpPr>
              <p:cNvPr id="215" name="Freeform 28"/>
              <p:cNvSpPr/>
              <p:nvPr/>
            </p:nvSpPr>
            <p:spPr>
              <a:xfrm>
                <a:off x="1353960" y="1022400"/>
                <a:ext cx="2145960" cy="927000"/>
              </a:xfrm>
              <a:prstGeom prst="pie">
                <a:avLst/>
              </a:prstGeom>
              <a:solidFill>
                <a:srgbClr val="27ff2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6" name="Text Box 29"/>
              <p:cNvSpPr/>
              <p:nvPr/>
            </p:nvSpPr>
            <p:spPr>
              <a:xfrm>
                <a:off x="1929240" y="1157400"/>
                <a:ext cx="10386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Palatino"/>
                  </a:rPr>
                  <a:t>Kickoff</a:t>
                </a:r>
                <a:endParaRPr b="0" lang="en-US" sz="20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Palatino"/>
                  </a:rPr>
                  <a:t>Meeting</a:t>
                </a:r>
                <a:endParaRPr b="0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17" name="Line 30"/>
            <p:cNvSpPr/>
            <p:nvPr/>
          </p:nvSpPr>
          <p:spPr>
            <a:xfrm>
              <a:off x="3494160" y="1523880"/>
              <a:ext cx="90288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18" name="Line 31"/>
          <p:cNvSpPr/>
          <p:nvPr/>
        </p:nvSpPr>
        <p:spPr>
          <a:xfrm flipV="1">
            <a:off x="3540960" y="4546080"/>
            <a:ext cx="80964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Line 32"/>
          <p:cNvSpPr/>
          <p:nvPr/>
        </p:nvSpPr>
        <p:spPr>
          <a:xfrm flipV="1">
            <a:off x="5570640" y="4076640"/>
            <a:ext cx="1008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Line 33"/>
          <p:cNvSpPr/>
          <p:nvPr/>
        </p:nvSpPr>
        <p:spPr>
          <a:xfrm>
            <a:off x="5594400" y="4394160"/>
            <a:ext cx="107784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Line 34"/>
          <p:cNvSpPr/>
          <p:nvPr/>
        </p:nvSpPr>
        <p:spPr>
          <a:xfrm flipH="1" flipV="1">
            <a:off x="5581440" y="2031480"/>
            <a:ext cx="1654200" cy="14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2" name="Line 35"/>
          <p:cNvSpPr/>
          <p:nvPr/>
        </p:nvSpPr>
        <p:spPr>
          <a:xfrm flipH="1" flipV="1">
            <a:off x="5359320" y="4889520"/>
            <a:ext cx="12304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Lists, Activities and Meetings in Scru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haracteristics of Scru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247400"/>
            <a:ext cx="819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is of work is done by t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ms are put in a time-box and told to create a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eams focus on what can be done and how the problem can be solv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ms are self-organizing, no formal agend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les and tasks and are established by the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estimates are also done by the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haracteristics of  Scru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um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ingle place for informal daily meeting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um is more than a meeting management techn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formal planning 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PERT Charts, no cost estimates, no roles, no individual assign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functionality is delivered increment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ments are regularly built &amp; discussed (“daily build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ies in the Scrum Kickoff Mee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Product Backlo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Backlog is never expected to be finalized, even if the project is finish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Backlog content comes from many sources: Users, Customers, Sales, Marketing, Customer Service and Engineerin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product ow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the product owner can prioritize the Product Backlo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up Scrum T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-functional teams that do the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rum teams select from the Product Backlog as much as they believe they can develop in additional system functionality  within a 30 day iteration (“sprint”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3371760" y="3556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ies in the Sprint Planning Mee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lk to the customer:  Understand the task at h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problem do we need  to sol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the Sprint Backlog (“list of issues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rt the issues by highest-prior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kills do we hav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kills do we need to learn? (Read Ant, Read XML, Modify Configuration Makefi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system functionality for the spr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next functionality to be implement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needs to be done to build i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ies in the Daily Scrum Mee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the Sprint Backlog (“list of open issues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re new issues? Add them to the Sprint Backlo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rt the issues by highest-prior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action items for the team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etings are costly and low bandwith ev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or to the me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sc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correct aud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ring me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cus on sc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ble issues to ad hoc meetings, if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me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 decisions and action i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 con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um: Can be used for issue-based meet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Backup and Example Slid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 Agenda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45760" y="1015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GENDA: Integration of access control and notifi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Purpo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irst revisions of the hardware/software mapping and the persistent storage design have been completed. The access control model needs to be defined and its integration with the current subsystems, such as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ingSubsys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eeds to be defin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Desired outco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olve issues about the integration of access control with notifica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Information sharing [Allocated time: 15 minutes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AI[1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ave: Investigate the access control model provided by the middlewa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Discussion [Allocated time: 35 minutes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I[1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an a dispatcher see other dispatchers’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I[2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an a dispatcher modify another dispatchers’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I[3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ow should access control be integrated with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Wrap up [Allocated time: 5 minutes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ew and assign new action item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eting critiqu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um Techn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 Unstructured Minut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0537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ion of access control and notifi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Discuss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I[3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ow should access control be integrated with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v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aintains an access list. The notification service asks th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bout who has acces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ic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should probably reverse the dependency between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Instead,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UICli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quests subscriptions from th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which checks for access and then calls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way, all protected methods are in one pla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v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way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an also more easily unsubscribe dispatchers wh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ir access is revok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d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y, no need for access control in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Dispatchers can see 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As long as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not used for chang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, there is no need to restrict subscriptio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ic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thinking about the access control on notification would be more gener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d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more complex. Let’s just separate access control and notification at this poi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revisit the issue if the requirements chang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ic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k. I’ll take care of revising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ingSubsys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P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 Structured Minut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1004760"/>
            <a:ext cx="9144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UCTURED MINUTES: Integration of access control and notification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Discussion 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I[3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ow should access control be integrated with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P[3.1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aintain an access list of who can examine or modify the state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o subscribe to events, a subsystem sends a request to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which in turns sends a request to the corresponding 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check access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P[3.2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ost all protected operations.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UICli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quests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ption to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vents by sending a request to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checks access and sends a request to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A[3.1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P[3.2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ccess control and protected operations are centralized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o a single class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P[3.3]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is no need to restrict the access to the event subscription.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UICli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s subscriptions directly from the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NotificationSer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eed not check access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A[3.2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P[3.3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ispatchers can see the state of any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TrackSe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see 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R[1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A[3.3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P[3.3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Simplicity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R[3]: P[3.3]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ee action item </a:t>
            </a:r>
            <a:r>
              <a:rPr b="0" lang="en-US" sz="1300" spc="-1" strike="noStrike">
                <a:solidFill>
                  <a:srgbClr val="000000"/>
                </a:solidFill>
                <a:latin typeface="Lucida Sans Typewriter"/>
              </a:rPr>
              <a:t>AI[2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 Issue Databas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rcRect l="5590" t="8770" r="7005" b="9475"/>
          <a:stretch/>
        </p:blipFill>
        <p:spPr>
          <a:xfrm>
            <a:off x="554040" y="1295280"/>
            <a:ext cx="78580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otivation: Challeng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 bandwi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nts speak slower than they can r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nts get side tracked or interrup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ing on the purpose of a meeting can consume most of the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nts attending meetings do not produce anything 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nts need time to get to the meeting and return to their work 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at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said and not recorded is forgotten fa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otivation: Meeting Management Goa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meetings sh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scope of meeting before h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cus only on issues within sc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ite the right particip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not invite participants who cannot contrib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invite participants whose agreement is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 to agreements for closed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e that all remember the same outc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 context for open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rten follow up discussions on the same th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eting Concep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831960" y="1420920"/>
            <a:ext cx="2108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Agenda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6" name="Group 55"/>
          <p:cNvGrpSpPr/>
          <p:nvPr/>
        </p:nvGrpSpPr>
        <p:grpSpPr>
          <a:xfrm>
            <a:off x="5716440" y="2029320"/>
            <a:ext cx="1398240" cy="861480"/>
            <a:chOff x="5716440" y="2029320"/>
            <a:chExt cx="1398240" cy="861480"/>
          </a:xfrm>
        </p:grpSpPr>
        <p:cxnSp>
          <p:nvCxnSpPr>
            <p:cNvPr id="97" name="AutoShape 22"/>
            <p:cNvCxnSpPr>
              <a:stCxn id="98" idx="3"/>
              <a:endCxn id="99" idx="1"/>
            </p:cNvCxnSpPr>
            <p:nvPr/>
          </p:nvCxnSpPr>
          <p:spPr>
            <a:xfrm>
              <a:off x="5716440" y="2332080"/>
              <a:ext cx="1077120" cy="559080"/>
            </a:xfrm>
            <a:prstGeom prst="curvedConnector5">
              <a:avLst>
                <a:gd name="adj1" fmla="val 49983"/>
                <a:gd name="adj2" fmla="val 50000"/>
                <a:gd name="adj3" fmla="val 499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0" name="Rectangle 27"/>
            <p:cNvSpPr/>
            <p:nvPr/>
          </p:nvSpPr>
          <p:spPr>
            <a:xfrm>
              <a:off x="5969160" y="2029320"/>
              <a:ext cx="114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assigned to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1" name="Group 53"/>
          <p:cNvGrpSpPr/>
          <p:nvPr/>
        </p:nvGrpSpPr>
        <p:grpSpPr>
          <a:xfrm>
            <a:off x="2871360" y="3731040"/>
            <a:ext cx="4037400" cy="581400"/>
            <a:chOff x="2871360" y="3731040"/>
            <a:chExt cx="4037400" cy="581400"/>
          </a:xfrm>
        </p:grpSpPr>
        <p:sp>
          <p:nvSpPr>
            <p:cNvPr id="102" name="Rectangle 6"/>
            <p:cNvSpPr/>
            <p:nvPr/>
          </p:nvSpPr>
          <p:spPr>
            <a:xfrm>
              <a:off x="4800600" y="3860640"/>
              <a:ext cx="21081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Decision</a:t>
              </a: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03" name="AutoShape 16"/>
            <p:cNvCxnSpPr>
              <a:stCxn id="102" idx="1"/>
              <a:endCxn id="104" idx="3"/>
            </p:cNvCxnSpPr>
            <p:nvPr/>
          </p:nvCxnSpPr>
          <p:spPr>
            <a:xfrm flipV="1" rot="10800000">
              <a:off x="2871000" y="4058280"/>
              <a:ext cx="1915200" cy="254520"/>
            </a:xfrm>
            <a:prstGeom prst="curvedConnector5">
              <a:avLst>
                <a:gd name="adj1" fmla="val 49990"/>
                <a:gd name="adj2" fmla="val 50000"/>
                <a:gd name="adj3" fmla="val 499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Rectangle 28"/>
            <p:cNvSpPr/>
            <p:nvPr/>
          </p:nvSpPr>
          <p:spPr>
            <a:xfrm>
              <a:off x="3362760" y="373104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selected by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6" name="Group 47"/>
          <p:cNvGrpSpPr/>
          <p:nvPr/>
        </p:nvGrpSpPr>
        <p:grpSpPr>
          <a:xfrm>
            <a:off x="600120" y="1828800"/>
            <a:ext cx="2276280" cy="1320840"/>
            <a:chOff x="600120" y="1828800"/>
            <a:chExt cx="2276280" cy="1320840"/>
          </a:xfrm>
        </p:grpSpPr>
        <p:sp>
          <p:nvSpPr>
            <p:cNvPr id="107" name="Rectangle 4"/>
            <p:cNvSpPr/>
            <p:nvPr/>
          </p:nvSpPr>
          <p:spPr>
            <a:xfrm>
              <a:off x="768240" y="2781360"/>
              <a:ext cx="21081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Issue</a:t>
              </a: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08" name="Group 32"/>
            <p:cNvGrpSpPr/>
            <p:nvPr/>
          </p:nvGrpSpPr>
          <p:grpSpPr>
            <a:xfrm>
              <a:off x="1766880" y="1828800"/>
              <a:ext cx="111240" cy="939960"/>
              <a:chOff x="1766880" y="1828800"/>
              <a:chExt cx="111240" cy="939960"/>
            </a:xfrm>
          </p:grpSpPr>
          <p:sp>
            <p:nvSpPr>
              <p:cNvPr id="109" name="Line 24"/>
              <p:cNvSpPr/>
              <p:nvPr/>
            </p:nvSpPr>
            <p:spPr>
              <a:xfrm>
                <a:off x="1809720" y="2057400"/>
                <a:ext cx="0" cy="71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0" name="Freeform 25"/>
              <p:cNvSpPr/>
              <p:nvPr/>
            </p:nvSpPr>
            <p:spPr>
              <a:xfrm>
                <a:off x="1766880" y="1828800"/>
                <a:ext cx="111240" cy="2221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11" name="Rectangle 29"/>
            <p:cNvSpPr/>
            <p:nvPr/>
          </p:nvSpPr>
          <p:spPr>
            <a:xfrm>
              <a:off x="600120" y="2194560"/>
              <a:ext cx="102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scoped by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12" name="Group 48"/>
          <p:cNvGrpSpPr/>
          <p:nvPr/>
        </p:nvGrpSpPr>
        <p:grpSpPr>
          <a:xfrm>
            <a:off x="2133360" y="1828800"/>
            <a:ext cx="3569040" cy="673200"/>
            <a:chOff x="2133360" y="1828800"/>
            <a:chExt cx="3569040" cy="673200"/>
          </a:xfrm>
        </p:grpSpPr>
        <p:sp>
          <p:nvSpPr>
            <p:cNvPr id="98" name="Rectangle 12"/>
            <p:cNvSpPr/>
            <p:nvPr/>
          </p:nvSpPr>
          <p:spPr>
            <a:xfrm>
              <a:off x="3594240" y="2133720"/>
              <a:ext cx="21081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Participant</a:t>
              </a: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3" name="Rectangle 30"/>
            <p:cNvSpPr/>
            <p:nvPr/>
          </p:nvSpPr>
          <p:spPr>
            <a:xfrm>
              <a:off x="2693520" y="191520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invites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4" name="Bogen 31"/>
            <p:cNvSpPr/>
            <p:nvPr/>
          </p:nvSpPr>
          <p:spPr>
            <a:xfrm flipH="1" flipV="1">
              <a:off x="2133000" y="1828800"/>
              <a:ext cx="1447560" cy="495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15" name="Group 49"/>
          <p:cNvGrpSpPr/>
          <p:nvPr/>
        </p:nvGrpSpPr>
        <p:grpSpPr>
          <a:xfrm>
            <a:off x="372600" y="3187800"/>
            <a:ext cx="2485080" cy="1295280"/>
            <a:chOff x="372600" y="3187800"/>
            <a:chExt cx="2485080" cy="1295280"/>
          </a:xfrm>
        </p:grpSpPr>
        <p:sp>
          <p:nvSpPr>
            <p:cNvPr id="104" name="Rectangle 5"/>
            <p:cNvSpPr/>
            <p:nvPr/>
          </p:nvSpPr>
          <p:spPr>
            <a:xfrm>
              <a:off x="749160" y="4114800"/>
              <a:ext cx="210852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Option</a:t>
              </a: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16" name="Group 33"/>
            <p:cNvGrpSpPr/>
            <p:nvPr/>
          </p:nvGrpSpPr>
          <p:grpSpPr>
            <a:xfrm>
              <a:off x="1754280" y="3187800"/>
              <a:ext cx="110880" cy="939240"/>
              <a:chOff x="1754280" y="3187800"/>
              <a:chExt cx="110880" cy="939240"/>
            </a:xfrm>
          </p:grpSpPr>
          <p:sp>
            <p:nvSpPr>
              <p:cNvPr id="117" name="Line 34"/>
              <p:cNvSpPr/>
              <p:nvPr/>
            </p:nvSpPr>
            <p:spPr>
              <a:xfrm>
                <a:off x="1796760" y="3416040"/>
                <a:ext cx="0" cy="71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8" name="Freeform 35"/>
              <p:cNvSpPr/>
              <p:nvPr/>
            </p:nvSpPr>
            <p:spPr>
              <a:xfrm>
                <a:off x="1754280" y="3187800"/>
                <a:ext cx="110880" cy="22176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36"/>
            <p:cNvSpPr/>
            <p:nvPr/>
          </p:nvSpPr>
          <p:spPr>
            <a:xfrm>
              <a:off x="372600" y="3478680"/>
              <a:ext cx="130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addressed by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20" name="Group 52"/>
          <p:cNvGrpSpPr/>
          <p:nvPr/>
        </p:nvGrpSpPr>
        <p:grpSpPr>
          <a:xfrm>
            <a:off x="1802160" y="4524120"/>
            <a:ext cx="2056320" cy="734760"/>
            <a:chOff x="1802160" y="4524120"/>
            <a:chExt cx="2056320" cy="734760"/>
          </a:xfrm>
        </p:grpSpPr>
        <p:cxnSp>
          <p:nvCxnSpPr>
            <p:cNvPr id="121" name="AutoShape 20"/>
            <p:cNvCxnSpPr>
              <a:stCxn id="104" idx="2"/>
              <a:endCxn id="122" idx="1"/>
            </p:cNvCxnSpPr>
            <p:nvPr/>
          </p:nvCxnSpPr>
          <p:spPr>
            <a:xfrm flipH="1" rot="16200000">
              <a:off x="2656800" y="3669480"/>
              <a:ext cx="347760" cy="2056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Rectangle 37"/>
            <p:cNvSpPr/>
            <p:nvPr/>
          </p:nvSpPr>
          <p:spPr>
            <a:xfrm>
              <a:off x="2491200" y="4951800"/>
              <a:ext cx="118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assessed by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24" name="Group 54"/>
          <p:cNvGrpSpPr/>
          <p:nvPr/>
        </p:nvGrpSpPr>
        <p:grpSpPr>
          <a:xfrm>
            <a:off x="5841000" y="2692440"/>
            <a:ext cx="3074400" cy="1154160"/>
            <a:chOff x="5841000" y="2692440"/>
            <a:chExt cx="3074400" cy="1154160"/>
          </a:xfrm>
        </p:grpSpPr>
        <p:sp>
          <p:nvSpPr>
            <p:cNvPr id="99" name="Rectangle 10"/>
            <p:cNvSpPr/>
            <p:nvPr/>
          </p:nvSpPr>
          <p:spPr>
            <a:xfrm>
              <a:off x="6807240" y="2692440"/>
              <a:ext cx="21081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Action Item</a:t>
              </a: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25" name="AutoShape 15"/>
            <p:cNvCxnSpPr>
              <a:stCxn id="102" idx="0"/>
              <a:endCxn id="99" idx="2"/>
            </p:cNvCxnSpPr>
            <p:nvPr/>
          </p:nvCxnSpPr>
          <p:spPr>
            <a:xfrm flipH="1" flipV="1" rot="5400000">
              <a:off x="6485400" y="2470680"/>
              <a:ext cx="745200" cy="2007360"/>
            </a:xfrm>
            <a:prstGeom prst="curvedConnector5">
              <a:avLst>
                <a:gd name="adj1" fmla="val 49879"/>
                <a:gd name="adj2" fmla="val 49991"/>
                <a:gd name="adj3" fmla="val 498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Rectangle 38"/>
            <p:cNvSpPr/>
            <p:nvPr/>
          </p:nvSpPr>
          <p:spPr>
            <a:xfrm>
              <a:off x="5841000" y="314856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realized by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27" name="Group 50"/>
          <p:cNvGrpSpPr/>
          <p:nvPr/>
        </p:nvGrpSpPr>
        <p:grpSpPr>
          <a:xfrm>
            <a:off x="190440" y="4524480"/>
            <a:ext cx="2108160" cy="1406520"/>
            <a:chOff x="190440" y="4524480"/>
            <a:chExt cx="2108160" cy="1406520"/>
          </a:xfrm>
        </p:grpSpPr>
        <p:sp>
          <p:nvSpPr>
            <p:cNvPr id="128" name="Rectangle 11"/>
            <p:cNvSpPr/>
            <p:nvPr/>
          </p:nvSpPr>
          <p:spPr>
            <a:xfrm>
              <a:off x="190440" y="5562720"/>
              <a:ext cx="21081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Argument</a:t>
              </a: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29" name="AutoShape 39"/>
            <p:cNvCxnSpPr>
              <a:stCxn id="104" idx="2"/>
              <a:endCxn id="128" idx="0"/>
            </p:cNvCxnSpPr>
            <p:nvPr/>
          </p:nvCxnSpPr>
          <p:spPr>
            <a:xfrm rot="5400000">
              <a:off x="1011600" y="4757040"/>
              <a:ext cx="1024560" cy="559080"/>
            </a:xfrm>
            <a:prstGeom prst="curvedConnector5">
              <a:avLst>
                <a:gd name="adj1" fmla="val 49912"/>
                <a:gd name="adj2" fmla="val 50000"/>
                <a:gd name="adj3" fmla="val 49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0" name="Rectangle 40"/>
            <p:cNvSpPr/>
            <p:nvPr/>
          </p:nvSpPr>
          <p:spPr>
            <a:xfrm>
              <a:off x="392400" y="4816080"/>
              <a:ext cx="9259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suppor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opposes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31" name="Group 51"/>
          <p:cNvGrpSpPr/>
          <p:nvPr/>
        </p:nvGrpSpPr>
        <p:grpSpPr>
          <a:xfrm>
            <a:off x="2312280" y="4673520"/>
            <a:ext cx="3669480" cy="1245960"/>
            <a:chOff x="2312280" y="4673520"/>
            <a:chExt cx="3669480" cy="1245960"/>
          </a:xfrm>
        </p:grpSpPr>
        <p:sp>
          <p:nvSpPr>
            <p:cNvPr id="122" name="Rectangle 7"/>
            <p:cNvSpPr/>
            <p:nvPr/>
          </p:nvSpPr>
          <p:spPr>
            <a:xfrm>
              <a:off x="3873600" y="4673520"/>
              <a:ext cx="21081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Criterion</a:t>
              </a: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32" name="AutoShape 41"/>
            <p:cNvCxnSpPr>
              <a:stCxn id="122" idx="2"/>
              <a:endCxn id="128" idx="3"/>
            </p:cNvCxnSpPr>
            <p:nvPr/>
          </p:nvCxnSpPr>
          <p:spPr>
            <a:xfrm rot="5400000">
              <a:off x="3280680" y="4114440"/>
              <a:ext cx="678600" cy="26154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Rectangle 42"/>
            <p:cNvSpPr/>
            <p:nvPr/>
          </p:nvSpPr>
          <p:spPr>
            <a:xfrm>
              <a:off x="3901320" y="5612400"/>
              <a:ext cx="136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makes explicit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34" name="Group 56"/>
          <p:cNvGrpSpPr/>
          <p:nvPr/>
        </p:nvGrpSpPr>
        <p:grpSpPr>
          <a:xfrm>
            <a:off x="6832440" y="1346040"/>
            <a:ext cx="2108520" cy="1346400"/>
            <a:chOff x="6832440" y="1346040"/>
            <a:chExt cx="2108520" cy="1346400"/>
          </a:xfrm>
        </p:grpSpPr>
        <p:sp>
          <p:nvSpPr>
            <p:cNvPr id="135" name="Rectangle 9"/>
            <p:cNvSpPr/>
            <p:nvPr/>
          </p:nvSpPr>
          <p:spPr>
            <a:xfrm>
              <a:off x="6832440" y="1346040"/>
              <a:ext cx="210852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Minutes</a:t>
              </a: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36" name="Group 43"/>
            <p:cNvGrpSpPr/>
            <p:nvPr/>
          </p:nvGrpSpPr>
          <p:grpSpPr>
            <a:xfrm>
              <a:off x="7824960" y="1752480"/>
              <a:ext cx="110880" cy="939960"/>
              <a:chOff x="7824960" y="1752480"/>
              <a:chExt cx="110880" cy="939960"/>
            </a:xfrm>
          </p:grpSpPr>
          <p:sp>
            <p:nvSpPr>
              <p:cNvPr id="137" name="Line 44"/>
              <p:cNvSpPr/>
              <p:nvPr/>
            </p:nvSpPr>
            <p:spPr>
              <a:xfrm>
                <a:off x="7867440" y="1981080"/>
                <a:ext cx="0" cy="71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8" name="Freeform 45"/>
              <p:cNvSpPr/>
              <p:nvPr/>
            </p:nvSpPr>
            <p:spPr>
              <a:xfrm>
                <a:off x="7824960" y="1752480"/>
                <a:ext cx="110880" cy="2221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39" name="Rectangle 46"/>
            <p:cNvSpPr/>
            <p:nvPr/>
          </p:nvSpPr>
          <p:spPr>
            <a:xfrm>
              <a:off x="8047080" y="2081880"/>
              <a:ext cx="81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Typewriter"/>
                </a:rPr>
                <a:t>records</a:t>
              </a:r>
              <a:endParaRPr b="0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eting Documen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s the scope of the meeting in terms of open  issues (from the Issue Databa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s participants whose agreement is needed to resolve the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ime budget 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4_i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cated to each issue before the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each iss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s decisions and their realization, 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s the current progress of the discussion in terms of options, criteria, and arg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4">
            <a:hlinkClick r:id="rId1" action="ppaction://hlinksldjump"/>
          </p:cNvPr>
          <p:cNvSpPr/>
          <p:nvPr/>
        </p:nvSpPr>
        <p:spPr>
          <a:xfrm>
            <a:off x="584280" y="1397160"/>
            <a:ext cx="203040" cy="2030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03040"/>
              <a:gd name="textAreaBottom" fmla="*/ 19008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AutoShape 6">
            <a:hlinkClick r:id="rId2" action="ppaction://hlinksldjump"/>
          </p:cNvPr>
          <p:cNvSpPr/>
          <p:nvPr/>
        </p:nvSpPr>
        <p:spPr>
          <a:xfrm>
            <a:off x="1447920" y="4952880"/>
            <a:ext cx="203040" cy="2034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03400"/>
              <a:gd name="textAreaBottom" fmla="*/ 190440 h 203400"/>
            </a:gdLst>
            <a:ahLst/>
            <a:rect l="textAreaLeft" t="textAreaTop" r="textAreaRight" b="textAreaBottom"/>
            <a:pathLst>
              <a:path w="21600" h="21638">
                <a:moveTo>
                  <a:pt x="0" y="0"/>
                </a:moveTo>
                <a:lnTo>
                  <a:pt x="21600" y="0"/>
                </a:lnTo>
                <a:lnTo>
                  <a:pt x="21600" y="21638"/>
                </a:lnTo>
                <a:lnTo>
                  <a:pt x="0" y="21638"/>
                </a:lnTo>
                <a:close/>
              </a:path>
              <a:path fill="lightenLess" w="21600" h="216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8">
                <a:moveTo>
                  <a:pt x="21600" y="0"/>
                </a:moveTo>
                <a:lnTo>
                  <a:pt x="21600" y="21638"/>
                </a:lnTo>
                <a:lnTo>
                  <a:pt x="20200" y="20238"/>
                </a:lnTo>
                <a:lnTo>
                  <a:pt x="20200" y="1400"/>
                </a:lnTo>
                <a:close/>
              </a:path>
              <a:path fill="darkenLess" w="21600" h="21638">
                <a:moveTo>
                  <a:pt x="21600" y="21638"/>
                </a:moveTo>
                <a:lnTo>
                  <a:pt x="0" y="21638"/>
                </a:lnTo>
                <a:lnTo>
                  <a:pt x="1400" y="20238"/>
                </a:lnTo>
                <a:lnTo>
                  <a:pt x="20200" y="20238"/>
                </a:lnTo>
                <a:close/>
              </a:path>
              <a:path fill="lighten" w="21600" h="21638">
                <a:moveTo>
                  <a:pt x="0" y="216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8"/>
                </a:lnTo>
                <a:close/>
              </a:path>
              <a:path fill="darken" w="21600" h="21638">
                <a:moveTo>
                  <a:pt x="3794" y="3813"/>
                </a:moveTo>
                <a:lnTo>
                  <a:pt x="17806" y="10819"/>
                </a:lnTo>
                <a:lnTo>
                  <a:pt x="3794" y="17826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AutoShape 7">
            <a:hlinkClick r:id="rId3" action="ppaction://hlinksldjump"/>
          </p:cNvPr>
          <p:cNvSpPr/>
          <p:nvPr/>
        </p:nvSpPr>
        <p:spPr>
          <a:xfrm>
            <a:off x="1460520" y="5308560"/>
            <a:ext cx="203040" cy="2034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03400"/>
              <a:gd name="textAreaBottom" fmla="*/ 190440 h 203400"/>
            </a:gdLst>
            <a:ahLst/>
            <a:rect l="textAreaLeft" t="textAreaTop" r="textAreaRight" b="textAreaBottom"/>
            <a:pathLst>
              <a:path w="21600" h="21638">
                <a:moveTo>
                  <a:pt x="0" y="0"/>
                </a:moveTo>
                <a:lnTo>
                  <a:pt x="21600" y="0"/>
                </a:lnTo>
                <a:lnTo>
                  <a:pt x="21600" y="21638"/>
                </a:lnTo>
                <a:lnTo>
                  <a:pt x="0" y="21638"/>
                </a:lnTo>
                <a:close/>
              </a:path>
              <a:path fill="lightenLess" w="21600" h="216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8">
                <a:moveTo>
                  <a:pt x="21600" y="0"/>
                </a:moveTo>
                <a:lnTo>
                  <a:pt x="21600" y="21638"/>
                </a:lnTo>
                <a:lnTo>
                  <a:pt x="20200" y="20238"/>
                </a:lnTo>
                <a:lnTo>
                  <a:pt x="20200" y="1400"/>
                </a:lnTo>
                <a:close/>
              </a:path>
              <a:path fill="darkenLess" w="21600" h="21638">
                <a:moveTo>
                  <a:pt x="21600" y="21638"/>
                </a:moveTo>
                <a:lnTo>
                  <a:pt x="0" y="21638"/>
                </a:lnTo>
                <a:lnTo>
                  <a:pt x="1400" y="20238"/>
                </a:lnTo>
                <a:lnTo>
                  <a:pt x="20200" y="20238"/>
                </a:lnTo>
                <a:close/>
              </a:path>
              <a:path fill="lighten" w="21600" h="21638">
                <a:moveTo>
                  <a:pt x="0" y="216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8"/>
                </a:lnTo>
                <a:close/>
              </a:path>
              <a:path fill="darken" w="21600" h="21638">
                <a:moveTo>
                  <a:pt x="3794" y="3813"/>
                </a:moveTo>
                <a:lnTo>
                  <a:pt x="17806" y="10819"/>
                </a:lnTo>
                <a:lnTo>
                  <a:pt x="3794" y="17826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AutoShape 8">
            <a:hlinkClick r:id="rId4" action="ppaction://hlinksldjump"/>
          </p:cNvPr>
          <p:cNvSpPr/>
          <p:nvPr/>
        </p:nvSpPr>
        <p:spPr>
          <a:xfrm>
            <a:off x="5562720" y="2082960"/>
            <a:ext cx="203040" cy="2030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03040"/>
              <a:gd name="textAreaBottom" fmla="*/ 19008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eting Rol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ilit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ible for keeping the meeting within sc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upts or redirects participants who get side track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es that decisions represent consens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keep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s the facilitator when an specific issue takes more time than budge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ute tak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s decisions, action items, options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tributes the meeting minutes to all other participants shortly after the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3071880" y="1003320"/>
            <a:ext cx="2654280" cy="57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Participant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5727600" y="1003320"/>
            <a:ext cx="2654280" cy="5702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Minute Taker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419040" y="1003320"/>
            <a:ext cx="2654280" cy="5702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Facilitator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eting Activit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558720" y="1406520"/>
            <a:ext cx="2376720" cy="365040"/>
          </a:xfrm>
          <a:prstGeom prst="roundRect">
            <a:avLst>
              <a:gd name="adj" fmla="val 42153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Post Agenda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3" name="Group 32"/>
          <p:cNvGrpSpPr/>
          <p:nvPr/>
        </p:nvGrpSpPr>
        <p:grpSpPr>
          <a:xfrm>
            <a:off x="2949120" y="1588680"/>
            <a:ext cx="2638800" cy="654480"/>
            <a:chOff x="2949120" y="1588680"/>
            <a:chExt cx="2638800" cy="654480"/>
          </a:xfrm>
        </p:grpSpPr>
        <p:sp>
          <p:nvSpPr>
            <p:cNvPr id="154" name="AutoShape 5"/>
            <p:cNvSpPr/>
            <p:nvPr/>
          </p:nvSpPr>
          <p:spPr>
            <a:xfrm>
              <a:off x="3211560" y="1878120"/>
              <a:ext cx="2376360" cy="365040"/>
            </a:xfrm>
            <a:prstGeom prst="roundRect">
              <a:avLst>
                <a:gd name="adj" fmla="val 4215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Review Agenda</a:t>
              </a:r>
              <a:endParaRPr b="0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55" name="AutoShape 17"/>
            <p:cNvCxnSpPr>
              <a:stCxn id="152" idx="3"/>
              <a:endCxn id="154" idx="0"/>
            </p:cNvCxnSpPr>
            <p:nvPr/>
          </p:nvCxnSpPr>
          <p:spPr>
            <a:xfrm>
              <a:off x="2949120" y="1588680"/>
              <a:ext cx="1451880" cy="2754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56" name="Group 33"/>
          <p:cNvGrpSpPr/>
          <p:nvPr/>
        </p:nvGrpSpPr>
        <p:grpSpPr>
          <a:xfrm>
            <a:off x="558720" y="2257200"/>
            <a:ext cx="3841560" cy="459000"/>
            <a:chOff x="558720" y="2257200"/>
            <a:chExt cx="3841560" cy="459000"/>
          </a:xfrm>
        </p:grpSpPr>
        <p:sp>
          <p:nvSpPr>
            <p:cNvPr id="157" name="AutoShape 6"/>
            <p:cNvSpPr/>
            <p:nvPr/>
          </p:nvSpPr>
          <p:spPr>
            <a:xfrm>
              <a:off x="558720" y="2351160"/>
              <a:ext cx="2376720" cy="365040"/>
            </a:xfrm>
            <a:prstGeom prst="roundRect">
              <a:avLst>
                <a:gd name="adj" fmla="val 4215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Revise Agenda</a:t>
              </a:r>
              <a:endParaRPr b="0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58" name="AutoShape 18"/>
            <p:cNvCxnSpPr>
              <a:stCxn id="154" idx="2"/>
              <a:endCxn id="157" idx="3"/>
            </p:cNvCxnSpPr>
            <p:nvPr/>
          </p:nvCxnSpPr>
          <p:spPr>
            <a:xfrm rot="5400000">
              <a:off x="3536280" y="1669680"/>
              <a:ext cx="276840" cy="14518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59" name="Group 34"/>
          <p:cNvGrpSpPr/>
          <p:nvPr/>
        </p:nvGrpSpPr>
        <p:grpSpPr>
          <a:xfrm>
            <a:off x="558720" y="2730600"/>
            <a:ext cx="2376720" cy="744480"/>
            <a:chOff x="558720" y="2730600"/>
            <a:chExt cx="2376720" cy="744480"/>
          </a:xfrm>
        </p:grpSpPr>
        <p:cxnSp>
          <p:nvCxnSpPr>
            <p:cNvPr id="160" name="AutoShape 19"/>
            <p:cNvCxnSpPr>
              <a:stCxn id="157" idx="2"/>
              <a:endCxn id="161" idx="0"/>
            </p:cNvCxnSpPr>
            <p:nvPr/>
          </p:nvCxnSpPr>
          <p:spPr>
            <a:xfrm flipH="1">
              <a:off x="1747080" y="2730600"/>
              <a:ext cx="1080" cy="365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61" name="AutoShape 21"/>
            <p:cNvSpPr/>
            <p:nvPr/>
          </p:nvSpPr>
          <p:spPr>
            <a:xfrm>
              <a:off x="558720" y="3110040"/>
              <a:ext cx="2376720" cy="365040"/>
            </a:xfrm>
            <a:prstGeom prst="roundRect">
              <a:avLst>
                <a:gd name="adj" fmla="val 4215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Initiate Meeting</a:t>
              </a:r>
              <a:endParaRPr b="0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2" name="Group 37"/>
          <p:cNvGrpSpPr/>
          <p:nvPr/>
        </p:nvGrpSpPr>
        <p:grpSpPr>
          <a:xfrm>
            <a:off x="558720" y="3489120"/>
            <a:ext cx="2376720" cy="1176480"/>
            <a:chOff x="558720" y="3489120"/>
            <a:chExt cx="2376720" cy="1176480"/>
          </a:xfrm>
        </p:grpSpPr>
        <p:sp>
          <p:nvSpPr>
            <p:cNvPr id="163" name="AutoShape 14"/>
            <p:cNvSpPr/>
            <p:nvPr/>
          </p:nvSpPr>
          <p:spPr>
            <a:xfrm>
              <a:off x="558720" y="4300560"/>
              <a:ext cx="2376720" cy="365040"/>
            </a:xfrm>
            <a:prstGeom prst="roundRect">
              <a:avLst>
                <a:gd name="adj" fmla="val 4215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Facilitate Meeting</a:t>
              </a:r>
              <a:endParaRPr b="0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64" name="AutoShape 22"/>
            <p:cNvCxnSpPr>
              <a:stCxn id="161" idx="2"/>
              <a:endCxn id="163" idx="0"/>
            </p:cNvCxnSpPr>
            <p:nvPr/>
          </p:nvCxnSpPr>
          <p:spPr>
            <a:xfrm flipH="1">
              <a:off x="1747080" y="3489120"/>
              <a:ext cx="1080" cy="797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65" name="Group 38"/>
          <p:cNvGrpSpPr/>
          <p:nvPr/>
        </p:nvGrpSpPr>
        <p:grpSpPr>
          <a:xfrm>
            <a:off x="1747800" y="3489480"/>
            <a:ext cx="3838680" cy="1268280"/>
            <a:chOff x="1747800" y="3489480"/>
            <a:chExt cx="3838680" cy="1268280"/>
          </a:xfrm>
        </p:grpSpPr>
        <p:sp>
          <p:nvSpPr>
            <p:cNvPr id="166" name="AutoShape 8"/>
            <p:cNvSpPr/>
            <p:nvPr/>
          </p:nvSpPr>
          <p:spPr>
            <a:xfrm>
              <a:off x="3209760" y="4210200"/>
              <a:ext cx="2376720" cy="547560"/>
            </a:xfrm>
            <a:prstGeom prst="roundRect">
              <a:avLst>
                <a:gd name="adj" fmla="val 4215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Discuss &amp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Resolve Issues</a:t>
              </a:r>
              <a:endParaRPr b="0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67" name="AutoShape 23"/>
            <p:cNvCxnSpPr>
              <a:stCxn id="161" idx="2"/>
              <a:endCxn id="166" idx="0"/>
            </p:cNvCxnSpPr>
            <p:nvPr/>
          </p:nvCxnSpPr>
          <p:spPr>
            <a:xfrm flipH="1" rot="16200000">
              <a:off x="2720160" y="2516760"/>
              <a:ext cx="707040" cy="2651760"/>
            </a:xfrm>
            <a:prstGeom prst="curvedConnector5">
              <a:avLst>
                <a:gd name="adj1" fmla="val 49872"/>
                <a:gd name="adj2" fmla="val 49993"/>
                <a:gd name="adj3" fmla="val 49872"/>
              </a:avLst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68" name="Group 39"/>
          <p:cNvGrpSpPr/>
          <p:nvPr/>
        </p:nvGrpSpPr>
        <p:grpSpPr>
          <a:xfrm>
            <a:off x="1747800" y="3489480"/>
            <a:ext cx="6512040" cy="1177920"/>
            <a:chOff x="1747800" y="3489480"/>
            <a:chExt cx="6512040" cy="1177920"/>
          </a:xfrm>
        </p:grpSpPr>
        <p:sp>
          <p:nvSpPr>
            <p:cNvPr id="169" name="AutoShape 13"/>
            <p:cNvSpPr/>
            <p:nvPr/>
          </p:nvSpPr>
          <p:spPr>
            <a:xfrm>
              <a:off x="5883120" y="4302000"/>
              <a:ext cx="2376720" cy="365400"/>
            </a:xfrm>
            <a:prstGeom prst="roundRect">
              <a:avLst>
                <a:gd name="adj" fmla="val 4215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Record Meeting</a:t>
              </a:r>
              <a:endParaRPr b="0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70" name="AutoShape 24"/>
            <p:cNvCxnSpPr>
              <a:stCxn id="161" idx="2"/>
              <a:endCxn id="169" idx="0"/>
            </p:cNvCxnSpPr>
            <p:nvPr/>
          </p:nvCxnSpPr>
          <p:spPr>
            <a:xfrm flipH="1" rot="16200000">
              <a:off x="4010760" y="1226160"/>
              <a:ext cx="799200" cy="5325120"/>
            </a:xfrm>
            <a:prstGeom prst="curvedConnector5">
              <a:avLst>
                <a:gd name="adj1" fmla="val 38756"/>
                <a:gd name="adj2" fmla="val 49996"/>
                <a:gd name="adj3" fmla="val 38756"/>
              </a:avLst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71" name="Group 43"/>
          <p:cNvGrpSpPr/>
          <p:nvPr/>
        </p:nvGrpSpPr>
        <p:grpSpPr>
          <a:xfrm>
            <a:off x="558720" y="4679640"/>
            <a:ext cx="6513480" cy="1065600"/>
            <a:chOff x="558720" y="4679640"/>
            <a:chExt cx="6513480" cy="1065600"/>
          </a:xfrm>
        </p:grpSpPr>
        <p:grpSp>
          <p:nvGrpSpPr>
            <p:cNvPr id="172" name="Group 40"/>
            <p:cNvGrpSpPr/>
            <p:nvPr/>
          </p:nvGrpSpPr>
          <p:grpSpPr>
            <a:xfrm>
              <a:off x="558720" y="4679640"/>
              <a:ext cx="2376720" cy="1065600"/>
              <a:chOff x="558720" y="4679640"/>
              <a:chExt cx="2376720" cy="1065600"/>
            </a:xfrm>
          </p:grpSpPr>
          <p:sp>
            <p:nvSpPr>
              <p:cNvPr id="173" name="AutoShape 15"/>
              <p:cNvSpPr/>
              <p:nvPr/>
            </p:nvSpPr>
            <p:spPr>
              <a:xfrm>
                <a:off x="558720" y="5380200"/>
                <a:ext cx="2376720" cy="365040"/>
              </a:xfrm>
              <a:prstGeom prst="roundRect">
                <a:avLst>
                  <a:gd name="adj" fmla="val 42153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Close Meeting</a:t>
                </a:r>
                <a:endParaRPr b="0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cxnSp>
            <p:nvCxnSpPr>
              <p:cNvPr id="174" name="AutoShape 25"/>
              <p:cNvCxnSpPr>
                <a:stCxn id="163" idx="2"/>
                <a:endCxn id="173" idx="0"/>
              </p:cNvCxnSpPr>
              <p:nvPr/>
            </p:nvCxnSpPr>
            <p:spPr>
              <a:xfrm flipH="1">
                <a:off x="1747080" y="4679640"/>
                <a:ext cx="1080" cy="6865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lg" type="arrow" w="lg"/>
              </a:ln>
            </p:spPr>
          </p:cxnSp>
        </p:grpSp>
        <p:cxnSp>
          <p:nvCxnSpPr>
            <p:cNvPr id="175" name="AutoShape 26"/>
            <p:cNvCxnSpPr>
              <a:stCxn id="166" idx="2"/>
              <a:endCxn id="173" idx="0"/>
            </p:cNvCxnSpPr>
            <p:nvPr/>
          </p:nvCxnSpPr>
          <p:spPr>
            <a:xfrm rot="5400000">
              <a:off x="2775960" y="3743280"/>
              <a:ext cx="594360" cy="2651760"/>
            </a:xfrm>
            <a:prstGeom prst="curvedConnector5">
              <a:avLst>
                <a:gd name="adj1" fmla="val 50000"/>
                <a:gd name="adj2" fmla="val 49993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76" name="AutoShape 27"/>
            <p:cNvCxnSpPr>
              <a:stCxn id="169" idx="2"/>
              <a:endCxn id="173" idx="0"/>
            </p:cNvCxnSpPr>
            <p:nvPr/>
          </p:nvCxnSpPr>
          <p:spPr>
            <a:xfrm rot="5400000">
              <a:off x="4067280" y="2361240"/>
              <a:ext cx="685080" cy="5325120"/>
            </a:xfrm>
            <a:prstGeom prst="curvedConnector5">
              <a:avLst>
                <a:gd name="adj1" fmla="val 62828"/>
                <a:gd name="adj2" fmla="val 49996"/>
                <a:gd name="adj3" fmla="val 62828"/>
              </a:avLst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77" name="Group 42"/>
          <p:cNvGrpSpPr/>
          <p:nvPr/>
        </p:nvGrpSpPr>
        <p:grpSpPr>
          <a:xfrm>
            <a:off x="2949480" y="5562360"/>
            <a:ext cx="5310360" cy="1124280"/>
            <a:chOff x="2949480" y="5562360"/>
            <a:chExt cx="5310360" cy="1124280"/>
          </a:xfrm>
        </p:grpSpPr>
        <p:grpSp>
          <p:nvGrpSpPr>
            <p:cNvPr id="178" name="Group 41"/>
            <p:cNvGrpSpPr/>
            <p:nvPr/>
          </p:nvGrpSpPr>
          <p:grpSpPr>
            <a:xfrm>
              <a:off x="2949480" y="5562360"/>
              <a:ext cx="5310360" cy="1124280"/>
              <a:chOff x="2949480" y="5562360"/>
              <a:chExt cx="5310360" cy="1124280"/>
            </a:xfrm>
          </p:grpSpPr>
          <p:grpSp>
            <p:nvGrpSpPr>
              <p:cNvPr id="179" name="Group 30"/>
              <p:cNvGrpSpPr/>
              <p:nvPr/>
            </p:nvGrpSpPr>
            <p:grpSpPr>
              <a:xfrm>
                <a:off x="3209760" y="6138720"/>
                <a:ext cx="5050080" cy="547920"/>
                <a:chOff x="3209760" y="6138720"/>
                <a:chExt cx="5050080" cy="547920"/>
              </a:xfrm>
            </p:grpSpPr>
            <p:sp>
              <p:nvSpPr>
                <p:cNvPr id="180" name="AutoShape 12"/>
                <p:cNvSpPr/>
                <p:nvPr/>
              </p:nvSpPr>
              <p:spPr>
                <a:xfrm>
                  <a:off x="3209760" y="6138720"/>
                  <a:ext cx="2376720" cy="547920"/>
                </a:xfrm>
                <a:prstGeom prst="roundRect">
                  <a:avLst>
                    <a:gd name="adj" fmla="val 4215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Lucida Sans Typewriter"/>
                    </a:rPr>
                    <a:t>Realize</a:t>
                  </a:r>
                  <a:endParaRPr b="0" lang="en-US" sz="1600" spc="-1" strike="noStrike">
                    <a:solidFill>
                      <a:srgbClr val="ff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Lucida Sans Typewriter"/>
                    </a:rPr>
                    <a:t>Action Items</a:t>
                  </a:r>
                  <a:endParaRPr b="0" lang="en-US" sz="16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81" name="AutoShape 16"/>
                <p:cNvSpPr/>
                <p:nvPr/>
              </p:nvSpPr>
              <p:spPr>
                <a:xfrm>
                  <a:off x="5883120" y="6229440"/>
                  <a:ext cx="2376720" cy="365040"/>
                </a:xfrm>
                <a:prstGeom prst="roundRect">
                  <a:avLst>
                    <a:gd name="adj" fmla="val 4215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Lucida Sans Typewriter"/>
                    </a:rPr>
                    <a:t>Post Minutes</a:t>
                  </a:r>
                  <a:endParaRPr b="0" lang="en-US" sz="16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82" name="AutoShape 28"/>
              <p:cNvCxnSpPr>
                <a:stCxn id="173" idx="3"/>
                <a:endCxn id="180" idx="0"/>
              </p:cNvCxnSpPr>
              <p:nvPr/>
            </p:nvCxnSpPr>
            <p:spPr>
              <a:xfrm>
                <a:off x="2949480" y="5562360"/>
                <a:ext cx="1450080" cy="5626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lg" type="arrow" w="lg"/>
              </a:ln>
            </p:spPr>
          </p:cxnSp>
        </p:grpSp>
        <p:cxnSp>
          <p:nvCxnSpPr>
            <p:cNvPr id="183" name="AutoShape 29"/>
            <p:cNvCxnSpPr>
              <a:stCxn id="173" idx="3"/>
              <a:endCxn id="181" idx="0"/>
            </p:cNvCxnSpPr>
            <p:nvPr/>
          </p:nvCxnSpPr>
          <p:spPr>
            <a:xfrm>
              <a:off x="2949480" y="5562720"/>
              <a:ext cx="4123440" cy="65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cru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Prominent Spokes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n Schwaber, Mike Bidd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: Day-to-day management of a softwar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2216160" y="2739960"/>
            <a:ext cx="4987800" cy="354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15:42:47Z</dcterms:created>
  <dc:creator>Allen Dutoit</dc:creator>
  <dc:description/>
  <dc:language>en-US</dc:language>
  <cp:lastModifiedBy>Bernd Bruegge</cp:lastModifiedBy>
  <cp:lastPrinted>1998-12-08T10:27:28Z</cp:lastPrinted>
  <dcterms:modified xsi:type="dcterms:W3CDTF">2009-08-04T07:09:13Z</dcterms:modified>
  <cp:revision>302</cp:revision>
  <dc:subject/>
  <dc:title>Design Rationale: Concepts, Technique, and Use</dc:title>
</cp:coreProperties>
</file>