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  <p:sldId id="299" r:id="rId61"/>
    <p:sldId id="300" r:id="rId62"/>
    <p:sldId id="301" r:id="rId63"/>
    <p:sldId id="302" r:id="rId64"/>
    <p:sldId id="303" r:id="rId65"/>
    <p:sldId id="304" r:id="rId66"/>
    <p:sldId id="305" r:id="rId67"/>
    <p:sldId id="306" r:id="rId68"/>
    <p:sldId id="307" r:id="rId69"/>
    <p:sldId id="308" r:id="rId70"/>
    <p:sldId id="309" r:id="rId71"/>
    <p:sldId id="310" r:id="rId72"/>
    <p:sldId id="311" r:id="rId73"/>
    <p:sldId id="312" r:id="rId74"/>
    <p:sldId id="313" r:id="rId75"/>
    <p:sldId id="314" r:id="rId76"/>
    <p:sldId id="315" r:id="rId77"/>
    <p:sldId id="316" r:id="rId78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slide" Target="slides/slide44.xml"/><Relationship Id="rId62" Type="http://schemas.openxmlformats.org/officeDocument/2006/relationships/slide" Target="slides/slide45.xml"/><Relationship Id="rId63" Type="http://schemas.openxmlformats.org/officeDocument/2006/relationships/slide" Target="slides/slide46.xml"/><Relationship Id="rId64" Type="http://schemas.openxmlformats.org/officeDocument/2006/relationships/slide" Target="slides/slide47.xml"/><Relationship Id="rId65" Type="http://schemas.openxmlformats.org/officeDocument/2006/relationships/slide" Target="slides/slide48.xml"/><Relationship Id="rId66" Type="http://schemas.openxmlformats.org/officeDocument/2006/relationships/slide" Target="slides/slide49.xml"/><Relationship Id="rId67" Type="http://schemas.openxmlformats.org/officeDocument/2006/relationships/slide" Target="slides/slide50.xml"/><Relationship Id="rId68" Type="http://schemas.openxmlformats.org/officeDocument/2006/relationships/slide" Target="slides/slide51.xml"/><Relationship Id="rId69" Type="http://schemas.openxmlformats.org/officeDocument/2006/relationships/slide" Target="slides/slide52.xml"/><Relationship Id="rId70" Type="http://schemas.openxmlformats.org/officeDocument/2006/relationships/slide" Target="slides/slide53.xml"/><Relationship Id="rId71" Type="http://schemas.openxmlformats.org/officeDocument/2006/relationships/slide" Target="slides/slide54.xml"/><Relationship Id="rId72" Type="http://schemas.openxmlformats.org/officeDocument/2006/relationships/slide" Target="slides/slide55.xml"/><Relationship Id="rId73" Type="http://schemas.openxmlformats.org/officeDocument/2006/relationships/slide" Target="slides/slide56.xml"/><Relationship Id="rId74" Type="http://schemas.openxmlformats.org/officeDocument/2006/relationships/slide" Target="slides/slide57.xml"/><Relationship Id="rId75" Type="http://schemas.openxmlformats.org/officeDocument/2006/relationships/slide" Target="slides/slide58.xml"/><Relationship Id="rId76" Type="http://schemas.openxmlformats.org/officeDocument/2006/relationships/slide" Target="slides/slide59.xml"/><Relationship Id="rId77" Type="http://schemas.openxmlformats.org/officeDocument/2006/relationships/slide" Target="slides/slide60.xml"/><Relationship Id="rId78" Type="http://schemas.openxmlformats.org/officeDocument/2006/relationships/slide" Target="slides/slide61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body"/>
          </p:nvPr>
        </p:nvSpPr>
        <p:spPr>
          <a:xfrm>
            <a:off x="448920" y="3553920"/>
            <a:ext cx="5894280" cy="565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2715120" y="9372600"/>
            <a:ext cx="132192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age </a:t>
            </a:r>
            <a:fld id="{823C217B-D647-4D37-8CDB-CD994909B60E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ldImg"/>
          </p:nvPr>
        </p:nvSpPr>
        <p:spPr>
          <a:xfrm>
            <a:off x="853920" y="-132120"/>
            <a:ext cx="493560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hyperlink" Target="http://maven.apache.org/plugins/dist/index.html" TargetMode="External"/><Relationship Id="rId2" Type="http://schemas.openxmlformats.org/officeDocument/2006/relationships/slide" Target="../slides/slide25.xml"/><Relationship Id="rId3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24280" y="9371160"/>
            <a:ext cx="2925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F96A-6D0E-48A5-AED1-C4E17A0EF3D2}" type="slidenum"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90972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00000" y="4686120"/>
            <a:ext cx="4951440" cy="44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re specifically:  Ant is a platform independent tool to execute tasks such a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following slides shows an Ant build file in X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24280" y="9371160"/>
            <a:ext cx="2925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2665-EA90-46AD-A10C-B97DDEFA0A8B}" type="slidenum"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853920" y="-13176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448920" y="3553920"/>
            <a:ext cx="5894280" cy="56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24280" y="9371160"/>
            <a:ext cx="2925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90FC-4F5E-47A0-8A2D-74BCC18981DA}" type="slidenum"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853920" y="-13176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448920" y="3553920"/>
            <a:ext cx="5894280" cy="56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24280" y="9371160"/>
            <a:ext cx="2925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AE3A-6157-4045-8F9F-7F4B28391FBE}" type="slidenum"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90972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00000" y="4686120"/>
            <a:ext cx="4951440" cy="44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xx What is a root element? Not defined in UML diagram on previous slide!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 don’t understand this sentence: Ant Tasks located in ant.jar or ant classpa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24280" y="9371160"/>
            <a:ext cx="2925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81AB-00B9-4021-AD96-CF8E3D49E44D}" type="slidenum"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90972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00000" y="4686120"/>
            <a:ext cx="4951440" cy="44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 XML file consists of elements / tags that are building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 hierarchy. Each element consists of  a starting tag and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 end tag. Example: &lt;project&gt; ... &lt;/projec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ach XML element can have attributes. Example &lt;project  default=“hello”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project element has the attribute default with the value hel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 element can have nested element. This builds the hierar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first element is called roo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24280" y="9371160"/>
            <a:ext cx="2925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4376-3677-4B2B-8CC6-E675FEEB2221}" type="slidenum"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853920" y="-13176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448920" y="3553920"/>
            <a:ext cx="5894280" cy="56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24280" y="9371160"/>
            <a:ext cx="2925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2B35-BB17-44B3-AE28-B2EC8AA7743B}" type="slidenum"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853920" y="-13176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448920" y="3553920"/>
            <a:ext cx="5894280" cy="56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24280" y="9371160"/>
            <a:ext cx="2925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815E-2662-4C18-B27A-773BD1CA1DFC}" type="slidenum"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853920" y="-13176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48920" y="3553920"/>
            <a:ext cx="5894280" cy="565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tags of the POM are described in the following URL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maven.apache.org/reference/project-descriptor.html#class_Reposit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24280" y="9371160"/>
            <a:ext cx="2925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061A-7F1A-41C6-9752-78D819C14E2A}" type="slidenum"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853920" y="-13176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48920" y="3553920"/>
            <a:ext cx="5894280" cy="56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24280" y="9371160"/>
            <a:ext cx="2925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6B27-1863-4FC6-86B8-778187C49E6A}" type="slidenum"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853920" y="-13176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448920" y="3553920"/>
            <a:ext cx="5894280" cy="565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e now with a concrete example, namely ARENA, a few Maven example activities needed to set up the AREN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ject web s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24280" y="9371160"/>
            <a:ext cx="2925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2DF0-A8E2-4542-974A-7F3E1D70C093}" type="slidenum"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853920" y="-13176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448920" y="3553920"/>
            <a:ext cx="5894280" cy="56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24280" y="9371160"/>
            <a:ext cx="2925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8ECB-491B-4B79-BF26-396F1159E763}" type="slidenum"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853920" y="-13176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448920" y="3553920"/>
            <a:ext cx="5894280" cy="565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ven Project Descriptor is stored in project.x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iteAddress&gt;sysiphus.informatik.tu-muenchen.de&lt;/siteAddres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pecify the location of the web server (comput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iteDirectory&gt;/www/arena&lt;/siteDirector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es the root location for the arena web pag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24280" y="9371160"/>
            <a:ext cx="2925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7F02-D6B1-4BE2-80F8-52DA2DA59B19}" type="slidenum"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853920" y="-13176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448920" y="3553920"/>
            <a:ext cx="5894280" cy="56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24280" y="9371160"/>
            <a:ext cx="2925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6504-0632-4928-850B-B128B7F830B3}" type="slidenum"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853920" y="-13176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448920" y="3553920"/>
            <a:ext cx="5894280" cy="565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e recall: Project.xml is the file that contains an XML description of the Maven Project Descrip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-mail addresses are omitted, and Michael Nagel is also omitted from project.x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24280" y="9371160"/>
            <a:ext cx="2925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2469-F473-4598-BD78-96B41C8993FB}" type="slidenum"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853920" y="-13176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448920" y="3553920"/>
            <a:ext cx="5894280" cy="565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-mail addresses are omitted, and Michael Nagel is also omitted on previous slide project.xml, but they are available in the original project.x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24280" y="9371160"/>
            <a:ext cx="2925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063B-7F62-4371-BAD7-FEA77E32CBAE}" type="slidenum"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853920" y="-13176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448920" y="3553920"/>
            <a:ext cx="5894280" cy="565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ag repository is described i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maven.apache.org/reference/project-descriptor.html#class_Reposit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pository is used by Maven when </a:t>
            </a:r>
            <a:r>
              <a:rPr b="0" lang="en-US" sz="1000" spc="-1" strike="noStrike" u="sng">
                <a:solidFill>
                  <a:srgbClr val="fc0128"/>
                </a:solidFill>
                <a:uFillTx/>
                <a:latin typeface="Verdana"/>
                <a:hlinkClick r:id="rId1"/>
              </a:rPr>
              <a:t>building version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from specific ID.The format of this element is as follow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cm:&lt;provider&gt;:&lt;provider-parameters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r cvs, the format for pserver repositories should be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cm:cvs:pserver:user@host:/cvs/root:module-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r local networked repositories (eg. pserver to local machine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cm:cvs:lserver:user@host:/cvs/root:module-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r ssh access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cm:cvs:ext:user@host:/cvs/root:module-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member that CVS will expect an environment variable called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VS_RSH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to be set, typically to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sh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or your ssh clie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me cvs clients support other protocols, such as ntserver and extssh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ere's an example using CVS NT and ntserver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cm|cvs|ntserver|user@server|e:¥cvs|Deploy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te the use of the vertical bar as delimiter as the repository has a colon (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 in it.For local file system repositorie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cm:cvs:local:ignored:/cvs/root:module-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r StarTeam access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cm:starteam:username:password@host:port/project/view/fo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ll of this information can be had from either the StarTeam Universal Client (Tools-&gt;Server Administration-&gt;Server Properties) or from the administra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e delimiter is determined by the character after "scm". eg.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cm|cvs|pserver|user@host|/cvs/root|module-name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is equivalent to that listed above. This can be useful for Windows users who have : in their cvsroot parameter (eg. D:¥cvsroot)Where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server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is the protocol used to access CVS,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r@host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is the user name to log in to the specified cvs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ost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cvs/root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is the cvs root directory, and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odule-name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is the name of the cvs module to be work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s an example, the settings for an Apache project are usually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cm:cvs:pserver:anoncvs@cvs.apache.org:/home/cvspublic:module-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urrently CVS, Starteam and SubVersion are the only supported scm's. Others will be added as soon as possi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3824280" y="9371160"/>
            <a:ext cx="2925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838B-9FC9-4310-A0AB-F952053891BC}" type="slidenum"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853920" y="-13176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448920" y="3553920"/>
            <a:ext cx="5894280" cy="56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3824280" y="9371160"/>
            <a:ext cx="2925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0A10-C232-4B38-B2F9-5BA8D9123D6E}" type="slidenum"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853920" y="-13176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448920" y="3553920"/>
            <a:ext cx="5894280" cy="56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24280" y="9371160"/>
            <a:ext cx="2925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35C9-2FC6-4373-A772-65EF6DBF3FA3}" type="slidenum"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853920" y="-13176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448920" y="3553920"/>
            <a:ext cx="5894280" cy="565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aning  of **/*.proper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* means: Start at current directory, go recursively through subdirectories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.properties  and *.gif means:  look for all files with the extension “.properties” and with the extension “.gif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3824280" y="9371160"/>
            <a:ext cx="2925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946A-8294-4054-84FD-6FB152D1C07D}" type="slidenum"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853920" y="-13176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448920" y="3553920"/>
            <a:ext cx="5894280" cy="565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ar.gz is for GN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zip is the PC standard for compre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24280" y="9371160"/>
            <a:ext cx="2925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E48F-B633-4734-AADA-E63E423F94F4}" type="slidenum"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853920" y="-13176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48920" y="3553920"/>
            <a:ext cx="5894280" cy="566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853920" y="-13176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448920" y="3553920"/>
            <a:ext cx="5894280" cy="565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urpose of Software Configuration Management (SC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tivation: Why software configuration management? Definition: What is software configuration management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tivities and roles in software configuration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me Terminology: Configuration Item, Baseline, SCM Directory, Version, Revision Releas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ftware Configuration Management Activities: Promotion Management, Release Management, Change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utline of  a Software Configuration Management Plan: Standards (Example: IEEE 828-199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sic elements of IEEE 828-19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figuration Management To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ssociated Exerci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853920" y="-13176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448920" y="3553920"/>
            <a:ext cx="5894280" cy="565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s been detected. Not when it has occurred!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853920" y="-13176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448920" y="3553920"/>
            <a:ext cx="5894280" cy="565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s been detected. Not when it has occurred!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853920" y="-13176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448920" y="3553920"/>
            <a:ext cx="5894280" cy="565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s been detected. Not when it has occurred!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24280" y="9371160"/>
            <a:ext cx="2925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1385-D78B-4555-A462-C70F7113C08C}" type="slidenum"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853920" y="-13176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448920" y="3553920"/>
            <a:ext cx="5894280" cy="565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ightly / continuous builds from the master direct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853920" y="-13176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48920" y="3553920"/>
            <a:ext cx="5894280" cy="565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s been detected. Not when it has occurred!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853920" y="-13176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48920" y="3553920"/>
            <a:ext cx="5894280" cy="565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s been detected. Not when it has occurred!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853920" y="-13176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448920" y="3553920"/>
            <a:ext cx="5894280" cy="565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s been detected. Not when it has occurred!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24280" y="9371160"/>
            <a:ext cx="2925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DDF0-B029-48B2-A2EC-694223E8C5F3}" type="slidenum"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90972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00000" y="4686120"/>
            <a:ext cx="4951440" cy="445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824280" y="9371160"/>
            <a:ext cx="2925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D78D-05B6-4B4E-99D9-D102D41ACA10}" type="slidenum"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853920" y="-13176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48920" y="3553920"/>
            <a:ext cx="5894280" cy="566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824280" y="9371160"/>
            <a:ext cx="2925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518E-87E8-4470-A4CF-F1568AB688E8}" type="slidenum"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853920" y="-13176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448920" y="3553920"/>
            <a:ext cx="5894280" cy="566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853920" y="-13176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448920" y="3553920"/>
            <a:ext cx="5894280" cy="565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s been detected. Not when it has occurred!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24280" y="9371160"/>
            <a:ext cx="2925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F488-D5D6-402B-A756-7B4048E8D38F}" type="slidenum"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853920" y="-13176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448920" y="3553920"/>
            <a:ext cx="5894280" cy="56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3824280" y="9371160"/>
            <a:ext cx="2925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7C98-974D-4A6F-92D2-33F2B352779C}" type="slidenum"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90972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00000" y="4686120"/>
            <a:ext cx="4951440" cy="44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xx what is “default?”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default attribute specifies the target to execute if the user does not enter any target name (see next slide there we enter the target compi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hat is the difference between project name and target name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hat is a “each task”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hat is a Ant task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smallest unit of the build process. For instance copy, compile, j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is xml file specifies two targets, “compile” and “jar”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hat does the target compile do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Creates a new directory “classes”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Compiles the Asteroids source code from the src folder into the classes fo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Copies all gifs and wavs from the src to the classes direct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The .java files / the source code is excluded from copy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ach task is executed through java. The xml file is just a configu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 define which java tasks are execu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hat does the target jar do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It builds a jar (Java Archive) file with the name “Asteroids.jar” containing all files from the directory “classes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24280" y="9371160"/>
            <a:ext cx="2925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44A3-0956-46EC-B2F3-2F27BD24CA6E}" type="slidenum"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853920" y="-13176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48920" y="3553920"/>
            <a:ext cx="5894280" cy="565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 is an improvement of make. While make was tightly woven into the c-shell of the Unix operating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 provides a build environement for Java independent of the underlying plat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 is made available by the Apache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24280" y="9371160"/>
            <a:ext cx="2925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7A21-7FDD-4F9D-8536-E28F91997229}" type="slidenum"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853920" y="-13176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448920" y="3553920"/>
            <a:ext cx="5894280" cy="565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ecuting Ant target comp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24280" y="9371160"/>
            <a:ext cx="2925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1B3C-2983-4D9B-BB4F-1E82556DFE26}" type="slidenum"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853920" y="-13176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448920" y="3553920"/>
            <a:ext cx="5894280" cy="565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w we are executing the Ant target ja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te: As the jar target depends on the compile target, the compil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arget is also execu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ut, nothing has to be done in the compile target, as we already compi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verything on the slide befor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t also works on time stamps and does not do unnecessary work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24280" y="9371160"/>
            <a:ext cx="2925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79E2-8AAF-4CA5-9F66-28CDD9F70B77}" type="slidenum"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853920" y="-13176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48920" y="3553920"/>
            <a:ext cx="5894280" cy="565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 dependency rule is  a simple tree structure of prerequisite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Unix command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will read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akefil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and examine the timestamps on the files invol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t will then invoke only the commands necessary to update branches of the tree that have been modified since the last compil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line with the colon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s  called the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pendency lin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 It determines when the target  needs to be rebuil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 the left of the colon is the target of the dependency.  To the right of the colon are the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ources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eeded to make the target.  A dependency rule says the target depends on the sourc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 example, the dependency rul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ain.obj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main.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gcc  -c main.c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tes that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ain.obj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depends on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ain.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f  the timestamp of main.c is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newer than the timestamp of main.obj, then the rule states, that the gnu compiler gcc has to recompile main.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24280" y="9371160"/>
            <a:ext cx="2925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34EF-1723-42BB-9A16-E7D6982374C0}" type="slidenum"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853920" y="-13176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448920" y="3553920"/>
            <a:ext cx="5894280" cy="565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tells Make both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ho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to make a fil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s an example, suppose your project involves compiling source files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ain.c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o.c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n linking them to produce the executable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oject.ex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ithholding a detailed explanation for a bit, here is a makefil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sing Borland C which will manage the task of making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oject.ex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is makefile shows three rules, one each for making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oject.ex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ain.obj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o.obj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rules as shown above are called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plicit rule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since they are supplied explicitly in the makefil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ke also has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ference rule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that generalize the make proces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lines with the colon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 them are called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pendency line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y determine when the target is to be rebuil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 the left of the colon is the target of the dependency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 the right of the colon are the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ources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needed to make the targe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 dependency line says the target depends on the sourc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 example, the lin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oject.exe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main.obj io.obj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tes that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oject.ex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depends on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ain.obj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o.obj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run time Make compares the time that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oject.ex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was last changed to the times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ain.obj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o.obj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ere last changed. If either source is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new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than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oject.ex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Make rebuilds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oject.ex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last-changed time is the target's time as it appears in the file-system directory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is time is also known as the target's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he Make Process is recursiv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t is a basic feature of Make that a target's sources are made before the timestamp comparison occur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lin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oject.exe : main.obj io.obj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mpli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ke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ain.obj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o.obj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before comparing their timestamps with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oject.exe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 turn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ain.obj : main.c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mpl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ke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ain.c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before comparing its timestamp with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ain.obj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ou can see that if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ain.c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s newer than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ain.obj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ain.obj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will be rebuil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ain.obj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will be newer than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oject.ex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causing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oject.ex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to be rebuil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24280" y="9371160"/>
            <a:ext cx="2925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4A7A-85E2-4192-918A-A03710EC4F87}" type="slidenum"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853920" y="-13176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448920" y="3553920"/>
            <a:ext cx="5894280" cy="56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9BD9C-B3D1-4561-8F43-82526E2619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DDD9E-7140-4C40-8448-ACD67CB07DA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70F20-8554-4C37-BE8E-7656DB9D07A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2C89A-9D04-45A6-B248-B76B8764714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F43E5-1C4C-49C3-998B-FE47D95943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D69BC-DBE0-4D2D-8533-0C36463A01E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C8ACF-D2C2-453E-8B88-96CA93CCA1E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32823-A574-404C-A144-E534D030B60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C8CB4-B560-4E87-82C1-4469ABD20A8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CC392-24D9-4D84-A30B-BFE0BFAF967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D9A77-C09F-4949-A7B6-0224026D9FB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3DBEC-60C0-44A3-867D-979AA3A0978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AutoShape 4">
            <a:hlinkClick r:id="" action="ppaction://hlinkshowjump?jump=previousslide"/>
          </p:cNvPr>
          <p:cNvSpPr/>
          <p:nvPr/>
        </p:nvSpPr>
        <p:spPr>
          <a:xfrm>
            <a:off x="6595920" y="6467400"/>
            <a:ext cx="281160" cy="152640"/>
          </a:xfrm>
          <a:custGeom>
            <a:avLst/>
            <a:gdLst>
              <a:gd name="textAreaLeft" fmla="*/ 9720 w 281160"/>
              <a:gd name="textAreaRight" fmla="*/ 271440 w 28116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39744" h="21600">
                <a:moveTo>
                  <a:pt x="0" y="0"/>
                </a:moveTo>
                <a:lnTo>
                  <a:pt x="39744" y="0"/>
                </a:lnTo>
                <a:lnTo>
                  <a:pt x="39744" y="21600"/>
                </a:lnTo>
                <a:lnTo>
                  <a:pt x="0" y="21600"/>
                </a:lnTo>
                <a:close/>
              </a:path>
              <a:path fill="lightenLess" w="39744" h="21600">
                <a:moveTo>
                  <a:pt x="0" y="0"/>
                </a:moveTo>
                <a:lnTo>
                  <a:pt x="39744" y="0"/>
                </a:lnTo>
                <a:lnTo>
                  <a:pt x="38344" y="1400"/>
                </a:lnTo>
                <a:lnTo>
                  <a:pt x="1400" y="1400"/>
                </a:lnTo>
                <a:close/>
              </a:path>
              <a:path fill="darken" w="39744" h="21600">
                <a:moveTo>
                  <a:pt x="39744" y="0"/>
                </a:moveTo>
                <a:lnTo>
                  <a:pt x="39744" y="21600"/>
                </a:lnTo>
                <a:lnTo>
                  <a:pt x="38344" y="20200"/>
                </a:lnTo>
                <a:lnTo>
                  <a:pt x="38344" y="1400"/>
                </a:lnTo>
                <a:close/>
              </a:path>
              <a:path fill="darkenLess" w="39744" h="21600">
                <a:moveTo>
                  <a:pt x="39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344" y="20200"/>
                </a:lnTo>
                <a:close/>
              </a:path>
              <a:path fill="lighten" w="39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744" h="21600">
                <a:moveTo>
                  <a:pt x="12866" y="7493"/>
                </a:moveTo>
                <a:lnTo>
                  <a:pt x="16373" y="7493"/>
                </a:lnTo>
                <a:lnTo>
                  <a:pt x="16373" y="12828"/>
                </a:lnTo>
                <a:cubicBezTo>
                  <a:pt x="16373" y="13751"/>
                  <a:pt x="17174" y="14482"/>
                  <a:pt x="18210" y="14482"/>
                </a:cubicBezTo>
                <a:lnTo>
                  <a:pt x="19872" y="14482"/>
                </a:lnTo>
                <a:cubicBezTo>
                  <a:pt x="20908" y="14482"/>
                  <a:pt x="21708" y="13751"/>
                  <a:pt x="21708" y="12828"/>
                </a:cubicBezTo>
                <a:lnTo>
                  <a:pt x="21708" y="7493"/>
                </a:lnTo>
                <a:lnTo>
                  <a:pt x="19872" y="7493"/>
                </a:lnTo>
                <a:lnTo>
                  <a:pt x="23380" y="3985"/>
                </a:lnTo>
                <a:lnTo>
                  <a:pt x="27053" y="7493"/>
                </a:lnTo>
                <a:lnTo>
                  <a:pt x="25216" y="7493"/>
                </a:lnTo>
                <a:lnTo>
                  <a:pt x="25216" y="12828"/>
                </a:lnTo>
                <a:cubicBezTo>
                  <a:pt x="25216" y="15596"/>
                  <a:pt x="22640" y="18155"/>
                  <a:pt x="19872" y="18155"/>
                </a:cubicBezTo>
                <a:lnTo>
                  <a:pt x="18210" y="18155"/>
                </a:lnTo>
                <a:cubicBezTo>
                  <a:pt x="15442" y="18155"/>
                  <a:pt x="12866" y="15596"/>
                  <a:pt x="12866" y="12828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F18C-CC3C-47C2-A141-A9CF06C982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AutoShape 4">
            <a:hlinkClick r:id="" action="ppaction://hlinkshowjump?jump=previousslide"/>
          </p:cNvPr>
          <p:cNvSpPr/>
          <p:nvPr/>
        </p:nvSpPr>
        <p:spPr>
          <a:xfrm>
            <a:off x="6595920" y="6467400"/>
            <a:ext cx="281160" cy="152640"/>
          </a:xfrm>
          <a:custGeom>
            <a:avLst/>
            <a:gdLst>
              <a:gd name="textAreaLeft" fmla="*/ 9720 w 281160"/>
              <a:gd name="textAreaRight" fmla="*/ 271440 w 28116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39744" h="21600">
                <a:moveTo>
                  <a:pt x="0" y="0"/>
                </a:moveTo>
                <a:lnTo>
                  <a:pt x="39744" y="0"/>
                </a:lnTo>
                <a:lnTo>
                  <a:pt x="39744" y="21600"/>
                </a:lnTo>
                <a:lnTo>
                  <a:pt x="0" y="21600"/>
                </a:lnTo>
                <a:close/>
              </a:path>
              <a:path fill="lightenLess" w="39744" h="21600">
                <a:moveTo>
                  <a:pt x="0" y="0"/>
                </a:moveTo>
                <a:lnTo>
                  <a:pt x="39744" y="0"/>
                </a:lnTo>
                <a:lnTo>
                  <a:pt x="38344" y="1400"/>
                </a:lnTo>
                <a:lnTo>
                  <a:pt x="1400" y="1400"/>
                </a:lnTo>
                <a:close/>
              </a:path>
              <a:path fill="darken" w="39744" h="21600">
                <a:moveTo>
                  <a:pt x="39744" y="0"/>
                </a:moveTo>
                <a:lnTo>
                  <a:pt x="39744" y="21600"/>
                </a:lnTo>
                <a:lnTo>
                  <a:pt x="38344" y="20200"/>
                </a:lnTo>
                <a:lnTo>
                  <a:pt x="38344" y="1400"/>
                </a:lnTo>
                <a:close/>
              </a:path>
              <a:path fill="darkenLess" w="39744" h="21600">
                <a:moveTo>
                  <a:pt x="39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344" y="20200"/>
                </a:lnTo>
                <a:close/>
              </a:path>
              <a:path fill="lighten" w="39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744" h="21600">
                <a:moveTo>
                  <a:pt x="12866" y="7493"/>
                </a:moveTo>
                <a:lnTo>
                  <a:pt x="16373" y="7493"/>
                </a:lnTo>
                <a:lnTo>
                  <a:pt x="16373" y="12828"/>
                </a:lnTo>
                <a:cubicBezTo>
                  <a:pt x="16373" y="13751"/>
                  <a:pt x="17174" y="14482"/>
                  <a:pt x="18210" y="14482"/>
                </a:cubicBezTo>
                <a:lnTo>
                  <a:pt x="19872" y="14482"/>
                </a:lnTo>
                <a:cubicBezTo>
                  <a:pt x="20908" y="14482"/>
                  <a:pt x="21708" y="13751"/>
                  <a:pt x="21708" y="12828"/>
                </a:cubicBezTo>
                <a:lnTo>
                  <a:pt x="21708" y="7493"/>
                </a:lnTo>
                <a:lnTo>
                  <a:pt x="19872" y="7493"/>
                </a:lnTo>
                <a:lnTo>
                  <a:pt x="23380" y="3985"/>
                </a:lnTo>
                <a:lnTo>
                  <a:pt x="27053" y="7493"/>
                </a:lnTo>
                <a:lnTo>
                  <a:pt x="25216" y="7493"/>
                </a:lnTo>
                <a:lnTo>
                  <a:pt x="25216" y="12828"/>
                </a:lnTo>
                <a:cubicBezTo>
                  <a:pt x="25216" y="15596"/>
                  <a:pt x="22640" y="18155"/>
                  <a:pt x="19872" y="18155"/>
                </a:cubicBezTo>
                <a:lnTo>
                  <a:pt x="18210" y="18155"/>
                </a:lnTo>
                <a:cubicBezTo>
                  <a:pt x="15442" y="18155"/>
                  <a:pt x="12866" y="15596"/>
                  <a:pt x="12866" y="12828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AutoShape 4">
            <a:hlinkClick r:id="" action="ppaction://hlinkshowjump?jump=previousslide"/>
          </p:cNvPr>
          <p:cNvSpPr/>
          <p:nvPr/>
        </p:nvSpPr>
        <p:spPr>
          <a:xfrm>
            <a:off x="6595920" y="6467400"/>
            <a:ext cx="281160" cy="152640"/>
          </a:xfrm>
          <a:custGeom>
            <a:avLst/>
            <a:gdLst>
              <a:gd name="textAreaLeft" fmla="*/ 9720 w 281160"/>
              <a:gd name="textAreaRight" fmla="*/ 271440 w 28116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39744" h="21600">
                <a:moveTo>
                  <a:pt x="0" y="0"/>
                </a:moveTo>
                <a:lnTo>
                  <a:pt x="39744" y="0"/>
                </a:lnTo>
                <a:lnTo>
                  <a:pt x="39744" y="21600"/>
                </a:lnTo>
                <a:lnTo>
                  <a:pt x="0" y="21600"/>
                </a:lnTo>
                <a:close/>
              </a:path>
              <a:path fill="lightenLess" w="39744" h="21600">
                <a:moveTo>
                  <a:pt x="0" y="0"/>
                </a:moveTo>
                <a:lnTo>
                  <a:pt x="39744" y="0"/>
                </a:lnTo>
                <a:lnTo>
                  <a:pt x="38344" y="1400"/>
                </a:lnTo>
                <a:lnTo>
                  <a:pt x="1400" y="1400"/>
                </a:lnTo>
                <a:close/>
              </a:path>
              <a:path fill="darken" w="39744" h="21600">
                <a:moveTo>
                  <a:pt x="39744" y="0"/>
                </a:moveTo>
                <a:lnTo>
                  <a:pt x="39744" y="21600"/>
                </a:lnTo>
                <a:lnTo>
                  <a:pt x="38344" y="20200"/>
                </a:lnTo>
                <a:lnTo>
                  <a:pt x="38344" y="1400"/>
                </a:lnTo>
                <a:close/>
              </a:path>
              <a:path fill="darkenLess" w="39744" h="21600">
                <a:moveTo>
                  <a:pt x="39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344" y="20200"/>
                </a:lnTo>
                <a:close/>
              </a:path>
              <a:path fill="lighten" w="39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744" h="21600">
                <a:moveTo>
                  <a:pt x="12866" y="7493"/>
                </a:moveTo>
                <a:lnTo>
                  <a:pt x="16373" y="7493"/>
                </a:lnTo>
                <a:lnTo>
                  <a:pt x="16373" y="12828"/>
                </a:lnTo>
                <a:cubicBezTo>
                  <a:pt x="16373" y="13751"/>
                  <a:pt x="17174" y="14482"/>
                  <a:pt x="18210" y="14482"/>
                </a:cubicBezTo>
                <a:lnTo>
                  <a:pt x="19872" y="14482"/>
                </a:lnTo>
                <a:cubicBezTo>
                  <a:pt x="20908" y="14482"/>
                  <a:pt x="21708" y="13751"/>
                  <a:pt x="21708" y="12828"/>
                </a:cubicBezTo>
                <a:lnTo>
                  <a:pt x="21708" y="7493"/>
                </a:lnTo>
                <a:lnTo>
                  <a:pt x="19872" y="7493"/>
                </a:lnTo>
                <a:lnTo>
                  <a:pt x="23380" y="3985"/>
                </a:lnTo>
                <a:lnTo>
                  <a:pt x="27053" y="7493"/>
                </a:lnTo>
                <a:lnTo>
                  <a:pt x="25216" y="7493"/>
                </a:lnTo>
                <a:lnTo>
                  <a:pt x="25216" y="12828"/>
                </a:lnTo>
                <a:cubicBezTo>
                  <a:pt x="25216" y="15596"/>
                  <a:pt x="22640" y="18155"/>
                  <a:pt x="19872" y="18155"/>
                </a:cubicBezTo>
                <a:lnTo>
                  <a:pt x="18210" y="18155"/>
                </a:lnTo>
                <a:cubicBezTo>
                  <a:pt x="15442" y="18155"/>
                  <a:pt x="12866" y="15596"/>
                  <a:pt x="12866" y="12828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AutoShape 4">
            <a:hlinkClick r:id="" action="ppaction://hlinkshowjump?jump=previousslide"/>
          </p:cNvPr>
          <p:cNvSpPr/>
          <p:nvPr/>
        </p:nvSpPr>
        <p:spPr>
          <a:xfrm>
            <a:off x="6595920" y="6467400"/>
            <a:ext cx="281160" cy="152640"/>
          </a:xfrm>
          <a:custGeom>
            <a:avLst/>
            <a:gdLst>
              <a:gd name="textAreaLeft" fmla="*/ 9720 w 281160"/>
              <a:gd name="textAreaRight" fmla="*/ 271440 w 28116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39744" h="21600">
                <a:moveTo>
                  <a:pt x="0" y="0"/>
                </a:moveTo>
                <a:lnTo>
                  <a:pt x="39744" y="0"/>
                </a:lnTo>
                <a:lnTo>
                  <a:pt x="39744" y="21600"/>
                </a:lnTo>
                <a:lnTo>
                  <a:pt x="0" y="21600"/>
                </a:lnTo>
                <a:close/>
              </a:path>
              <a:path fill="lightenLess" w="39744" h="21600">
                <a:moveTo>
                  <a:pt x="0" y="0"/>
                </a:moveTo>
                <a:lnTo>
                  <a:pt x="39744" y="0"/>
                </a:lnTo>
                <a:lnTo>
                  <a:pt x="38344" y="1400"/>
                </a:lnTo>
                <a:lnTo>
                  <a:pt x="1400" y="1400"/>
                </a:lnTo>
                <a:close/>
              </a:path>
              <a:path fill="darken" w="39744" h="21600">
                <a:moveTo>
                  <a:pt x="39744" y="0"/>
                </a:moveTo>
                <a:lnTo>
                  <a:pt x="39744" y="21600"/>
                </a:lnTo>
                <a:lnTo>
                  <a:pt x="38344" y="20200"/>
                </a:lnTo>
                <a:lnTo>
                  <a:pt x="38344" y="1400"/>
                </a:lnTo>
                <a:close/>
              </a:path>
              <a:path fill="darkenLess" w="39744" h="21600">
                <a:moveTo>
                  <a:pt x="39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344" y="20200"/>
                </a:lnTo>
                <a:close/>
              </a:path>
              <a:path fill="lighten" w="39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744" h="21600">
                <a:moveTo>
                  <a:pt x="12866" y="7493"/>
                </a:moveTo>
                <a:lnTo>
                  <a:pt x="16373" y="7493"/>
                </a:lnTo>
                <a:lnTo>
                  <a:pt x="16373" y="12828"/>
                </a:lnTo>
                <a:cubicBezTo>
                  <a:pt x="16373" y="13751"/>
                  <a:pt x="17174" y="14482"/>
                  <a:pt x="18210" y="14482"/>
                </a:cubicBezTo>
                <a:lnTo>
                  <a:pt x="19872" y="14482"/>
                </a:lnTo>
                <a:cubicBezTo>
                  <a:pt x="20908" y="14482"/>
                  <a:pt x="21708" y="13751"/>
                  <a:pt x="21708" y="12828"/>
                </a:cubicBezTo>
                <a:lnTo>
                  <a:pt x="21708" y="7493"/>
                </a:lnTo>
                <a:lnTo>
                  <a:pt x="19872" y="7493"/>
                </a:lnTo>
                <a:lnTo>
                  <a:pt x="23380" y="3985"/>
                </a:lnTo>
                <a:lnTo>
                  <a:pt x="27053" y="7493"/>
                </a:lnTo>
                <a:lnTo>
                  <a:pt x="25216" y="7493"/>
                </a:lnTo>
                <a:lnTo>
                  <a:pt x="25216" y="12828"/>
                </a:lnTo>
                <a:cubicBezTo>
                  <a:pt x="25216" y="15596"/>
                  <a:pt x="22640" y="18155"/>
                  <a:pt x="19872" y="18155"/>
                </a:cubicBezTo>
                <a:lnTo>
                  <a:pt x="18210" y="18155"/>
                </a:lnTo>
                <a:cubicBezTo>
                  <a:pt x="15442" y="18155"/>
                  <a:pt x="12866" y="15596"/>
                  <a:pt x="12866" y="12828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AutoShape 4">
            <a:hlinkClick r:id="" action="ppaction://hlinkshowjump?jump=previousslide"/>
          </p:cNvPr>
          <p:cNvSpPr/>
          <p:nvPr/>
        </p:nvSpPr>
        <p:spPr>
          <a:xfrm>
            <a:off x="6595920" y="6467400"/>
            <a:ext cx="281160" cy="152640"/>
          </a:xfrm>
          <a:custGeom>
            <a:avLst/>
            <a:gdLst>
              <a:gd name="textAreaLeft" fmla="*/ 9720 w 281160"/>
              <a:gd name="textAreaRight" fmla="*/ 271440 w 28116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39744" h="21600">
                <a:moveTo>
                  <a:pt x="0" y="0"/>
                </a:moveTo>
                <a:lnTo>
                  <a:pt x="39744" y="0"/>
                </a:lnTo>
                <a:lnTo>
                  <a:pt x="39744" y="21600"/>
                </a:lnTo>
                <a:lnTo>
                  <a:pt x="0" y="21600"/>
                </a:lnTo>
                <a:close/>
              </a:path>
              <a:path fill="lightenLess" w="39744" h="21600">
                <a:moveTo>
                  <a:pt x="0" y="0"/>
                </a:moveTo>
                <a:lnTo>
                  <a:pt x="39744" y="0"/>
                </a:lnTo>
                <a:lnTo>
                  <a:pt x="38344" y="1400"/>
                </a:lnTo>
                <a:lnTo>
                  <a:pt x="1400" y="1400"/>
                </a:lnTo>
                <a:close/>
              </a:path>
              <a:path fill="darken" w="39744" h="21600">
                <a:moveTo>
                  <a:pt x="39744" y="0"/>
                </a:moveTo>
                <a:lnTo>
                  <a:pt x="39744" y="21600"/>
                </a:lnTo>
                <a:lnTo>
                  <a:pt x="38344" y="20200"/>
                </a:lnTo>
                <a:lnTo>
                  <a:pt x="38344" y="1400"/>
                </a:lnTo>
                <a:close/>
              </a:path>
              <a:path fill="darkenLess" w="39744" h="21600">
                <a:moveTo>
                  <a:pt x="39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344" y="20200"/>
                </a:lnTo>
                <a:close/>
              </a:path>
              <a:path fill="lighten" w="39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744" h="21600">
                <a:moveTo>
                  <a:pt x="12866" y="7493"/>
                </a:moveTo>
                <a:lnTo>
                  <a:pt x="16373" y="7493"/>
                </a:lnTo>
                <a:lnTo>
                  <a:pt x="16373" y="12828"/>
                </a:lnTo>
                <a:cubicBezTo>
                  <a:pt x="16373" y="13751"/>
                  <a:pt x="17174" y="14482"/>
                  <a:pt x="18210" y="14482"/>
                </a:cubicBezTo>
                <a:lnTo>
                  <a:pt x="19872" y="14482"/>
                </a:lnTo>
                <a:cubicBezTo>
                  <a:pt x="20908" y="14482"/>
                  <a:pt x="21708" y="13751"/>
                  <a:pt x="21708" y="12828"/>
                </a:cubicBezTo>
                <a:lnTo>
                  <a:pt x="21708" y="7493"/>
                </a:lnTo>
                <a:lnTo>
                  <a:pt x="19872" y="7493"/>
                </a:lnTo>
                <a:lnTo>
                  <a:pt x="23380" y="3985"/>
                </a:lnTo>
                <a:lnTo>
                  <a:pt x="27053" y="7493"/>
                </a:lnTo>
                <a:lnTo>
                  <a:pt x="25216" y="7493"/>
                </a:lnTo>
                <a:lnTo>
                  <a:pt x="25216" y="12828"/>
                </a:lnTo>
                <a:cubicBezTo>
                  <a:pt x="25216" y="15596"/>
                  <a:pt x="22640" y="18155"/>
                  <a:pt x="19872" y="18155"/>
                </a:cubicBezTo>
                <a:lnTo>
                  <a:pt x="18210" y="18155"/>
                </a:lnTo>
                <a:cubicBezTo>
                  <a:pt x="15442" y="18155"/>
                  <a:pt x="12866" y="15596"/>
                  <a:pt x="12866" y="12828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AutoShape 4">
            <a:hlinkClick r:id="" action="ppaction://hlinkshowjump?jump=previousslide"/>
          </p:cNvPr>
          <p:cNvSpPr/>
          <p:nvPr/>
        </p:nvSpPr>
        <p:spPr>
          <a:xfrm>
            <a:off x="6595920" y="6467400"/>
            <a:ext cx="281160" cy="152640"/>
          </a:xfrm>
          <a:custGeom>
            <a:avLst/>
            <a:gdLst>
              <a:gd name="textAreaLeft" fmla="*/ 9720 w 281160"/>
              <a:gd name="textAreaRight" fmla="*/ 271440 w 28116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39744" h="21600">
                <a:moveTo>
                  <a:pt x="0" y="0"/>
                </a:moveTo>
                <a:lnTo>
                  <a:pt x="39744" y="0"/>
                </a:lnTo>
                <a:lnTo>
                  <a:pt x="39744" y="21600"/>
                </a:lnTo>
                <a:lnTo>
                  <a:pt x="0" y="21600"/>
                </a:lnTo>
                <a:close/>
              </a:path>
              <a:path fill="lightenLess" w="39744" h="21600">
                <a:moveTo>
                  <a:pt x="0" y="0"/>
                </a:moveTo>
                <a:lnTo>
                  <a:pt x="39744" y="0"/>
                </a:lnTo>
                <a:lnTo>
                  <a:pt x="38344" y="1400"/>
                </a:lnTo>
                <a:lnTo>
                  <a:pt x="1400" y="1400"/>
                </a:lnTo>
                <a:close/>
              </a:path>
              <a:path fill="darken" w="39744" h="21600">
                <a:moveTo>
                  <a:pt x="39744" y="0"/>
                </a:moveTo>
                <a:lnTo>
                  <a:pt x="39744" y="21600"/>
                </a:lnTo>
                <a:lnTo>
                  <a:pt x="38344" y="20200"/>
                </a:lnTo>
                <a:lnTo>
                  <a:pt x="38344" y="1400"/>
                </a:lnTo>
                <a:close/>
              </a:path>
              <a:path fill="darkenLess" w="39744" h="21600">
                <a:moveTo>
                  <a:pt x="39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344" y="20200"/>
                </a:lnTo>
                <a:close/>
              </a:path>
              <a:path fill="lighten" w="39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744" h="21600">
                <a:moveTo>
                  <a:pt x="12866" y="7493"/>
                </a:moveTo>
                <a:lnTo>
                  <a:pt x="16373" y="7493"/>
                </a:lnTo>
                <a:lnTo>
                  <a:pt x="16373" y="12828"/>
                </a:lnTo>
                <a:cubicBezTo>
                  <a:pt x="16373" y="13751"/>
                  <a:pt x="17174" y="14482"/>
                  <a:pt x="18210" y="14482"/>
                </a:cubicBezTo>
                <a:lnTo>
                  <a:pt x="19872" y="14482"/>
                </a:lnTo>
                <a:cubicBezTo>
                  <a:pt x="20908" y="14482"/>
                  <a:pt x="21708" y="13751"/>
                  <a:pt x="21708" y="12828"/>
                </a:cubicBezTo>
                <a:lnTo>
                  <a:pt x="21708" y="7493"/>
                </a:lnTo>
                <a:lnTo>
                  <a:pt x="19872" y="7493"/>
                </a:lnTo>
                <a:lnTo>
                  <a:pt x="23380" y="3985"/>
                </a:lnTo>
                <a:lnTo>
                  <a:pt x="27053" y="7493"/>
                </a:lnTo>
                <a:lnTo>
                  <a:pt x="25216" y="7493"/>
                </a:lnTo>
                <a:lnTo>
                  <a:pt x="25216" y="12828"/>
                </a:lnTo>
                <a:cubicBezTo>
                  <a:pt x="25216" y="15596"/>
                  <a:pt x="22640" y="18155"/>
                  <a:pt x="19872" y="18155"/>
                </a:cubicBezTo>
                <a:lnTo>
                  <a:pt x="18210" y="18155"/>
                </a:lnTo>
                <a:cubicBezTo>
                  <a:pt x="15442" y="18155"/>
                  <a:pt x="12866" y="15596"/>
                  <a:pt x="12866" y="12828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4"/>
          <p:cNvSpPr/>
          <p:nvPr/>
        </p:nvSpPr>
        <p:spPr>
          <a:xfrm rot="16200000">
            <a:off x="-2289600" y="2955240"/>
            <a:ext cx="6416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UML, Patterns, and Java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9" name="Text Box 5"/>
          <p:cNvSpPr/>
          <p:nvPr/>
        </p:nvSpPr>
        <p:spPr>
          <a:xfrm rot="16200000">
            <a:off x="-2661120" y="3173760"/>
            <a:ext cx="640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-Oriented Software Engineering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>
            <a:hlinkClick r:id="" action="ppaction://hlinkshowjump?jump=previousslide"/>
          </p:cNvPr>
          <p:cNvSpPr/>
          <p:nvPr/>
        </p:nvSpPr>
        <p:spPr>
          <a:xfrm>
            <a:off x="6595920" y="6467400"/>
            <a:ext cx="281160" cy="152640"/>
          </a:xfrm>
          <a:custGeom>
            <a:avLst/>
            <a:gdLst>
              <a:gd name="textAreaLeft" fmla="*/ 9720 w 281160"/>
              <a:gd name="textAreaRight" fmla="*/ 271440 w 28116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39744" h="21600">
                <a:moveTo>
                  <a:pt x="0" y="0"/>
                </a:moveTo>
                <a:lnTo>
                  <a:pt x="39744" y="0"/>
                </a:lnTo>
                <a:lnTo>
                  <a:pt x="39744" y="21600"/>
                </a:lnTo>
                <a:lnTo>
                  <a:pt x="0" y="21600"/>
                </a:lnTo>
                <a:close/>
              </a:path>
              <a:path fill="lightenLess" w="39744" h="21600">
                <a:moveTo>
                  <a:pt x="0" y="0"/>
                </a:moveTo>
                <a:lnTo>
                  <a:pt x="39744" y="0"/>
                </a:lnTo>
                <a:lnTo>
                  <a:pt x="38344" y="1400"/>
                </a:lnTo>
                <a:lnTo>
                  <a:pt x="1400" y="1400"/>
                </a:lnTo>
                <a:close/>
              </a:path>
              <a:path fill="darken" w="39744" h="21600">
                <a:moveTo>
                  <a:pt x="39744" y="0"/>
                </a:moveTo>
                <a:lnTo>
                  <a:pt x="39744" y="21600"/>
                </a:lnTo>
                <a:lnTo>
                  <a:pt x="38344" y="20200"/>
                </a:lnTo>
                <a:lnTo>
                  <a:pt x="38344" y="1400"/>
                </a:lnTo>
                <a:close/>
              </a:path>
              <a:path fill="darkenLess" w="39744" h="21600">
                <a:moveTo>
                  <a:pt x="39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344" y="20200"/>
                </a:lnTo>
                <a:close/>
              </a:path>
              <a:path fill="lighten" w="39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744" h="21600">
                <a:moveTo>
                  <a:pt x="12866" y="7493"/>
                </a:moveTo>
                <a:lnTo>
                  <a:pt x="16373" y="7493"/>
                </a:lnTo>
                <a:lnTo>
                  <a:pt x="16373" y="12828"/>
                </a:lnTo>
                <a:cubicBezTo>
                  <a:pt x="16373" y="13751"/>
                  <a:pt x="17174" y="14482"/>
                  <a:pt x="18210" y="14482"/>
                </a:cubicBezTo>
                <a:lnTo>
                  <a:pt x="19872" y="14482"/>
                </a:lnTo>
                <a:cubicBezTo>
                  <a:pt x="20908" y="14482"/>
                  <a:pt x="21708" y="13751"/>
                  <a:pt x="21708" y="12828"/>
                </a:cubicBezTo>
                <a:lnTo>
                  <a:pt x="21708" y="7493"/>
                </a:lnTo>
                <a:lnTo>
                  <a:pt x="19872" y="7493"/>
                </a:lnTo>
                <a:lnTo>
                  <a:pt x="23380" y="3985"/>
                </a:lnTo>
                <a:lnTo>
                  <a:pt x="27053" y="7493"/>
                </a:lnTo>
                <a:lnTo>
                  <a:pt x="25216" y="7493"/>
                </a:lnTo>
                <a:lnTo>
                  <a:pt x="25216" y="12828"/>
                </a:lnTo>
                <a:cubicBezTo>
                  <a:pt x="25216" y="15596"/>
                  <a:pt x="22640" y="18155"/>
                  <a:pt x="19872" y="18155"/>
                </a:cubicBezTo>
                <a:lnTo>
                  <a:pt x="18210" y="18155"/>
                </a:lnTo>
                <a:cubicBezTo>
                  <a:pt x="15442" y="18155"/>
                  <a:pt x="12866" y="15596"/>
                  <a:pt x="12866" y="12828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4">
            <a:hlinkClick r:id="" action="ppaction://hlinkshowjump?jump=previousslide"/>
          </p:cNvPr>
          <p:cNvSpPr/>
          <p:nvPr/>
        </p:nvSpPr>
        <p:spPr>
          <a:xfrm>
            <a:off x="6595920" y="6467400"/>
            <a:ext cx="281160" cy="152640"/>
          </a:xfrm>
          <a:custGeom>
            <a:avLst/>
            <a:gdLst>
              <a:gd name="textAreaLeft" fmla="*/ 9720 w 281160"/>
              <a:gd name="textAreaRight" fmla="*/ 271440 w 28116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39744" h="21600">
                <a:moveTo>
                  <a:pt x="0" y="0"/>
                </a:moveTo>
                <a:lnTo>
                  <a:pt x="39744" y="0"/>
                </a:lnTo>
                <a:lnTo>
                  <a:pt x="39744" y="21600"/>
                </a:lnTo>
                <a:lnTo>
                  <a:pt x="0" y="21600"/>
                </a:lnTo>
                <a:close/>
              </a:path>
              <a:path fill="lightenLess" w="39744" h="21600">
                <a:moveTo>
                  <a:pt x="0" y="0"/>
                </a:moveTo>
                <a:lnTo>
                  <a:pt x="39744" y="0"/>
                </a:lnTo>
                <a:lnTo>
                  <a:pt x="38344" y="1400"/>
                </a:lnTo>
                <a:lnTo>
                  <a:pt x="1400" y="1400"/>
                </a:lnTo>
                <a:close/>
              </a:path>
              <a:path fill="darken" w="39744" h="21600">
                <a:moveTo>
                  <a:pt x="39744" y="0"/>
                </a:moveTo>
                <a:lnTo>
                  <a:pt x="39744" y="21600"/>
                </a:lnTo>
                <a:lnTo>
                  <a:pt x="38344" y="20200"/>
                </a:lnTo>
                <a:lnTo>
                  <a:pt x="38344" y="1400"/>
                </a:lnTo>
                <a:close/>
              </a:path>
              <a:path fill="darkenLess" w="39744" h="21600">
                <a:moveTo>
                  <a:pt x="39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344" y="20200"/>
                </a:lnTo>
                <a:close/>
              </a:path>
              <a:path fill="lighten" w="39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744" h="21600">
                <a:moveTo>
                  <a:pt x="12866" y="7493"/>
                </a:moveTo>
                <a:lnTo>
                  <a:pt x="16373" y="7493"/>
                </a:lnTo>
                <a:lnTo>
                  <a:pt x="16373" y="12828"/>
                </a:lnTo>
                <a:cubicBezTo>
                  <a:pt x="16373" y="13751"/>
                  <a:pt x="17174" y="14482"/>
                  <a:pt x="18210" y="14482"/>
                </a:cubicBezTo>
                <a:lnTo>
                  <a:pt x="19872" y="14482"/>
                </a:lnTo>
                <a:cubicBezTo>
                  <a:pt x="20908" y="14482"/>
                  <a:pt x="21708" y="13751"/>
                  <a:pt x="21708" y="12828"/>
                </a:cubicBezTo>
                <a:lnTo>
                  <a:pt x="21708" y="7493"/>
                </a:lnTo>
                <a:lnTo>
                  <a:pt x="19872" y="7493"/>
                </a:lnTo>
                <a:lnTo>
                  <a:pt x="23380" y="3985"/>
                </a:lnTo>
                <a:lnTo>
                  <a:pt x="27053" y="7493"/>
                </a:lnTo>
                <a:lnTo>
                  <a:pt x="25216" y="7493"/>
                </a:lnTo>
                <a:lnTo>
                  <a:pt x="25216" y="12828"/>
                </a:lnTo>
                <a:cubicBezTo>
                  <a:pt x="25216" y="15596"/>
                  <a:pt x="22640" y="18155"/>
                  <a:pt x="19872" y="18155"/>
                </a:cubicBezTo>
                <a:lnTo>
                  <a:pt x="18210" y="18155"/>
                </a:lnTo>
                <a:cubicBezTo>
                  <a:pt x="15442" y="18155"/>
                  <a:pt x="12866" y="15596"/>
                  <a:pt x="12866" y="12828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4">
            <a:hlinkClick r:id="" action="ppaction://hlinkshowjump?jump=previousslide"/>
          </p:cNvPr>
          <p:cNvSpPr/>
          <p:nvPr/>
        </p:nvSpPr>
        <p:spPr>
          <a:xfrm>
            <a:off x="6595920" y="6467400"/>
            <a:ext cx="281160" cy="152640"/>
          </a:xfrm>
          <a:custGeom>
            <a:avLst/>
            <a:gdLst>
              <a:gd name="textAreaLeft" fmla="*/ 9720 w 281160"/>
              <a:gd name="textAreaRight" fmla="*/ 271440 w 28116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39744" h="21600">
                <a:moveTo>
                  <a:pt x="0" y="0"/>
                </a:moveTo>
                <a:lnTo>
                  <a:pt x="39744" y="0"/>
                </a:lnTo>
                <a:lnTo>
                  <a:pt x="39744" y="21600"/>
                </a:lnTo>
                <a:lnTo>
                  <a:pt x="0" y="21600"/>
                </a:lnTo>
                <a:close/>
              </a:path>
              <a:path fill="lightenLess" w="39744" h="21600">
                <a:moveTo>
                  <a:pt x="0" y="0"/>
                </a:moveTo>
                <a:lnTo>
                  <a:pt x="39744" y="0"/>
                </a:lnTo>
                <a:lnTo>
                  <a:pt x="38344" y="1400"/>
                </a:lnTo>
                <a:lnTo>
                  <a:pt x="1400" y="1400"/>
                </a:lnTo>
                <a:close/>
              </a:path>
              <a:path fill="darken" w="39744" h="21600">
                <a:moveTo>
                  <a:pt x="39744" y="0"/>
                </a:moveTo>
                <a:lnTo>
                  <a:pt x="39744" y="21600"/>
                </a:lnTo>
                <a:lnTo>
                  <a:pt x="38344" y="20200"/>
                </a:lnTo>
                <a:lnTo>
                  <a:pt x="38344" y="1400"/>
                </a:lnTo>
                <a:close/>
              </a:path>
              <a:path fill="darkenLess" w="39744" h="21600">
                <a:moveTo>
                  <a:pt x="39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344" y="20200"/>
                </a:lnTo>
                <a:close/>
              </a:path>
              <a:path fill="lighten" w="39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744" h="21600">
                <a:moveTo>
                  <a:pt x="12866" y="7493"/>
                </a:moveTo>
                <a:lnTo>
                  <a:pt x="16373" y="7493"/>
                </a:lnTo>
                <a:lnTo>
                  <a:pt x="16373" y="12828"/>
                </a:lnTo>
                <a:cubicBezTo>
                  <a:pt x="16373" y="13751"/>
                  <a:pt x="17174" y="14482"/>
                  <a:pt x="18210" y="14482"/>
                </a:cubicBezTo>
                <a:lnTo>
                  <a:pt x="19872" y="14482"/>
                </a:lnTo>
                <a:cubicBezTo>
                  <a:pt x="20908" y="14482"/>
                  <a:pt x="21708" y="13751"/>
                  <a:pt x="21708" y="12828"/>
                </a:cubicBezTo>
                <a:lnTo>
                  <a:pt x="21708" y="7493"/>
                </a:lnTo>
                <a:lnTo>
                  <a:pt x="19872" y="7493"/>
                </a:lnTo>
                <a:lnTo>
                  <a:pt x="23380" y="3985"/>
                </a:lnTo>
                <a:lnTo>
                  <a:pt x="27053" y="7493"/>
                </a:lnTo>
                <a:lnTo>
                  <a:pt x="25216" y="7493"/>
                </a:lnTo>
                <a:lnTo>
                  <a:pt x="25216" y="12828"/>
                </a:lnTo>
                <a:cubicBezTo>
                  <a:pt x="25216" y="15596"/>
                  <a:pt x="22640" y="18155"/>
                  <a:pt x="19872" y="18155"/>
                </a:cubicBezTo>
                <a:lnTo>
                  <a:pt x="18210" y="18155"/>
                </a:lnTo>
                <a:cubicBezTo>
                  <a:pt x="15442" y="18155"/>
                  <a:pt x="12866" y="15596"/>
                  <a:pt x="12866" y="12828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4">
            <a:hlinkClick r:id="" action="ppaction://hlinkshowjump?jump=previousslide"/>
          </p:cNvPr>
          <p:cNvSpPr/>
          <p:nvPr/>
        </p:nvSpPr>
        <p:spPr>
          <a:xfrm>
            <a:off x="6595920" y="6467400"/>
            <a:ext cx="281160" cy="152640"/>
          </a:xfrm>
          <a:custGeom>
            <a:avLst/>
            <a:gdLst>
              <a:gd name="textAreaLeft" fmla="*/ 9720 w 281160"/>
              <a:gd name="textAreaRight" fmla="*/ 271440 w 28116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39744" h="21600">
                <a:moveTo>
                  <a:pt x="0" y="0"/>
                </a:moveTo>
                <a:lnTo>
                  <a:pt x="39744" y="0"/>
                </a:lnTo>
                <a:lnTo>
                  <a:pt x="39744" y="21600"/>
                </a:lnTo>
                <a:lnTo>
                  <a:pt x="0" y="21600"/>
                </a:lnTo>
                <a:close/>
              </a:path>
              <a:path fill="lightenLess" w="39744" h="21600">
                <a:moveTo>
                  <a:pt x="0" y="0"/>
                </a:moveTo>
                <a:lnTo>
                  <a:pt x="39744" y="0"/>
                </a:lnTo>
                <a:lnTo>
                  <a:pt x="38344" y="1400"/>
                </a:lnTo>
                <a:lnTo>
                  <a:pt x="1400" y="1400"/>
                </a:lnTo>
                <a:close/>
              </a:path>
              <a:path fill="darken" w="39744" h="21600">
                <a:moveTo>
                  <a:pt x="39744" y="0"/>
                </a:moveTo>
                <a:lnTo>
                  <a:pt x="39744" y="21600"/>
                </a:lnTo>
                <a:lnTo>
                  <a:pt x="38344" y="20200"/>
                </a:lnTo>
                <a:lnTo>
                  <a:pt x="38344" y="1400"/>
                </a:lnTo>
                <a:close/>
              </a:path>
              <a:path fill="darkenLess" w="39744" h="21600">
                <a:moveTo>
                  <a:pt x="39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344" y="20200"/>
                </a:lnTo>
                <a:close/>
              </a:path>
              <a:path fill="lighten" w="39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744" h="21600">
                <a:moveTo>
                  <a:pt x="12866" y="7493"/>
                </a:moveTo>
                <a:lnTo>
                  <a:pt x="16373" y="7493"/>
                </a:lnTo>
                <a:lnTo>
                  <a:pt x="16373" y="12828"/>
                </a:lnTo>
                <a:cubicBezTo>
                  <a:pt x="16373" y="13751"/>
                  <a:pt x="17174" y="14482"/>
                  <a:pt x="18210" y="14482"/>
                </a:cubicBezTo>
                <a:lnTo>
                  <a:pt x="19872" y="14482"/>
                </a:lnTo>
                <a:cubicBezTo>
                  <a:pt x="20908" y="14482"/>
                  <a:pt x="21708" y="13751"/>
                  <a:pt x="21708" y="12828"/>
                </a:cubicBezTo>
                <a:lnTo>
                  <a:pt x="21708" y="7493"/>
                </a:lnTo>
                <a:lnTo>
                  <a:pt x="19872" y="7493"/>
                </a:lnTo>
                <a:lnTo>
                  <a:pt x="23380" y="3985"/>
                </a:lnTo>
                <a:lnTo>
                  <a:pt x="27053" y="7493"/>
                </a:lnTo>
                <a:lnTo>
                  <a:pt x="25216" y="7493"/>
                </a:lnTo>
                <a:lnTo>
                  <a:pt x="25216" y="12828"/>
                </a:lnTo>
                <a:cubicBezTo>
                  <a:pt x="25216" y="15596"/>
                  <a:pt x="22640" y="18155"/>
                  <a:pt x="19872" y="18155"/>
                </a:cubicBezTo>
                <a:lnTo>
                  <a:pt x="18210" y="18155"/>
                </a:lnTo>
                <a:cubicBezTo>
                  <a:pt x="15442" y="18155"/>
                  <a:pt x="12866" y="15596"/>
                  <a:pt x="12866" y="12828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4">
            <a:hlinkClick r:id="" action="ppaction://hlinkshowjump?jump=previousslide"/>
          </p:cNvPr>
          <p:cNvSpPr/>
          <p:nvPr/>
        </p:nvSpPr>
        <p:spPr>
          <a:xfrm>
            <a:off x="6595920" y="6467400"/>
            <a:ext cx="281160" cy="152640"/>
          </a:xfrm>
          <a:custGeom>
            <a:avLst/>
            <a:gdLst>
              <a:gd name="textAreaLeft" fmla="*/ 9720 w 281160"/>
              <a:gd name="textAreaRight" fmla="*/ 271440 w 28116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39744" h="21600">
                <a:moveTo>
                  <a:pt x="0" y="0"/>
                </a:moveTo>
                <a:lnTo>
                  <a:pt x="39744" y="0"/>
                </a:lnTo>
                <a:lnTo>
                  <a:pt x="39744" y="21600"/>
                </a:lnTo>
                <a:lnTo>
                  <a:pt x="0" y="21600"/>
                </a:lnTo>
                <a:close/>
              </a:path>
              <a:path fill="lightenLess" w="39744" h="21600">
                <a:moveTo>
                  <a:pt x="0" y="0"/>
                </a:moveTo>
                <a:lnTo>
                  <a:pt x="39744" y="0"/>
                </a:lnTo>
                <a:lnTo>
                  <a:pt x="38344" y="1400"/>
                </a:lnTo>
                <a:lnTo>
                  <a:pt x="1400" y="1400"/>
                </a:lnTo>
                <a:close/>
              </a:path>
              <a:path fill="darken" w="39744" h="21600">
                <a:moveTo>
                  <a:pt x="39744" y="0"/>
                </a:moveTo>
                <a:lnTo>
                  <a:pt x="39744" y="21600"/>
                </a:lnTo>
                <a:lnTo>
                  <a:pt x="38344" y="20200"/>
                </a:lnTo>
                <a:lnTo>
                  <a:pt x="38344" y="1400"/>
                </a:lnTo>
                <a:close/>
              </a:path>
              <a:path fill="darkenLess" w="39744" h="21600">
                <a:moveTo>
                  <a:pt x="39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344" y="20200"/>
                </a:lnTo>
                <a:close/>
              </a:path>
              <a:path fill="lighten" w="39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744" h="21600">
                <a:moveTo>
                  <a:pt x="12866" y="7493"/>
                </a:moveTo>
                <a:lnTo>
                  <a:pt x="16373" y="7493"/>
                </a:lnTo>
                <a:lnTo>
                  <a:pt x="16373" y="12828"/>
                </a:lnTo>
                <a:cubicBezTo>
                  <a:pt x="16373" y="13751"/>
                  <a:pt x="17174" y="14482"/>
                  <a:pt x="18210" y="14482"/>
                </a:cubicBezTo>
                <a:lnTo>
                  <a:pt x="19872" y="14482"/>
                </a:lnTo>
                <a:cubicBezTo>
                  <a:pt x="20908" y="14482"/>
                  <a:pt x="21708" y="13751"/>
                  <a:pt x="21708" y="12828"/>
                </a:cubicBezTo>
                <a:lnTo>
                  <a:pt x="21708" y="7493"/>
                </a:lnTo>
                <a:lnTo>
                  <a:pt x="19872" y="7493"/>
                </a:lnTo>
                <a:lnTo>
                  <a:pt x="23380" y="3985"/>
                </a:lnTo>
                <a:lnTo>
                  <a:pt x="27053" y="7493"/>
                </a:lnTo>
                <a:lnTo>
                  <a:pt x="25216" y="7493"/>
                </a:lnTo>
                <a:lnTo>
                  <a:pt x="25216" y="12828"/>
                </a:lnTo>
                <a:cubicBezTo>
                  <a:pt x="25216" y="15596"/>
                  <a:pt x="22640" y="18155"/>
                  <a:pt x="19872" y="18155"/>
                </a:cubicBezTo>
                <a:lnTo>
                  <a:pt x="18210" y="18155"/>
                </a:lnTo>
                <a:cubicBezTo>
                  <a:pt x="15442" y="18155"/>
                  <a:pt x="12866" y="15596"/>
                  <a:pt x="12866" y="12828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AutoShape 4">
            <a:hlinkClick r:id="" action="ppaction://hlinkshowjump?jump=previousslide"/>
          </p:cNvPr>
          <p:cNvSpPr/>
          <p:nvPr/>
        </p:nvSpPr>
        <p:spPr>
          <a:xfrm>
            <a:off x="6595920" y="6467400"/>
            <a:ext cx="281160" cy="152640"/>
          </a:xfrm>
          <a:custGeom>
            <a:avLst/>
            <a:gdLst>
              <a:gd name="textAreaLeft" fmla="*/ 9720 w 281160"/>
              <a:gd name="textAreaRight" fmla="*/ 271440 w 28116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39744" h="21600">
                <a:moveTo>
                  <a:pt x="0" y="0"/>
                </a:moveTo>
                <a:lnTo>
                  <a:pt x="39744" y="0"/>
                </a:lnTo>
                <a:lnTo>
                  <a:pt x="39744" y="21600"/>
                </a:lnTo>
                <a:lnTo>
                  <a:pt x="0" y="21600"/>
                </a:lnTo>
                <a:close/>
              </a:path>
              <a:path fill="lightenLess" w="39744" h="21600">
                <a:moveTo>
                  <a:pt x="0" y="0"/>
                </a:moveTo>
                <a:lnTo>
                  <a:pt x="39744" y="0"/>
                </a:lnTo>
                <a:lnTo>
                  <a:pt x="38344" y="1400"/>
                </a:lnTo>
                <a:lnTo>
                  <a:pt x="1400" y="1400"/>
                </a:lnTo>
                <a:close/>
              </a:path>
              <a:path fill="darken" w="39744" h="21600">
                <a:moveTo>
                  <a:pt x="39744" y="0"/>
                </a:moveTo>
                <a:lnTo>
                  <a:pt x="39744" y="21600"/>
                </a:lnTo>
                <a:lnTo>
                  <a:pt x="38344" y="20200"/>
                </a:lnTo>
                <a:lnTo>
                  <a:pt x="38344" y="1400"/>
                </a:lnTo>
                <a:close/>
              </a:path>
              <a:path fill="darkenLess" w="39744" h="21600">
                <a:moveTo>
                  <a:pt x="39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344" y="20200"/>
                </a:lnTo>
                <a:close/>
              </a:path>
              <a:path fill="lighten" w="39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744" h="21600">
                <a:moveTo>
                  <a:pt x="12866" y="7493"/>
                </a:moveTo>
                <a:lnTo>
                  <a:pt x="16373" y="7493"/>
                </a:lnTo>
                <a:lnTo>
                  <a:pt x="16373" y="12828"/>
                </a:lnTo>
                <a:cubicBezTo>
                  <a:pt x="16373" y="13751"/>
                  <a:pt x="17174" y="14482"/>
                  <a:pt x="18210" y="14482"/>
                </a:cubicBezTo>
                <a:lnTo>
                  <a:pt x="19872" y="14482"/>
                </a:lnTo>
                <a:cubicBezTo>
                  <a:pt x="20908" y="14482"/>
                  <a:pt x="21708" y="13751"/>
                  <a:pt x="21708" y="12828"/>
                </a:cubicBezTo>
                <a:lnTo>
                  <a:pt x="21708" y="7493"/>
                </a:lnTo>
                <a:lnTo>
                  <a:pt x="19872" y="7493"/>
                </a:lnTo>
                <a:lnTo>
                  <a:pt x="23380" y="3985"/>
                </a:lnTo>
                <a:lnTo>
                  <a:pt x="27053" y="7493"/>
                </a:lnTo>
                <a:lnTo>
                  <a:pt x="25216" y="7493"/>
                </a:lnTo>
                <a:lnTo>
                  <a:pt x="25216" y="12828"/>
                </a:lnTo>
                <a:cubicBezTo>
                  <a:pt x="25216" y="15596"/>
                  <a:pt x="22640" y="18155"/>
                  <a:pt x="19872" y="18155"/>
                </a:cubicBezTo>
                <a:lnTo>
                  <a:pt x="18210" y="18155"/>
                </a:lnTo>
                <a:cubicBezTo>
                  <a:pt x="15442" y="18155"/>
                  <a:pt x="12866" y="15596"/>
                  <a:pt x="12866" y="12828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AutoShape 4">
            <a:hlinkClick r:id="" action="ppaction://hlinkshowjump?jump=previousslide"/>
          </p:cNvPr>
          <p:cNvSpPr/>
          <p:nvPr/>
        </p:nvSpPr>
        <p:spPr>
          <a:xfrm>
            <a:off x="6595920" y="6467400"/>
            <a:ext cx="281160" cy="152640"/>
          </a:xfrm>
          <a:custGeom>
            <a:avLst/>
            <a:gdLst>
              <a:gd name="textAreaLeft" fmla="*/ 9720 w 281160"/>
              <a:gd name="textAreaRight" fmla="*/ 271440 w 28116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39744" h="21600">
                <a:moveTo>
                  <a:pt x="0" y="0"/>
                </a:moveTo>
                <a:lnTo>
                  <a:pt x="39744" y="0"/>
                </a:lnTo>
                <a:lnTo>
                  <a:pt x="39744" y="21600"/>
                </a:lnTo>
                <a:lnTo>
                  <a:pt x="0" y="21600"/>
                </a:lnTo>
                <a:close/>
              </a:path>
              <a:path fill="lightenLess" w="39744" h="21600">
                <a:moveTo>
                  <a:pt x="0" y="0"/>
                </a:moveTo>
                <a:lnTo>
                  <a:pt x="39744" y="0"/>
                </a:lnTo>
                <a:lnTo>
                  <a:pt x="38344" y="1400"/>
                </a:lnTo>
                <a:lnTo>
                  <a:pt x="1400" y="1400"/>
                </a:lnTo>
                <a:close/>
              </a:path>
              <a:path fill="darken" w="39744" h="21600">
                <a:moveTo>
                  <a:pt x="39744" y="0"/>
                </a:moveTo>
                <a:lnTo>
                  <a:pt x="39744" y="21600"/>
                </a:lnTo>
                <a:lnTo>
                  <a:pt x="38344" y="20200"/>
                </a:lnTo>
                <a:lnTo>
                  <a:pt x="38344" y="1400"/>
                </a:lnTo>
                <a:close/>
              </a:path>
              <a:path fill="darkenLess" w="39744" h="21600">
                <a:moveTo>
                  <a:pt x="39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344" y="20200"/>
                </a:lnTo>
                <a:close/>
              </a:path>
              <a:path fill="lighten" w="39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744" h="21600">
                <a:moveTo>
                  <a:pt x="12866" y="7493"/>
                </a:moveTo>
                <a:lnTo>
                  <a:pt x="16373" y="7493"/>
                </a:lnTo>
                <a:lnTo>
                  <a:pt x="16373" y="12828"/>
                </a:lnTo>
                <a:cubicBezTo>
                  <a:pt x="16373" y="13751"/>
                  <a:pt x="17174" y="14482"/>
                  <a:pt x="18210" y="14482"/>
                </a:cubicBezTo>
                <a:lnTo>
                  <a:pt x="19872" y="14482"/>
                </a:lnTo>
                <a:cubicBezTo>
                  <a:pt x="20908" y="14482"/>
                  <a:pt x="21708" y="13751"/>
                  <a:pt x="21708" y="12828"/>
                </a:cubicBezTo>
                <a:lnTo>
                  <a:pt x="21708" y="7493"/>
                </a:lnTo>
                <a:lnTo>
                  <a:pt x="19872" y="7493"/>
                </a:lnTo>
                <a:lnTo>
                  <a:pt x="23380" y="3985"/>
                </a:lnTo>
                <a:lnTo>
                  <a:pt x="27053" y="7493"/>
                </a:lnTo>
                <a:lnTo>
                  <a:pt x="25216" y="7493"/>
                </a:lnTo>
                <a:lnTo>
                  <a:pt x="25216" y="12828"/>
                </a:lnTo>
                <a:cubicBezTo>
                  <a:pt x="25216" y="15596"/>
                  <a:pt x="22640" y="18155"/>
                  <a:pt x="19872" y="18155"/>
                </a:cubicBezTo>
                <a:lnTo>
                  <a:pt x="18210" y="18155"/>
                </a:lnTo>
                <a:cubicBezTo>
                  <a:pt x="15442" y="18155"/>
                  <a:pt x="12866" y="15596"/>
                  <a:pt x="12866" y="12828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AutoShape 4">
            <a:hlinkClick r:id="" action="ppaction://hlinkshowjump?jump=previousslide"/>
          </p:cNvPr>
          <p:cNvSpPr/>
          <p:nvPr/>
        </p:nvSpPr>
        <p:spPr>
          <a:xfrm>
            <a:off x="6595920" y="6467400"/>
            <a:ext cx="281160" cy="152640"/>
          </a:xfrm>
          <a:custGeom>
            <a:avLst/>
            <a:gdLst>
              <a:gd name="textAreaLeft" fmla="*/ 9720 w 281160"/>
              <a:gd name="textAreaRight" fmla="*/ 271440 w 28116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39744" h="21600">
                <a:moveTo>
                  <a:pt x="0" y="0"/>
                </a:moveTo>
                <a:lnTo>
                  <a:pt x="39744" y="0"/>
                </a:lnTo>
                <a:lnTo>
                  <a:pt x="39744" y="21600"/>
                </a:lnTo>
                <a:lnTo>
                  <a:pt x="0" y="21600"/>
                </a:lnTo>
                <a:close/>
              </a:path>
              <a:path fill="lightenLess" w="39744" h="21600">
                <a:moveTo>
                  <a:pt x="0" y="0"/>
                </a:moveTo>
                <a:lnTo>
                  <a:pt x="39744" y="0"/>
                </a:lnTo>
                <a:lnTo>
                  <a:pt x="38344" y="1400"/>
                </a:lnTo>
                <a:lnTo>
                  <a:pt x="1400" y="1400"/>
                </a:lnTo>
                <a:close/>
              </a:path>
              <a:path fill="darken" w="39744" h="21600">
                <a:moveTo>
                  <a:pt x="39744" y="0"/>
                </a:moveTo>
                <a:lnTo>
                  <a:pt x="39744" y="21600"/>
                </a:lnTo>
                <a:lnTo>
                  <a:pt x="38344" y="20200"/>
                </a:lnTo>
                <a:lnTo>
                  <a:pt x="38344" y="1400"/>
                </a:lnTo>
                <a:close/>
              </a:path>
              <a:path fill="darkenLess" w="39744" h="21600">
                <a:moveTo>
                  <a:pt x="39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344" y="20200"/>
                </a:lnTo>
                <a:close/>
              </a:path>
              <a:path fill="lighten" w="39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744" h="21600">
                <a:moveTo>
                  <a:pt x="12866" y="7493"/>
                </a:moveTo>
                <a:lnTo>
                  <a:pt x="16373" y="7493"/>
                </a:lnTo>
                <a:lnTo>
                  <a:pt x="16373" y="12828"/>
                </a:lnTo>
                <a:cubicBezTo>
                  <a:pt x="16373" y="13751"/>
                  <a:pt x="17174" y="14482"/>
                  <a:pt x="18210" y="14482"/>
                </a:cubicBezTo>
                <a:lnTo>
                  <a:pt x="19872" y="14482"/>
                </a:lnTo>
                <a:cubicBezTo>
                  <a:pt x="20908" y="14482"/>
                  <a:pt x="21708" y="13751"/>
                  <a:pt x="21708" y="12828"/>
                </a:cubicBezTo>
                <a:lnTo>
                  <a:pt x="21708" y="7493"/>
                </a:lnTo>
                <a:lnTo>
                  <a:pt x="19872" y="7493"/>
                </a:lnTo>
                <a:lnTo>
                  <a:pt x="23380" y="3985"/>
                </a:lnTo>
                <a:lnTo>
                  <a:pt x="27053" y="7493"/>
                </a:lnTo>
                <a:lnTo>
                  <a:pt x="25216" y="7493"/>
                </a:lnTo>
                <a:lnTo>
                  <a:pt x="25216" y="12828"/>
                </a:lnTo>
                <a:cubicBezTo>
                  <a:pt x="25216" y="15596"/>
                  <a:pt x="22640" y="18155"/>
                  <a:pt x="19872" y="18155"/>
                </a:cubicBezTo>
                <a:lnTo>
                  <a:pt x="18210" y="18155"/>
                </a:lnTo>
                <a:cubicBezTo>
                  <a:pt x="15442" y="18155"/>
                  <a:pt x="12866" y="15596"/>
                  <a:pt x="12866" y="12828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6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oose.globalse.org/svn/trunk/examples/arena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hyperlink" Target="http://confluence.public.thoughtworks.org/display/" TargetMode="External"/><Relationship Id="rId4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cruisecontrol.sourceforge.net/download.html" TargetMode="External"/><Relationship Id="rId2" Type="http://schemas.openxmlformats.org/officeDocument/2006/relationships/hyperlink" Target="http://localhost:8080/cruisecontrol" TargetMode="External"/><Relationship Id="rId3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mailto:naughton@in.tum.de" TargetMode="External"/><Relationship Id="rId2" Type="http://schemas.openxmlformats.org/officeDocument/2006/relationships/hyperlink" Target="https://wwwbruegge.informatik.tu-muenchen.de/twiki/bin/view/Lehrstuhl/POMSS09Exercises" TargetMode="External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1026" descr="_x0013_CO.13.Backpacks.tif                                            0012C2BC_x000c_Macintosh HD                   B7C803F1:"/>
          <p:cNvPicPr/>
          <p:nvPr/>
        </p:nvPicPr>
        <p:blipFill>
          <a:blip r:embed="rId1"/>
          <a:srcRect l="0" t="5090" r="0" b="16302"/>
          <a:stretch/>
        </p:blipFill>
        <p:spPr>
          <a:xfrm>
            <a:off x="1278000" y="189000"/>
            <a:ext cx="7616880" cy="648324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95320" y="2498400"/>
            <a:ext cx="5616720" cy="214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Build Managemen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nt, a Platform Independent Build Management Tool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001000" cy="515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ild tool based on Java, http://ant.apache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s get executed by invoking Java classes, not shell scripts or shell command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 allows the execution of tasks such 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il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c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 system operations (e.g. copy, move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chi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ploy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 has become a standard in the Java Open Source 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 build files are platform independ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t’s build file is an XML documen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General Structure of Ant Build Fil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13" name="Picture 6" descr="AntBuildFileClassDiagram"/>
          <p:cNvPicPr/>
          <p:nvPr/>
        </p:nvPicPr>
        <p:blipFill>
          <a:blip r:embed="rId1"/>
          <a:stretch/>
        </p:blipFill>
        <p:spPr>
          <a:xfrm>
            <a:off x="-3240" y="790560"/>
            <a:ext cx="914724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Examples of Ant Tasks 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978120" y="5105520"/>
            <a:ext cx="627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ach Ant Task is a Java application.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 tasks can be implemented in Java to suppor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 needs.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16" name="Picture 5" descr="AntBuildFileClassDiagram_2"/>
          <p:cNvPicPr/>
          <p:nvPr/>
        </p:nvPicPr>
        <p:blipFill>
          <a:blip r:embed="rId1"/>
          <a:stretch/>
        </p:blipFill>
        <p:spPr>
          <a:xfrm>
            <a:off x="200160" y="1066680"/>
            <a:ext cx="8742240" cy="39816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onstruction of Ant Build Fil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efault name for a Ant build file is build.x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xml root element must be the ‘project’ el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‘default’ attribute of the project element is required and specifies the default target to u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rgets contain zero or more Ant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‘name’ attribute is requir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Tasks are the smallest units of the build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3"/>
          <p:cNvSpPr/>
          <p:nvPr/>
        </p:nvSpPr>
        <p:spPr>
          <a:xfrm>
            <a:off x="3276720" y="3505320"/>
            <a:ext cx="5486400" cy="2819160"/>
          </a:xfrm>
          <a:prstGeom prst="rect">
            <a:avLst/>
          </a:prstGeom>
          <a:solidFill>
            <a:srgbClr val="fde5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 ant 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ildfile: build.xm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lo: [echo] Hello, Worl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ILD SUCCESSFUL 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otal time: 2 second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nt Build File Exampl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1" name="AutoShape 5"/>
          <p:cNvSpPr/>
          <p:nvPr/>
        </p:nvSpPr>
        <p:spPr>
          <a:xfrm>
            <a:off x="838080" y="1066680"/>
            <a:ext cx="7010640" cy="228600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&lt;project default="hello"&gt; 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&lt;target name="hello"&gt; 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&lt;echo message="Hello, World"/&gt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&lt;/target&gt; 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&lt;/project&gt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1266480" y="4524480"/>
            <a:ext cx="138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xecution 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f build file: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aven Overview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Java project management and integration build tool, http://maven.apache.org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ven supports the same functionality as 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t is actually integrated into Mav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ven’s extended function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tomatically generates a development website contai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ject organization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ject development state repor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sed on the concept of a central project object model (PO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aven Capabiliti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ven is able 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eive developer artifacts from the programmers’ SCM director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ile and package the source c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wnload dependent artifacts from another (external) reposi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erate Javadoc websi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erate developer and code metr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erate websites containing status information to track iss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ploy the compiled source code and the generated website to a webser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odeling a Project in Maven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ct Object Model (PO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ject name, id, description, version numb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bsite UR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sue tracking UR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iling list UR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M directory UR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er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cense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pende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me, version, location of a Java library from jar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ject directory layo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ifies source code and unit test code directo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odeling a Project in Maven (UML)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0" name="Rectangle 6"/>
          <p:cNvSpPr/>
          <p:nvPr/>
        </p:nvSpPr>
        <p:spPr>
          <a:xfrm>
            <a:off x="3343320" y="1371600"/>
            <a:ext cx="3057480" cy="345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ject Object Model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31" name="Group 32"/>
          <p:cNvGrpSpPr/>
          <p:nvPr/>
        </p:nvGrpSpPr>
        <p:grpSpPr>
          <a:xfrm>
            <a:off x="136440" y="1752480"/>
            <a:ext cx="4652640" cy="2743200"/>
            <a:chOff x="136440" y="1752480"/>
            <a:chExt cx="4652640" cy="2743200"/>
          </a:xfrm>
        </p:grpSpPr>
        <p:grpSp>
          <p:nvGrpSpPr>
            <p:cNvPr id="632" name="Group 16"/>
            <p:cNvGrpSpPr/>
            <p:nvPr/>
          </p:nvGrpSpPr>
          <p:grpSpPr>
            <a:xfrm>
              <a:off x="136440" y="2666880"/>
              <a:ext cx="2619360" cy="1828800"/>
              <a:chOff x="136440" y="2666880"/>
              <a:chExt cx="2619360" cy="1828800"/>
            </a:xfrm>
          </p:grpSpPr>
          <p:sp>
            <p:nvSpPr>
              <p:cNvPr id="633" name="Rectangle 4"/>
              <p:cNvSpPr/>
              <p:nvPr/>
            </p:nvSpPr>
            <p:spPr>
              <a:xfrm>
                <a:off x="136440" y="2666880"/>
                <a:ext cx="2619360" cy="381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Project Descriptor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34" name="Rectangle 5"/>
              <p:cNvSpPr/>
              <p:nvPr/>
            </p:nvSpPr>
            <p:spPr>
              <a:xfrm>
                <a:off x="136440" y="3048120"/>
                <a:ext cx="2619360" cy="1447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ame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currentVersion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organization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inceptionYear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description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url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cxnSp>
          <p:nvCxnSpPr>
            <p:cNvPr id="635" name="AutoShape 23"/>
            <p:cNvCxnSpPr>
              <a:stCxn id="633" idx="0"/>
              <a:endCxn id="636" idx="5"/>
            </p:cNvCxnSpPr>
            <p:nvPr/>
          </p:nvCxnSpPr>
          <p:spPr>
            <a:xfrm flipH="1" flipV="1" rot="5400000">
              <a:off x="2751480" y="683280"/>
              <a:ext cx="664560" cy="3275280"/>
            </a:xfrm>
            <a:prstGeom prst="bentConnector3">
              <a:avLst>
                <a:gd name="adj1" fmla="val 499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36" name="Freeform 21"/>
            <p:cNvSpPr/>
            <p:nvPr/>
          </p:nvSpPr>
          <p:spPr>
            <a:xfrm>
              <a:off x="4653000" y="1752480"/>
              <a:ext cx="136080" cy="22248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37" name="Group 36"/>
          <p:cNvGrpSpPr/>
          <p:nvPr/>
        </p:nvGrpSpPr>
        <p:grpSpPr>
          <a:xfrm>
            <a:off x="1314360" y="1752480"/>
            <a:ext cx="3728520" cy="4496040"/>
            <a:chOff x="1314360" y="1752480"/>
            <a:chExt cx="3728520" cy="4496040"/>
          </a:xfrm>
        </p:grpSpPr>
        <p:grpSp>
          <p:nvGrpSpPr>
            <p:cNvPr id="638" name="Group 15"/>
            <p:cNvGrpSpPr/>
            <p:nvPr/>
          </p:nvGrpSpPr>
          <p:grpSpPr>
            <a:xfrm>
              <a:off x="1314360" y="4876920"/>
              <a:ext cx="3349080" cy="1371600"/>
              <a:chOff x="1314360" y="4876920"/>
              <a:chExt cx="3349080" cy="1371600"/>
            </a:xfrm>
          </p:grpSpPr>
          <p:sp>
            <p:nvSpPr>
              <p:cNvPr id="639" name="Rectangle 7"/>
              <p:cNvSpPr/>
              <p:nvPr/>
            </p:nvSpPr>
            <p:spPr>
              <a:xfrm>
                <a:off x="1314360" y="4876920"/>
                <a:ext cx="3349080" cy="381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Developer Descriptor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40" name="Rectangle 8"/>
              <p:cNvSpPr/>
              <p:nvPr/>
            </p:nvSpPr>
            <p:spPr>
              <a:xfrm>
                <a:off x="1314360" y="5258160"/>
                <a:ext cx="3349080" cy="990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ame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id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organization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roles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641" name="Freeform 24"/>
            <p:cNvSpPr/>
            <p:nvPr/>
          </p:nvSpPr>
          <p:spPr>
            <a:xfrm>
              <a:off x="4880160" y="1752480"/>
              <a:ext cx="162720" cy="22248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cxnSp>
          <p:nvCxnSpPr>
            <p:cNvPr id="642" name="AutoShape 28"/>
            <p:cNvCxnSpPr>
              <a:stCxn id="639" idx="0"/>
              <a:endCxn id="641" idx="5"/>
            </p:cNvCxnSpPr>
            <p:nvPr/>
          </p:nvCxnSpPr>
          <p:spPr>
            <a:xfrm flipH="1" flipV="1" rot="5400000">
              <a:off x="2538360" y="2439000"/>
              <a:ext cx="2874240" cy="1973160"/>
            </a:xfrm>
            <a:prstGeom prst="bentConnector3">
              <a:avLst>
                <a:gd name="adj1" fmla="val 29212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643" name="Group 37"/>
          <p:cNvGrpSpPr/>
          <p:nvPr/>
        </p:nvGrpSpPr>
        <p:grpSpPr>
          <a:xfrm>
            <a:off x="5084640" y="1763640"/>
            <a:ext cx="3553920" cy="4267440"/>
            <a:chOff x="5084640" y="1763640"/>
            <a:chExt cx="3553920" cy="4267440"/>
          </a:xfrm>
        </p:grpSpPr>
        <p:grpSp>
          <p:nvGrpSpPr>
            <p:cNvPr id="644" name="Group 14"/>
            <p:cNvGrpSpPr/>
            <p:nvPr/>
          </p:nvGrpSpPr>
          <p:grpSpPr>
            <a:xfrm>
              <a:off x="5538960" y="4888080"/>
              <a:ext cx="3099600" cy="1143000"/>
              <a:chOff x="5538960" y="4888080"/>
              <a:chExt cx="3099600" cy="1143000"/>
            </a:xfrm>
          </p:grpSpPr>
          <p:sp>
            <p:nvSpPr>
              <p:cNvPr id="645" name="Rectangle 9"/>
              <p:cNvSpPr/>
              <p:nvPr/>
            </p:nvSpPr>
            <p:spPr>
              <a:xfrm>
                <a:off x="5538960" y="4888080"/>
                <a:ext cx="3099600" cy="381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Repository Descriptor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46" name="Rectangle 10"/>
              <p:cNvSpPr/>
              <p:nvPr/>
            </p:nvSpPr>
            <p:spPr>
              <a:xfrm>
                <a:off x="5538960" y="5269320"/>
                <a:ext cx="3099600" cy="7617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connection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developerConnection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url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647" name="Freeform 25"/>
            <p:cNvSpPr/>
            <p:nvPr/>
          </p:nvSpPr>
          <p:spPr>
            <a:xfrm>
              <a:off x="5084640" y="1763640"/>
              <a:ext cx="150840" cy="22248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cxnSp>
          <p:nvCxnSpPr>
            <p:cNvPr id="648" name="AutoShape 29"/>
            <p:cNvCxnSpPr>
              <a:stCxn id="645" idx="0"/>
              <a:endCxn id="647" idx="5"/>
            </p:cNvCxnSpPr>
            <p:nvPr/>
          </p:nvCxnSpPr>
          <p:spPr>
            <a:xfrm flipV="1" rot="16200000">
              <a:off x="4687200" y="2472120"/>
              <a:ext cx="2874240" cy="1929240"/>
            </a:xfrm>
            <a:prstGeom prst="bentConnector3">
              <a:avLst>
                <a:gd name="adj1" fmla="val 28548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649" name="Group 35"/>
          <p:cNvGrpSpPr/>
          <p:nvPr/>
        </p:nvGrpSpPr>
        <p:grpSpPr>
          <a:xfrm>
            <a:off x="5273640" y="1752480"/>
            <a:ext cx="3595320" cy="1828800"/>
            <a:chOff x="5273640" y="1752480"/>
            <a:chExt cx="3595320" cy="1828800"/>
          </a:xfrm>
        </p:grpSpPr>
        <p:grpSp>
          <p:nvGrpSpPr>
            <p:cNvPr id="650" name="Group 13"/>
            <p:cNvGrpSpPr/>
            <p:nvPr/>
          </p:nvGrpSpPr>
          <p:grpSpPr>
            <a:xfrm>
              <a:off x="6655320" y="2666880"/>
              <a:ext cx="2213640" cy="914400"/>
              <a:chOff x="6655320" y="2666880"/>
              <a:chExt cx="2213640" cy="914400"/>
            </a:xfrm>
          </p:grpSpPr>
          <p:sp>
            <p:nvSpPr>
              <p:cNvPr id="651" name="Rectangle 11"/>
              <p:cNvSpPr/>
              <p:nvPr/>
            </p:nvSpPr>
            <p:spPr>
              <a:xfrm>
                <a:off x="6655320" y="2666880"/>
                <a:ext cx="2213640" cy="380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Build Descriptor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52" name="Rectangle 12"/>
              <p:cNvSpPr/>
              <p:nvPr/>
            </p:nvSpPr>
            <p:spPr>
              <a:xfrm>
                <a:off x="6655320" y="3047760"/>
                <a:ext cx="2213640" cy="533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ourceDirectory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resources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653" name="Freeform 26"/>
            <p:cNvSpPr/>
            <p:nvPr/>
          </p:nvSpPr>
          <p:spPr>
            <a:xfrm>
              <a:off x="5273640" y="1752480"/>
              <a:ext cx="107640" cy="22248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cxnSp>
          <p:nvCxnSpPr>
            <p:cNvPr id="654" name="AutoShape 30"/>
            <p:cNvCxnSpPr>
              <a:stCxn id="651" idx="0"/>
              <a:endCxn id="653" idx="5"/>
            </p:cNvCxnSpPr>
            <p:nvPr/>
          </p:nvCxnSpPr>
          <p:spPr>
            <a:xfrm flipV="1" rot="16200000">
              <a:off x="6212520" y="1102680"/>
              <a:ext cx="664560" cy="2435760"/>
            </a:xfrm>
            <a:prstGeom prst="bentConnector3">
              <a:avLst>
                <a:gd name="adj1" fmla="val 49972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Example: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Generating ARENA’s Development Website 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39308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ENA uses a SCM master directory a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ose.globalse.or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ENA depends on the Java library servlet.jar available in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biblio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ARENA website is located on the serv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iphus.in.tum.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ven compiles the ARENA sources in the programmer’s directory  of the develop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7" name="Bild 6" descr=""/>
          <p:cNvPicPr/>
          <p:nvPr/>
        </p:nvPicPr>
        <p:blipFill>
          <a:blip r:embed="rId1"/>
          <a:stretch/>
        </p:blipFill>
        <p:spPr>
          <a:xfrm>
            <a:off x="3935520" y="1481040"/>
            <a:ext cx="514800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Outline of the Lectur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rpose of Software Configuration Management (SC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Terminol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ftware Configuration Management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utline of  a Software Configuration Management Pl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ild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inous Integ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odeling a Project in Maven (UML)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9" name="Rectangle 6"/>
          <p:cNvSpPr/>
          <p:nvPr/>
        </p:nvSpPr>
        <p:spPr>
          <a:xfrm>
            <a:off x="3343320" y="1371600"/>
            <a:ext cx="3057480" cy="345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ject Object Model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60" name="Group 32"/>
          <p:cNvGrpSpPr/>
          <p:nvPr/>
        </p:nvGrpSpPr>
        <p:grpSpPr>
          <a:xfrm>
            <a:off x="136440" y="1752480"/>
            <a:ext cx="4652640" cy="2743200"/>
            <a:chOff x="136440" y="1752480"/>
            <a:chExt cx="4652640" cy="2743200"/>
          </a:xfrm>
        </p:grpSpPr>
        <p:grpSp>
          <p:nvGrpSpPr>
            <p:cNvPr id="661" name="Group 16"/>
            <p:cNvGrpSpPr/>
            <p:nvPr/>
          </p:nvGrpSpPr>
          <p:grpSpPr>
            <a:xfrm>
              <a:off x="136440" y="2666880"/>
              <a:ext cx="2619360" cy="1828800"/>
              <a:chOff x="136440" y="2666880"/>
              <a:chExt cx="2619360" cy="1828800"/>
            </a:xfrm>
          </p:grpSpPr>
          <p:sp>
            <p:nvSpPr>
              <p:cNvPr id="662" name="Rectangle 4"/>
              <p:cNvSpPr/>
              <p:nvPr/>
            </p:nvSpPr>
            <p:spPr>
              <a:xfrm>
                <a:off x="136440" y="2666880"/>
                <a:ext cx="2619360" cy="381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Project Descriptor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63" name="Rectangle 5"/>
              <p:cNvSpPr/>
              <p:nvPr/>
            </p:nvSpPr>
            <p:spPr>
              <a:xfrm>
                <a:off x="136440" y="3048120"/>
                <a:ext cx="2619360" cy="1447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ame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currentVersion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organization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inceptionYear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description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url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cxnSp>
          <p:nvCxnSpPr>
            <p:cNvPr id="664" name="AutoShape 23"/>
            <p:cNvCxnSpPr>
              <a:stCxn id="662" idx="0"/>
              <a:endCxn id="665" idx="5"/>
            </p:cNvCxnSpPr>
            <p:nvPr/>
          </p:nvCxnSpPr>
          <p:spPr>
            <a:xfrm flipH="1" flipV="1" rot="5400000">
              <a:off x="2751480" y="683280"/>
              <a:ext cx="664560" cy="3275280"/>
            </a:xfrm>
            <a:prstGeom prst="bentConnector3">
              <a:avLst>
                <a:gd name="adj1" fmla="val 499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65" name="Freeform 21"/>
            <p:cNvSpPr/>
            <p:nvPr/>
          </p:nvSpPr>
          <p:spPr>
            <a:xfrm>
              <a:off x="4653000" y="1752480"/>
              <a:ext cx="136080" cy="22248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66" name="Group 36"/>
          <p:cNvGrpSpPr/>
          <p:nvPr/>
        </p:nvGrpSpPr>
        <p:grpSpPr>
          <a:xfrm>
            <a:off x="1314360" y="1752480"/>
            <a:ext cx="3728520" cy="4496040"/>
            <a:chOff x="1314360" y="1752480"/>
            <a:chExt cx="3728520" cy="4496040"/>
          </a:xfrm>
        </p:grpSpPr>
        <p:grpSp>
          <p:nvGrpSpPr>
            <p:cNvPr id="667" name="Group 15"/>
            <p:cNvGrpSpPr/>
            <p:nvPr/>
          </p:nvGrpSpPr>
          <p:grpSpPr>
            <a:xfrm>
              <a:off x="1314360" y="4876920"/>
              <a:ext cx="3349080" cy="1371600"/>
              <a:chOff x="1314360" y="4876920"/>
              <a:chExt cx="3349080" cy="1371600"/>
            </a:xfrm>
          </p:grpSpPr>
          <p:sp>
            <p:nvSpPr>
              <p:cNvPr id="668" name="Rectangle 7"/>
              <p:cNvSpPr/>
              <p:nvPr/>
            </p:nvSpPr>
            <p:spPr>
              <a:xfrm>
                <a:off x="1314360" y="4876920"/>
                <a:ext cx="3349080" cy="381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Developer Descriptor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69" name="Rectangle 8"/>
              <p:cNvSpPr/>
              <p:nvPr/>
            </p:nvSpPr>
            <p:spPr>
              <a:xfrm>
                <a:off x="1314360" y="5258160"/>
                <a:ext cx="3349080" cy="990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ame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id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organization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roles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670" name="Freeform 24"/>
            <p:cNvSpPr/>
            <p:nvPr/>
          </p:nvSpPr>
          <p:spPr>
            <a:xfrm>
              <a:off x="4880160" y="1752480"/>
              <a:ext cx="162720" cy="22248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cxnSp>
          <p:nvCxnSpPr>
            <p:cNvPr id="671" name="AutoShape 28"/>
            <p:cNvCxnSpPr>
              <a:stCxn id="668" idx="0"/>
              <a:endCxn id="670" idx="5"/>
            </p:cNvCxnSpPr>
            <p:nvPr/>
          </p:nvCxnSpPr>
          <p:spPr>
            <a:xfrm flipH="1" flipV="1" rot="5400000">
              <a:off x="2538360" y="2439000"/>
              <a:ext cx="2874240" cy="1973160"/>
            </a:xfrm>
            <a:prstGeom prst="bentConnector3">
              <a:avLst>
                <a:gd name="adj1" fmla="val 29212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672" name="Group 37"/>
          <p:cNvGrpSpPr/>
          <p:nvPr/>
        </p:nvGrpSpPr>
        <p:grpSpPr>
          <a:xfrm>
            <a:off x="5084640" y="1763640"/>
            <a:ext cx="3553920" cy="4267440"/>
            <a:chOff x="5084640" y="1763640"/>
            <a:chExt cx="3553920" cy="4267440"/>
          </a:xfrm>
        </p:grpSpPr>
        <p:grpSp>
          <p:nvGrpSpPr>
            <p:cNvPr id="673" name="Group 14"/>
            <p:cNvGrpSpPr/>
            <p:nvPr/>
          </p:nvGrpSpPr>
          <p:grpSpPr>
            <a:xfrm>
              <a:off x="5538960" y="4888080"/>
              <a:ext cx="3099600" cy="1143000"/>
              <a:chOff x="5538960" y="4888080"/>
              <a:chExt cx="3099600" cy="1143000"/>
            </a:xfrm>
          </p:grpSpPr>
          <p:sp>
            <p:nvSpPr>
              <p:cNvPr id="674" name="Rectangle 9"/>
              <p:cNvSpPr/>
              <p:nvPr/>
            </p:nvSpPr>
            <p:spPr>
              <a:xfrm>
                <a:off x="5538960" y="4888080"/>
                <a:ext cx="3099600" cy="381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Repository Descriptor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75" name="Rectangle 10"/>
              <p:cNvSpPr/>
              <p:nvPr/>
            </p:nvSpPr>
            <p:spPr>
              <a:xfrm>
                <a:off x="5538960" y="5269320"/>
                <a:ext cx="3099600" cy="7617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connection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developerConnection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url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676" name="Freeform 25"/>
            <p:cNvSpPr/>
            <p:nvPr/>
          </p:nvSpPr>
          <p:spPr>
            <a:xfrm>
              <a:off x="5084640" y="1763640"/>
              <a:ext cx="150840" cy="22248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cxnSp>
          <p:nvCxnSpPr>
            <p:cNvPr id="677" name="AutoShape 29"/>
            <p:cNvCxnSpPr>
              <a:stCxn id="674" idx="0"/>
              <a:endCxn id="676" idx="5"/>
            </p:cNvCxnSpPr>
            <p:nvPr/>
          </p:nvCxnSpPr>
          <p:spPr>
            <a:xfrm flipV="1" rot="16200000">
              <a:off x="4687200" y="2472120"/>
              <a:ext cx="2874240" cy="1929240"/>
            </a:xfrm>
            <a:prstGeom prst="bentConnector3">
              <a:avLst>
                <a:gd name="adj1" fmla="val 28548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678" name="Group 35"/>
          <p:cNvGrpSpPr/>
          <p:nvPr/>
        </p:nvGrpSpPr>
        <p:grpSpPr>
          <a:xfrm>
            <a:off x="5273640" y="1752480"/>
            <a:ext cx="3595320" cy="1828800"/>
            <a:chOff x="5273640" y="1752480"/>
            <a:chExt cx="3595320" cy="1828800"/>
          </a:xfrm>
        </p:grpSpPr>
        <p:grpSp>
          <p:nvGrpSpPr>
            <p:cNvPr id="679" name="Group 13"/>
            <p:cNvGrpSpPr/>
            <p:nvPr/>
          </p:nvGrpSpPr>
          <p:grpSpPr>
            <a:xfrm>
              <a:off x="6655320" y="2666880"/>
              <a:ext cx="2213640" cy="914400"/>
              <a:chOff x="6655320" y="2666880"/>
              <a:chExt cx="2213640" cy="914400"/>
            </a:xfrm>
          </p:grpSpPr>
          <p:sp>
            <p:nvSpPr>
              <p:cNvPr id="680" name="Rectangle 11"/>
              <p:cNvSpPr/>
              <p:nvPr/>
            </p:nvSpPr>
            <p:spPr>
              <a:xfrm>
                <a:off x="6655320" y="2666880"/>
                <a:ext cx="2213640" cy="380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Build Descriptor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81" name="Rectangle 12"/>
              <p:cNvSpPr/>
              <p:nvPr/>
            </p:nvSpPr>
            <p:spPr>
              <a:xfrm>
                <a:off x="6655320" y="3047760"/>
                <a:ext cx="2213640" cy="533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ourceDirectory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resources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682" name="Freeform 26"/>
            <p:cNvSpPr/>
            <p:nvPr/>
          </p:nvSpPr>
          <p:spPr>
            <a:xfrm>
              <a:off x="5273640" y="1752480"/>
              <a:ext cx="107640" cy="22248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cxnSp>
          <p:nvCxnSpPr>
            <p:cNvPr id="683" name="AutoShape 30"/>
            <p:cNvCxnSpPr>
              <a:stCxn id="680" idx="0"/>
              <a:endCxn id="682" idx="5"/>
            </p:cNvCxnSpPr>
            <p:nvPr/>
          </p:nvCxnSpPr>
          <p:spPr>
            <a:xfrm flipV="1" rot="16200000">
              <a:off x="6212520" y="1102680"/>
              <a:ext cx="664560" cy="2435760"/>
            </a:xfrm>
            <a:prstGeom prst="bentConnector3">
              <a:avLst>
                <a:gd name="adj1" fmla="val 49972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684" name="Oval 27"/>
          <p:cNvSpPr/>
          <p:nvPr/>
        </p:nvSpPr>
        <p:spPr>
          <a:xfrm>
            <a:off x="0" y="2489040"/>
            <a:ext cx="3038400" cy="2244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19040" y="-360"/>
            <a:ext cx="852192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roject Descriptor  for ARENA (in project.xml)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6" name="Text Box 3"/>
          <p:cNvSpPr/>
          <p:nvPr/>
        </p:nvSpPr>
        <p:spPr>
          <a:xfrm>
            <a:off x="392040" y="746280"/>
            <a:ext cx="8543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project&gt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7700"/>
                </a:solidFill>
                <a:latin typeface="Courier New"/>
              </a:rPr>
              <a:t>&lt;!-- a unique name for this project --&gt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id&gt;arena&lt;/id&gt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d7700"/>
                </a:solidFill>
                <a:latin typeface="Courier New"/>
              </a:rPr>
              <a:t>&lt;!-- a short but descriptive name for the project --&gt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name&gt;ARENA&lt;/name&gt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currentVersion&gt;0.9&lt;/currentVersion&gt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d7700"/>
                </a:solidFill>
                <a:latin typeface="Courier New"/>
              </a:rPr>
              <a:t>&lt;!-- details about organization who 'owns' the project --&gt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organization&gt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name&gt;Bernd Bruegge &amp;amp; Allen H. Dutoit&lt;/name&gt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url&gt;http://wwwbruegge.in.tum.de/&lt;/url&gt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logo&gt;/images/ase_logo.gif&lt;/logo&gt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organization&gt;  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inceptionYear&gt;2004&lt;/inceptionYear&gt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logo&gt;/images/arena.gif&lt;/logo&gt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description&gt;ARENA&lt;/description&gt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77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d7700"/>
                </a:solidFill>
                <a:latin typeface="Courier New"/>
              </a:rPr>
              <a:t>&lt;!-- the project home page --&gt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url&gt;http://sysiphus.informatik.tu-muenchen.de/arena&lt;/url&gt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siteAddress&gt;sysiphus.informatik.tu-muenchen.de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siteAddress&gt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siteDirectory&gt;/www/arena&lt;/siteDirectory&gt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The ARENA Website (Generated by Maven)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88" name="Picture 3" descr="Picture 1"/>
          <p:cNvPicPr/>
          <p:nvPr/>
        </p:nvPicPr>
        <p:blipFill>
          <a:blip r:embed="rId1"/>
          <a:stretch/>
        </p:blipFill>
        <p:spPr>
          <a:xfrm>
            <a:off x="453960" y="1069920"/>
            <a:ext cx="82328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4200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Team Members and Roles in  project.xml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0" name="Text Box 3"/>
          <p:cNvSpPr/>
          <p:nvPr/>
        </p:nvSpPr>
        <p:spPr>
          <a:xfrm>
            <a:off x="406440" y="1224000"/>
            <a:ext cx="863604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developer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develop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name&gt;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Allen Dutoi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id&gt;dutoit&lt;/i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organization&gt;Technische Universität Münche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&lt;/organiza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role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role&gt;Architect&lt;/role&gt; &lt;role&gt;Developer&lt;/ro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role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develop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develop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name&gt;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Michael Nage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id&gt;nagel&lt;/i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organization&gt;Technische Universität Münche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&lt;/organiza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roles&gt; &lt;role&gt;Developer&lt;/ro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role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develop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develop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name&gt;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Timo Wol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na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id&gt;wolft&lt;/i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organization&gt;Technische Universität Münche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&lt;/organiza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roles&gt; &lt;role&gt;Developer&lt;/ro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role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develope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developers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Generated Website contains a Description of the Team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92" name="Picture 3" descr="Picture 5"/>
          <p:cNvPicPr/>
          <p:nvPr/>
        </p:nvPicPr>
        <p:blipFill>
          <a:blip r:embed="rId1"/>
          <a:stretch/>
        </p:blipFill>
        <p:spPr>
          <a:xfrm>
            <a:off x="378000" y="1030320"/>
            <a:ext cx="8385120" cy="47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3"/>
          <p:cNvSpPr/>
          <p:nvPr/>
        </p:nvSpPr>
        <p:spPr>
          <a:xfrm>
            <a:off x="533520" y="16765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Software Configuration Management Specification in project.xml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279000" y="3322440"/>
            <a:ext cx="8915400" cy="315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epository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onnection&gt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m|svn|http|//oose.globalse.org/svn/trunk/examples/are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connection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eveloperConnection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m|svn|http|//oose.globalse.org/sv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developerConnection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url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 u="sng">
                <a:solidFill>
                  <a:srgbClr val="3d5500"/>
                </a:solidFill>
                <a:uFillTx/>
                <a:latin typeface="Courier New"/>
                <a:ea typeface="Courier New"/>
                <a:hlinkClick r:id="rId1"/>
              </a:rPr>
              <a:t>http://oose.globalse.org/svn/trunk/examples/arena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url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epository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Rectangle 8"/>
          <p:cNvSpPr/>
          <p:nvPr/>
        </p:nvSpPr>
        <p:spPr>
          <a:xfrm>
            <a:off x="208080" y="1224000"/>
            <a:ext cx="8001000" cy="22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he repository tag enables Maven to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p the user ids used by the SCM tool to the developer names listed in the Maven team site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dentify developers activitie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dentify source code changes made by the developer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Generated Website: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Developer Activities (last 30 days)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98" name="Picture 4" descr="Picture 3"/>
          <p:cNvPicPr/>
          <p:nvPr/>
        </p:nvPicPr>
        <p:blipFill>
          <a:blip r:embed="rId1"/>
          <a:stretch/>
        </p:blipFill>
        <p:spPr>
          <a:xfrm>
            <a:off x="868320" y="1066680"/>
            <a:ext cx="7405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Generated Website: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hange Log (last 30 days)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00" name="Picture 3" descr="Picture 4"/>
          <p:cNvPicPr/>
          <p:nvPr/>
        </p:nvPicPr>
        <p:blipFill>
          <a:blip r:embed="rId1"/>
          <a:stretch/>
        </p:blipFill>
        <p:spPr>
          <a:xfrm>
            <a:off x="868320" y="1328760"/>
            <a:ext cx="7405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Build Management in the project.xml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2" name="Text Box 3"/>
          <p:cNvSpPr/>
          <p:nvPr/>
        </p:nvSpPr>
        <p:spPr>
          <a:xfrm>
            <a:off x="579600" y="2406600"/>
            <a:ext cx="7975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build&gt;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ourceDirectory&gt;src&lt;/sourceDirectory&gt;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resources&gt;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resource&gt;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irectory&gt;src&lt;/directory&gt;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includes&gt;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include&gt;**/*.properties&lt;/include&gt;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include&gt;**/*.gif&lt;/include&gt;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includes&gt;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resource&gt;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resources&gt;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build&gt;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00100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uild tag specifies the programmer’s directory containing the source code to be used for the bui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Result: Website contains the current source code of ARENA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05" name="Picture 5" descr="Picture 1"/>
          <p:cNvPicPr/>
          <p:nvPr/>
        </p:nvPicPr>
        <p:blipFill>
          <a:blip r:embed="rId1"/>
          <a:stretch/>
        </p:blipFill>
        <p:spPr>
          <a:xfrm>
            <a:off x="682560" y="1295280"/>
            <a:ext cx="7775640" cy="51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The Problem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ransition from source code to the executable application contains many mechanical step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s required paths and libra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iling source c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pying source files (e.g. images, sound files, start script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of file permissions (e.g. to executabl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ckaging of the application (e.g. zip, tar, dm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ecuting these steps manually is time-consuming and the chance of introducing failures is hi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Outline of the Lectur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rpose of Software Configuration Management (SC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Terminol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ftware Configuration Management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utline of  a Software Configuration Management Pl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ild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inous Integ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Typical Problems and Risks in Software Project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533520" y="1294920"/>
            <a:ext cx="81547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ck of project vis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body knows what is going 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te discovery of faul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he later a fault is found, the more expensive it is to fix 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ck of deployabl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t worked on my machine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lso, horizontal integration testing strategies don’t focus on an early running system. It is often created in the last mo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w quality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nagers and developers make last-minute decisions to deliver a system developed with the above proble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ontinuous Integration Motivation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sk #1: The later integration occurs in a project, the bigger is the risk that unexpected faults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sk #2: The higher the complexity of the software system, the more difficult it is to integrate its compon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inous integration addresses these risks by building as early as possible and frequent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itional Advantag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here is always an executable version of the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eam members have a good overview of the project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Definition Continuous Integration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3" name="Textfeld 4"/>
          <p:cNvSpPr/>
          <p:nvPr/>
        </p:nvSpPr>
        <p:spPr>
          <a:xfrm>
            <a:off x="841320" y="1477800"/>
            <a:ext cx="7391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tinuous Integration: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oftware development method where members of a team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ntegrat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ir work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requentl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usually each person integrates at least daily, leading to multiple integrations per day.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integration is verified by a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utomated build including the execution of test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detect integration errors as quickly as possible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ontinuous Integration can regularly answers these Question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 all the software components work togethe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much code is covered by automated test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re all tests successful after the latest chang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my code complexit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team adhering to coding standard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re there any problems with the last deploymen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odeling a Continuous Integration System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533520" y="12952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t up scheduling strategy (poll, event-base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 chan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ecute build script when change has been detecte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un unit test ca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enerate project status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Visualize status of the projec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ve successful builds into Software reposito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onents (Subsystem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ster Directory: V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sion control (IEEE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trolled Library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uilder Subsystem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ecute build script when a change has been detecte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inuous Integration (CI) Serv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nagement Subsystem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isualize project status via Webbrows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tification Subsystem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blishes results of the build via different channels 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-Mail Client, RSS Fee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nalysis: Functional Model for Continuous Integration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2485800" y="2851200"/>
            <a:ext cx="4483080" cy="168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ple Exercise:  Develop the functional model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nalysis: Functional Model for Continuous Integration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21" name="Inhaltsplatzhalter 6" descr="CI-usecases.pdf"/>
          <p:cNvPicPr/>
          <p:nvPr/>
        </p:nvPicPr>
        <p:blipFill>
          <a:blip r:embed="rId1"/>
          <a:srcRect l="-16168" t="0" r="-16168" b="0"/>
          <a:stretch/>
        </p:blipFill>
        <p:spPr>
          <a:xfrm>
            <a:off x="171360" y="1077840"/>
            <a:ext cx="893448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Inhaltsplatzhalter 2"/>
          <p:cNvSpPr/>
          <p:nvPr/>
        </p:nvSpPr>
        <p:spPr>
          <a:xfrm>
            <a:off x="1193760" y="4786200"/>
            <a:ext cx="58071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Design: Deployment Diagram of a Continuous Integration System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24" name="Bild 8" descr="CI-deployment.pdf"/>
          <p:cNvPicPr/>
          <p:nvPr/>
        </p:nvPicPr>
        <p:blipFill>
          <a:blip r:embed="rId1"/>
          <a:stretch/>
        </p:blipFill>
        <p:spPr>
          <a:xfrm>
            <a:off x="577800" y="1231920"/>
            <a:ext cx="826920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Bild 8" descr="CI-deployment.pdf"/>
          <p:cNvPicPr/>
          <p:nvPr/>
        </p:nvPicPr>
        <p:blipFill>
          <a:blip r:embed="rId1"/>
          <a:stretch/>
        </p:blipFill>
        <p:spPr>
          <a:xfrm>
            <a:off x="577800" y="1231920"/>
            <a:ext cx="8269200" cy="5592600"/>
          </a:xfrm>
          <a:prstGeom prst="rect">
            <a:avLst/>
          </a:prstGeom>
          <a:ln w="0">
            <a:noFill/>
          </a:ln>
        </p:spPr>
      </p:pic>
      <p:sp>
        <p:nvSpPr>
          <p:cNvPr id="726" name="Inhaltsplatzhalter 2"/>
          <p:cNvSpPr/>
          <p:nvPr/>
        </p:nvSpPr>
        <p:spPr>
          <a:xfrm>
            <a:off x="1193760" y="4786200"/>
            <a:ext cx="58071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Design of a Continuous Integration System 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8" name="Abgerundete rechteckige Legende 5"/>
          <p:cNvSpPr/>
          <p:nvPr/>
        </p:nvSpPr>
        <p:spPr>
          <a:xfrm>
            <a:off x="760320" y="2367000"/>
            <a:ext cx="8021880" cy="1698480"/>
          </a:xfrm>
          <a:prstGeom prst="wedgeRoundRectCallout">
            <a:avLst>
              <a:gd name="adj1" fmla="val 34143"/>
              <a:gd name="adj2" fmla="val 74717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 Nod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nage Programmer’s Directory (IEEE: Dynamic Library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oftware  Configuration Management clien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tegrated Development Environmen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un build script locally using the Builder Subsystem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Requirements for Build Managemen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rge and distributed software projects need to provide a development infrastructure with an integrated build management that suppor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gular builds from the master direc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execution of te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-mail notif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termination of code metr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publishing of the applications and test results (e.g. to a websit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ols for Build Managemen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x’s Mak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v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Bild 7" descr="CI-deployment.pdf"/>
          <p:cNvPicPr/>
          <p:nvPr/>
        </p:nvPicPr>
        <p:blipFill>
          <a:blip r:embed="rId1"/>
          <a:stretch/>
        </p:blipFill>
        <p:spPr>
          <a:xfrm>
            <a:off x="577800" y="1231920"/>
            <a:ext cx="8269200" cy="559260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Design of a Continuous Integration System (Deployment Diagram)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1" name="Abgerundete rechteckige Legende 6"/>
          <p:cNvSpPr/>
          <p:nvPr/>
        </p:nvSpPr>
        <p:spPr>
          <a:xfrm>
            <a:off x="428760" y="2349360"/>
            <a:ext cx="7834320" cy="1698840"/>
          </a:xfrm>
          <a:prstGeom prst="wedgeRoundRectCallout">
            <a:avLst>
              <a:gd name="adj1" fmla="val -39300"/>
              <a:gd name="adj2" fmla="val 77453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oftware Configuration Management Node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tains the Master Directory (IEEE: Controlled Library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uns the Software Configuration Management Serv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Bild 4" descr="CI-deployment.pdf"/>
          <p:cNvPicPr/>
          <p:nvPr/>
        </p:nvPicPr>
        <p:blipFill>
          <a:blip r:embed="rId1"/>
          <a:stretch/>
        </p:blipFill>
        <p:spPr>
          <a:xfrm>
            <a:off x="577800" y="1231920"/>
            <a:ext cx="8269200" cy="5592600"/>
          </a:xfrm>
          <a:prstGeom prst="rect">
            <a:avLst/>
          </a:prstGeom>
          <a:ln w="0">
            <a:noFill/>
          </a:ln>
        </p:spPr>
      </p:pic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Design of a Continuous Integration System (Deployment Diagram)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4" name="Abgerundete rechteckige Legende 7"/>
          <p:cNvSpPr/>
          <p:nvPr/>
        </p:nvSpPr>
        <p:spPr>
          <a:xfrm>
            <a:off x="87480" y="3909960"/>
            <a:ext cx="9009000" cy="2233800"/>
          </a:xfrm>
          <a:prstGeom prst="wedgeRoundRectCallout">
            <a:avLst>
              <a:gd name="adj1" fmla="val -5203"/>
              <a:gd name="adj2" fmla="val -73865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tegration Build Nod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reates &amp; maintains the Software Repository (IEEE: static library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CM Client interacts with SCM Node if (when) a change has occurred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uns build globally using Builder when a change has been detected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tification component publishes results of the build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ses different channels such as E-Mail or RSS Feed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Bild 4" descr="CI-deployment.pdf"/>
          <p:cNvPicPr/>
          <p:nvPr/>
        </p:nvPicPr>
        <p:blipFill>
          <a:blip r:embed="rId1"/>
          <a:stretch/>
        </p:blipFill>
        <p:spPr>
          <a:xfrm>
            <a:off x="577800" y="1231920"/>
            <a:ext cx="8269200" cy="5592600"/>
          </a:xfrm>
          <a:prstGeom prst="rect">
            <a:avLst/>
          </a:prstGeom>
          <a:ln w="0">
            <a:noFill/>
          </a:ln>
        </p:spPr>
      </p:pic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Design of a Continuous Integration System (Deployment Diagram)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7" name="Abgerundete rechteckige Legende 6"/>
          <p:cNvSpPr/>
          <p:nvPr/>
        </p:nvSpPr>
        <p:spPr>
          <a:xfrm>
            <a:off x="2992320" y="3894120"/>
            <a:ext cx="5897520" cy="2233800"/>
          </a:xfrm>
          <a:prstGeom prst="wedgeRoundRectCallout">
            <a:avLst>
              <a:gd name="adj1" fmla="val -79898"/>
              <a:gd name="adj2" fmla="val -78125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nagement Nod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Visualize build results 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Visualize project metrics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eive notification about build status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Examples of Available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ontinous Integration System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533160" y="1295280"/>
            <a:ext cx="800100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ckpi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uiseControl and CruiseControl.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hi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inu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ud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0" name="Bild 3" descr=""/>
          <p:cNvPicPr/>
          <p:nvPr/>
        </p:nvPicPr>
        <p:blipFill>
          <a:blip r:embed="rId1"/>
          <a:stretch/>
        </p:blipFill>
        <p:spPr>
          <a:xfrm>
            <a:off x="4556160" y="1330200"/>
            <a:ext cx="2476440" cy="533520"/>
          </a:xfrm>
          <a:prstGeom prst="rect">
            <a:avLst/>
          </a:prstGeom>
          <a:ln w="0">
            <a:noFill/>
          </a:ln>
        </p:spPr>
      </p:pic>
      <p:pic>
        <p:nvPicPr>
          <p:cNvPr id="741" name="Bild 4" descr=""/>
          <p:cNvPicPr/>
          <p:nvPr/>
        </p:nvPicPr>
        <p:blipFill>
          <a:blip r:embed="rId2"/>
          <a:stretch/>
        </p:blipFill>
        <p:spPr>
          <a:xfrm>
            <a:off x="2708280" y="2390760"/>
            <a:ext cx="2692440" cy="838080"/>
          </a:xfrm>
          <a:prstGeom prst="rect">
            <a:avLst/>
          </a:prstGeom>
          <a:ln w="0">
            <a:noFill/>
          </a:ln>
        </p:spPr>
      </p:pic>
      <p:sp>
        <p:nvSpPr>
          <p:cNvPr id="742" name="Textfeld 5"/>
          <p:cNvSpPr/>
          <p:nvPr/>
        </p:nvSpPr>
        <p:spPr>
          <a:xfrm>
            <a:off x="543600" y="5029200"/>
            <a:ext cx="703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 of continuous integration tools: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d5500"/>
                </a:solidFill>
                <a:uFillTx/>
                <a:latin typeface="Courier New"/>
                <a:hlinkClick r:id="rId3"/>
              </a:rPr>
              <a:t>http://confluence.public.thoughtworks.org/display/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C/CI+Feature+Matrix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ruiseControl: Subsystem Overview (not in UML!)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44" name="Inhaltsplatzhalter 4" descr=""/>
          <p:cNvPicPr/>
          <p:nvPr/>
        </p:nvPicPr>
        <p:blipFill>
          <a:blip r:embed="rId1"/>
          <a:srcRect l="0" t="-3436" r="0" b="-3436"/>
          <a:stretch/>
        </p:blipFill>
        <p:spPr>
          <a:xfrm>
            <a:off x="800280" y="1165320"/>
            <a:ext cx="7543800" cy="4527360"/>
          </a:xfrm>
          <a:prstGeom prst="rect">
            <a:avLst/>
          </a:prstGeom>
          <a:ln w="0">
            <a:noFill/>
          </a:ln>
        </p:spPr>
      </p:pic>
      <p:sp>
        <p:nvSpPr>
          <p:cNvPr id="745" name="Textfeld 5"/>
          <p:cNvSpPr/>
          <p:nvPr/>
        </p:nvSpPr>
        <p:spPr>
          <a:xfrm>
            <a:off x="-774360" y="5791320"/>
            <a:ext cx="902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ource: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http://cruisecontrol.sourceforge.net/overview.html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ruise Control: The Build Loop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aemon process checks for source code changes in the pro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a change h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ccurred, the subsystem executes the following acti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tain all the build artifacts (described in “config.xml”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ssibly via the project.xml file  (if Maven is us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cute the Build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 the results into a log file (“xml logs”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nd notifications to subscrib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ruise Control: Reporting Module and Dashboard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orting: A Java Server Page (JSP) based web p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s the XML log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ves access to the build artifa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ws build &amp; test resul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shboard: An Ajax based web p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ives overview of projects on the cruise control ser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ruiseControl Directory Layout I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751" name="Gruppierung 74"/>
          <p:cNvGrpSpPr/>
          <p:nvPr/>
        </p:nvGrpSpPr>
        <p:grpSpPr>
          <a:xfrm>
            <a:off x="388440" y="1219320"/>
            <a:ext cx="8723880" cy="5003640"/>
            <a:chOff x="388440" y="1219320"/>
            <a:chExt cx="8723880" cy="5003640"/>
          </a:xfrm>
        </p:grpSpPr>
        <p:sp>
          <p:nvSpPr>
            <p:cNvPr id="752" name="Textfeld 18"/>
            <p:cNvSpPr/>
            <p:nvPr/>
          </p:nvSpPr>
          <p:spPr>
            <a:xfrm>
              <a:off x="6053760" y="1295280"/>
              <a:ext cx="173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Ant binaries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53" name="Textfeld 19"/>
            <p:cNvSpPr/>
            <p:nvPr/>
          </p:nvSpPr>
          <p:spPr>
            <a:xfrm>
              <a:off x="391320" y="2642040"/>
              <a:ext cx="1989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Main 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configuration 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file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54" name="Textfeld 20"/>
            <p:cNvSpPr/>
            <p:nvPr/>
          </p:nvSpPr>
          <p:spPr>
            <a:xfrm>
              <a:off x="5984280" y="2438280"/>
              <a:ext cx="3128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Scripts for starting the 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cruisecontrol server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55" name="Textfeld 21"/>
            <p:cNvSpPr/>
            <p:nvPr/>
          </p:nvSpPr>
          <p:spPr>
            <a:xfrm>
              <a:off x="6501240" y="3276720"/>
              <a:ext cx="2395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Dashboard 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configuration file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56" name="Textfeld 22"/>
            <p:cNvSpPr/>
            <p:nvPr/>
          </p:nvSpPr>
          <p:spPr>
            <a:xfrm>
              <a:off x="6089040" y="4778640"/>
              <a:ext cx="2064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Files needed for operation 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57" name="Textfeld 23"/>
            <p:cNvSpPr/>
            <p:nvPr/>
          </p:nvSpPr>
          <p:spPr>
            <a:xfrm>
              <a:off x="412920" y="4419720"/>
              <a:ext cx="123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Log files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58" name="Textfeld 24"/>
            <p:cNvSpPr/>
            <p:nvPr/>
          </p:nvSpPr>
          <p:spPr>
            <a:xfrm>
              <a:off x="388440" y="5105520"/>
              <a:ext cx="1985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Projects to be 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build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59" name="Gerade Verbindung 25"/>
            <p:cNvSpPr/>
            <p:nvPr/>
          </p:nvSpPr>
          <p:spPr>
            <a:xfrm flipH="1">
              <a:off x="5414760" y="3733920"/>
              <a:ext cx="98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760" name="Bild 40" descr=""/>
            <p:cNvPicPr/>
            <p:nvPr/>
          </p:nvPicPr>
          <p:blipFill>
            <a:blip r:embed="rId1"/>
            <a:stretch/>
          </p:blipFill>
          <p:spPr>
            <a:xfrm>
              <a:off x="2844720" y="1219320"/>
              <a:ext cx="2489040" cy="50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Gerade Verbindung 26"/>
            <p:cNvSpPr/>
            <p:nvPr/>
          </p:nvSpPr>
          <p:spPr>
            <a:xfrm flipH="1" flipV="1">
              <a:off x="4343040" y="4724280"/>
              <a:ext cx="1745640" cy="40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2" name="Gerade Verbindung 29"/>
            <p:cNvSpPr/>
            <p:nvPr/>
          </p:nvSpPr>
          <p:spPr>
            <a:xfrm flipH="1" flipV="1">
              <a:off x="4343040" y="4190760"/>
              <a:ext cx="1745640" cy="9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3" name="Gerade Verbindung 32"/>
            <p:cNvSpPr/>
            <p:nvPr/>
          </p:nvSpPr>
          <p:spPr>
            <a:xfrm flipH="1">
              <a:off x="4343040" y="5132520"/>
              <a:ext cx="1745640" cy="88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4" name="Gerade Verbindung 51"/>
            <p:cNvSpPr/>
            <p:nvPr/>
          </p:nvSpPr>
          <p:spPr>
            <a:xfrm flipH="1">
              <a:off x="4952880" y="2791800"/>
              <a:ext cx="100008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5" name="Gerade Verbindung 52"/>
            <p:cNvSpPr/>
            <p:nvPr/>
          </p:nvSpPr>
          <p:spPr>
            <a:xfrm flipH="1">
              <a:off x="4952880" y="2791800"/>
              <a:ext cx="1000080" cy="48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6" name="Gerade Verbindung 16"/>
            <p:cNvSpPr/>
            <p:nvPr/>
          </p:nvSpPr>
          <p:spPr>
            <a:xfrm flipH="1" flipV="1">
              <a:off x="5105160" y="1447920"/>
              <a:ext cx="909720" cy="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7" name="Gerade Verbindung 59"/>
            <p:cNvSpPr/>
            <p:nvPr/>
          </p:nvSpPr>
          <p:spPr>
            <a:xfrm flipH="1">
              <a:off x="2361600" y="2362320"/>
              <a:ext cx="685800" cy="78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8" name="Gerade Verbindung 61"/>
            <p:cNvSpPr/>
            <p:nvPr/>
          </p:nvSpPr>
          <p:spPr>
            <a:xfrm flipH="1" flipV="1">
              <a:off x="1675800" y="4648320"/>
              <a:ext cx="10666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9" name="Gerade Verbindung 64"/>
            <p:cNvSpPr/>
            <p:nvPr/>
          </p:nvSpPr>
          <p:spPr>
            <a:xfrm flipH="1">
              <a:off x="1904760" y="5562000"/>
              <a:ext cx="83808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0" name="Textfeld 68"/>
            <p:cNvSpPr/>
            <p:nvPr/>
          </p:nvSpPr>
          <p:spPr>
            <a:xfrm>
              <a:off x="407880" y="1523880"/>
              <a:ext cx="197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Build artifacts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1" name="Gerade Verbindung 70"/>
            <p:cNvSpPr/>
            <p:nvPr/>
          </p:nvSpPr>
          <p:spPr>
            <a:xfrm flipH="1" flipV="1">
              <a:off x="2413800" y="1724040"/>
              <a:ext cx="328680" cy="10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ruiseControl Directory Layout II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773" name="Gruppierung 15"/>
          <p:cNvGrpSpPr/>
          <p:nvPr/>
        </p:nvGrpSpPr>
        <p:grpSpPr>
          <a:xfrm>
            <a:off x="465120" y="1219320"/>
            <a:ext cx="7924680" cy="4863240"/>
            <a:chOff x="465120" y="1219320"/>
            <a:chExt cx="7924680" cy="4863240"/>
          </a:xfrm>
        </p:grpSpPr>
        <p:pic>
          <p:nvPicPr>
            <p:cNvPr id="774" name="Inhaltsplatzhalter 4" descr=""/>
            <p:cNvPicPr/>
            <p:nvPr/>
          </p:nvPicPr>
          <p:blipFill>
            <a:blip r:embed="rId1"/>
            <a:stretch/>
          </p:blipFill>
          <p:spPr>
            <a:xfrm>
              <a:off x="465120" y="1219320"/>
              <a:ext cx="4335480" cy="47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5" name="Geschweifte Klammer rechts 8"/>
            <p:cNvSpPr/>
            <p:nvPr/>
          </p:nvSpPr>
          <p:spPr>
            <a:xfrm>
              <a:off x="3047760" y="1904760"/>
              <a:ext cx="304560" cy="99036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7920 h 990360"/>
                <a:gd name="textAreaBottom" fmla="*/ 98244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277"/>
                    <a:pt x="10800" y="554"/>
                  </a:cubicBezTo>
                  <a:lnTo>
                    <a:pt x="10800" y="10246"/>
                  </a:lnTo>
                  <a:cubicBezTo>
                    <a:pt x="10800" y="10523"/>
                    <a:pt x="16200" y="10800"/>
                    <a:pt x="21600" y="10800"/>
                  </a:cubicBezTo>
                  <a:cubicBezTo>
                    <a:pt x="16200" y="10800"/>
                    <a:pt x="10800" y="11077"/>
                    <a:pt x="10800" y="11354"/>
                  </a:cubicBezTo>
                  <a:lnTo>
                    <a:pt x="10800" y="21046"/>
                  </a:lnTo>
                  <a:cubicBezTo>
                    <a:pt x="10800" y="21323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6" name="Textfeld 9"/>
            <p:cNvSpPr/>
            <p:nvPr/>
          </p:nvSpPr>
          <p:spPr>
            <a:xfrm>
              <a:off x="3392640" y="2133360"/>
              <a:ext cx="226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Project folders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7" name="Geschweifte Klammer rechts 10"/>
            <p:cNvSpPr/>
            <p:nvPr/>
          </p:nvSpPr>
          <p:spPr>
            <a:xfrm>
              <a:off x="4343400" y="3200040"/>
              <a:ext cx="228600" cy="2057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760 h 2057040"/>
                <a:gd name="textAreaBottom" fmla="*/ 2051280 h 205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00"/>
                    <a:pt x="10800" y="200"/>
                  </a:cubicBezTo>
                  <a:lnTo>
                    <a:pt x="10800" y="10600"/>
                  </a:lnTo>
                  <a:cubicBezTo>
                    <a:pt x="10800" y="10700"/>
                    <a:pt x="16200" y="10800"/>
                    <a:pt x="21600" y="10800"/>
                  </a:cubicBezTo>
                  <a:cubicBezTo>
                    <a:pt x="16200" y="10800"/>
                    <a:pt x="10800" y="10900"/>
                    <a:pt x="10800" y="11000"/>
                  </a:cubicBezTo>
                  <a:lnTo>
                    <a:pt x="10800" y="21400"/>
                  </a:lnTo>
                  <a:cubicBezTo>
                    <a:pt x="10800" y="215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8" name="Textfeld 11"/>
            <p:cNvSpPr/>
            <p:nvPr/>
          </p:nvSpPr>
          <p:spPr>
            <a:xfrm>
              <a:off x="4667400" y="3816720"/>
              <a:ext cx="3722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Timestamp named 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folders for build artifacts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9" name="Geschweifte Klammer rechts 13"/>
            <p:cNvSpPr/>
            <p:nvPr/>
          </p:nvSpPr>
          <p:spPr>
            <a:xfrm>
              <a:off x="4876920" y="5409720"/>
              <a:ext cx="228600" cy="60948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760 h 609480"/>
                <a:gd name="textAreaBottom" fmla="*/ 6037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338"/>
                    <a:pt x="10800" y="675"/>
                  </a:cubicBezTo>
                  <a:lnTo>
                    <a:pt x="10800" y="10125"/>
                  </a:lnTo>
                  <a:cubicBezTo>
                    <a:pt x="10800" y="10463"/>
                    <a:pt x="16200" y="10800"/>
                    <a:pt x="21600" y="10800"/>
                  </a:cubicBezTo>
                  <a:cubicBezTo>
                    <a:pt x="16200" y="10800"/>
                    <a:pt x="10800" y="11138"/>
                    <a:pt x="10800" y="11475"/>
                  </a:cubicBezTo>
                  <a:lnTo>
                    <a:pt x="10800" y="20925"/>
                  </a:lnTo>
                  <a:cubicBezTo>
                    <a:pt x="10800" y="21263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80" name="Textfeld 14"/>
            <p:cNvSpPr/>
            <p:nvPr/>
          </p:nvSpPr>
          <p:spPr>
            <a:xfrm>
              <a:off x="5135040" y="5257080"/>
              <a:ext cx="3125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Project artifacts of a 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specific build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ruiseControl Webpag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82" name="Bild 12" descr=""/>
          <p:cNvPicPr/>
          <p:nvPr/>
        </p:nvPicPr>
        <p:blipFill>
          <a:blip r:embed="rId1"/>
          <a:stretch/>
        </p:blipFill>
        <p:spPr>
          <a:xfrm>
            <a:off x="482760" y="1359000"/>
            <a:ext cx="8178480" cy="2984400"/>
          </a:xfrm>
          <a:prstGeom prst="rect">
            <a:avLst/>
          </a:prstGeom>
          <a:ln w="0">
            <a:noFill/>
          </a:ln>
        </p:spPr>
      </p:pic>
      <p:sp>
        <p:nvSpPr>
          <p:cNvPr id="783" name="Textfeld 15"/>
          <p:cNvSpPr/>
          <p:nvPr/>
        </p:nvSpPr>
        <p:spPr>
          <a:xfrm>
            <a:off x="2288520" y="4495680"/>
            <a:ext cx="456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http://localhost:8080/cruisecontrol/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ctivities in Build Managemen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ransition from source code to the executable application contains many mechanical (boring) activitie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s required paths and libra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iling source c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pying source files (e.g. images, sound files, start script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of file permissions (e.g. to executabl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ckaging of the application (e.g. zip, tar, dm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ecuting these steps manually is time-consuming and the chance of introducing failures is hi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mating these steps has its origins in Uni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ruiseControl Webpag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Textfeld 15"/>
          <p:cNvSpPr/>
          <p:nvPr/>
        </p:nvSpPr>
        <p:spPr>
          <a:xfrm>
            <a:off x="2288880" y="4870440"/>
            <a:ext cx="408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http://localhost:8080/dashboard/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86" name="Bild 4" descr=""/>
          <p:cNvPicPr/>
          <p:nvPr/>
        </p:nvPicPr>
        <p:blipFill>
          <a:blip r:embed="rId1"/>
          <a:stretch/>
        </p:blipFill>
        <p:spPr>
          <a:xfrm>
            <a:off x="371520" y="1054080"/>
            <a:ext cx="840096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Getting Started with CruiseControl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wnload CruiseControl binary distrib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d5500"/>
                </a:solidFill>
                <a:uFillTx/>
                <a:latin typeface="Verdana"/>
                <a:hlinkClick r:id="rId1"/>
              </a:rPr>
              <a:t>http://cruisecontrol.sourceforge.net/download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zip downloaded arch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n cruisecontrol.sh (.ba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tch the example project being buil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3d5500"/>
                </a:solidFill>
                <a:uFillTx/>
                <a:latin typeface="Verdana"/>
                <a:hlinkClick r:id="rId2"/>
              </a:rPr>
              <a:t>http://localhost:8080/cruisecontr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ify config.xml to include your own pro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nt Referenc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ant.apache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codefeed.com/tutorial/ant_intro.ht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blog.ideoplex.com/software/java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www.iseran.com/Java/ant/tutorial/ant_tutorial.ht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www.javaworld.com/javaworld/jw-10-2000/jw-1020-ant.ht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aven Referenc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maven.apache.org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www.sandcastsoftware.com/articlesandtutorials/index.ht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www-106.ibm.com/developerworks/java/library/j-maven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www.jpox.org/docs/1_1/tutorials/maven.ht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Further Reading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Duvall 2007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ul M. Duvall, Steve Matyas and Andrew Glover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tinuous Integration. Improving Software Quality and Reducing Risk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dison Wesley, Upper Saddle River, NJ, 200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Tomorrow’s Exercis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306000" y="1050840"/>
            <a:ext cx="8597880" cy="528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Goal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ing able to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et up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anag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inuous integ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eam-based organization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xercise is tea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e r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mend a team size of 5 people (4-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oose a team lea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quipmen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ring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t least 2 laptop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er team to the class ro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eparation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Mandatory, by midnigh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-Mail the team member names to </a:t>
            </a:r>
            <a:r>
              <a:rPr b="0" lang="en-US" sz="1800" spc="-1" strike="noStrike" u="sng">
                <a:solidFill>
                  <a:srgbClr val="3d5500"/>
                </a:solidFill>
                <a:uFillTx/>
                <a:latin typeface="Verdana"/>
                <a:ea typeface="ＭＳ Ｐゴシック"/>
                <a:hlinkClick r:id="rId1"/>
              </a:rPr>
              <a:t>naughton@in.tum.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t up Eclipse on at least one of the team lapto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eck out and study the Bumpers project using the information available on the exerci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rtal : </a:t>
            </a:r>
            <a:r>
              <a:rPr b="0" lang="en-US" sz="1800" spc="-1" strike="noStrike" u="sng">
                <a:solidFill>
                  <a:srgbClr val="3d5500"/>
                </a:solidFill>
                <a:uFillTx/>
                <a:latin typeface="Verdana"/>
                <a:hlinkClick r:id="rId2"/>
              </a:rPr>
              <a:t>https://wwwbruegge.informatik.tu-muenchen.de/twiki/bin/view/Lehrstuhl/POMSS09Exerci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Additional detail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distributed at the beginning of the exercise sess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Inhaltsplatzhalter 2"/>
          <p:cNvSpPr/>
          <p:nvPr/>
        </p:nvSpPr>
        <p:spPr>
          <a:xfrm>
            <a:off x="1193760" y="4786200"/>
            <a:ext cx="58071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Deployment in tomorrows exercise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99" name="Bild 8" descr="CI-deployment.pdf"/>
          <p:cNvPicPr/>
          <p:nvPr/>
        </p:nvPicPr>
        <p:blipFill>
          <a:blip r:embed="rId1"/>
          <a:stretch/>
        </p:blipFill>
        <p:spPr>
          <a:xfrm>
            <a:off x="577800" y="1231920"/>
            <a:ext cx="8269200" cy="5592600"/>
          </a:xfrm>
          <a:prstGeom prst="rect">
            <a:avLst/>
          </a:prstGeom>
          <a:ln w="0">
            <a:noFill/>
          </a:ln>
        </p:spPr>
      </p:pic>
      <p:sp>
        <p:nvSpPr>
          <p:cNvPr id="800" name="Rechteck 4"/>
          <p:cNvSpPr/>
          <p:nvPr/>
        </p:nvSpPr>
        <p:spPr>
          <a:xfrm>
            <a:off x="3762360" y="1254240"/>
            <a:ext cx="5048280" cy="25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1" name="Rechteck 5"/>
          <p:cNvSpPr/>
          <p:nvPr/>
        </p:nvSpPr>
        <p:spPr>
          <a:xfrm>
            <a:off x="374760" y="4302000"/>
            <a:ext cx="2927160" cy="255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Backup Slid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03" name="" descr=""/>
          <p:cNvPicPr/>
          <p:nvPr/>
        </p:nvPicPr>
        <p:blipFill>
          <a:blip r:embed="rId1"/>
          <a:stretch/>
        </p:blipFill>
        <p:spPr>
          <a:xfrm>
            <a:off x="533160" y="1294920"/>
            <a:ext cx="8001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Examples of concrete Ant Tasks 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5" name="Text Box 4"/>
          <p:cNvSpPr/>
          <p:nvPr/>
        </p:nvSpPr>
        <p:spPr>
          <a:xfrm>
            <a:off x="978120" y="5105520"/>
            <a:ext cx="627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ach Ant Task is a Java application.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 tasks can be implemented in Java to suppor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stom needs.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806" name="Picture 5" descr="AntBuildFileClassDiagram_2"/>
          <p:cNvPicPr/>
          <p:nvPr/>
        </p:nvPicPr>
        <p:blipFill>
          <a:blip r:embed="rId1"/>
          <a:stretch/>
        </p:blipFill>
        <p:spPr>
          <a:xfrm>
            <a:off x="200160" y="1066680"/>
            <a:ext cx="8742240" cy="39816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nother Ant Exampl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8" name="AutoShape 3"/>
          <p:cNvSpPr/>
          <p:nvPr/>
        </p:nvSpPr>
        <p:spPr>
          <a:xfrm>
            <a:off x="228600" y="990720"/>
            <a:ext cx="7848720" cy="571500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project name="Asteroids" default=”compile" basedir="."&gt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target name="compile" &gt;  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mkdir dir="classes"/&gt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javac srcdir="src" destdir="classes” /&gt; 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copy todir="classes/org/globalse/oose/asteroids"&gt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fileset dir="src/org/globalse/oose/asteroids"&gt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include name="**/*.gif"/&gt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include name="**/*.wav"/&gt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exclude name="**/*.java"/&gt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/fileset&gt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/copy&gt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/target&gt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target name="jar" depends="compile"&gt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jar destfile=”Asteroids.jar” basedir=”classes” /&gt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/target&gt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/project&gt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Development of  Build Managemen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50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cution of a sequence of command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b command language scrip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70s: mak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x tool to support builds with makefi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90s: 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 platform independent build too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00s: Mav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ject management and integrated build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nother Ant Example  (2)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0" name="Rectangle 3"/>
          <p:cNvSpPr/>
          <p:nvPr/>
        </p:nvSpPr>
        <p:spPr>
          <a:xfrm>
            <a:off x="457200" y="1143000"/>
            <a:ext cx="8153280" cy="5181480"/>
          </a:xfrm>
          <a:prstGeom prst="rect">
            <a:avLst/>
          </a:prstGeom>
          <a:solidFill>
            <a:srgbClr val="fde5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 ant compil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ildfile: build.xml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pile: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mkdir] Created dir: /Users/wolft/Asteroids/classes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javac] Compiling 12 source files to /Users/wolft/Asteroids/classes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py] Copying 6 files to /Users/wolft/Asteroids/classes/org/globalse/oose/asteroids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ILD SUCCESSFUL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otal time: 6 seconds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nother Ant Example (3)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2" name="Rectangle 3"/>
          <p:cNvSpPr/>
          <p:nvPr/>
        </p:nvSpPr>
        <p:spPr>
          <a:xfrm>
            <a:off x="457200" y="1143000"/>
            <a:ext cx="8153280" cy="5181480"/>
          </a:xfrm>
          <a:prstGeom prst="rect">
            <a:avLst/>
          </a:prstGeom>
          <a:solidFill>
            <a:srgbClr val="fde5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 ant ja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ildfile: build.xml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pile: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r: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jar] Building jar: /Users/wolft/Asteroids/Asteroids.ja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ILD SUCCESSFUL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otal time: 2 seconds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Example: Build Management in Unix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ix comm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ecutes compilation of large programs according to a set of dependency ru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pendency r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e structure of prerequisi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me stamps of fi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ample of a dependency rul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.obj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main.c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cc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ヒラギノ角ゴ Pro W3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 main.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Example Makefil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oject.ex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main.obj io.obj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link main.obj, io.obj, project.ex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.obj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main.c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cc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ヒラギノ角ゴ Pro W3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 main.c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o.obj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io.c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cc - c io.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ak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is as powerful as the existing commands it execu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wever, make has its problem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lex shell scripts are hard to maintain and hard to debu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shell commands  are needed on different platfor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rs step towards platform independence: A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_x000e_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09:39:15Z</dcterms:created>
  <dc:creator>Bernd Bruegge</dc:creator>
  <dc:description/>
  <cp:keywords/>
  <dc:language>en-US</dc:language>
  <cp:lastModifiedBy>Bernd Bruegge</cp:lastModifiedBy>
  <cp:lastPrinted>2005-04-07T15:56:13Z</cp:lastPrinted>
  <dcterms:modified xsi:type="dcterms:W3CDTF">2009-08-04T07:12:04Z</dcterms:modified>
  <cp:revision>99</cp:revision>
  <dc:subject>Object-Oriented Software Engineering</dc:subject>
  <dc:title> Software  Configuration Management </dc:title>
</cp:coreProperties>
</file>