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1971-6095-4D3B-9EF8-2CE72B7C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4458-8B81-405C-AF43-14AA0B06C00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Feature List (”Product Backlog”): List of Issues for the whol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on Feature List (”Sprint Backlog”): List of Issues for an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nagement Activ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the Project Backlog: List of features from  developers, manager and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the Sprint Backlog: List of issues to be addressed in current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ypes of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off Meeting: At the beginning of a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t Planning Meeting: At the beginning of an iteration (”sprint”) to establish a list of prioritized features to be impleme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Scrum: Daily informal status meeting, about 15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t Review Meeting: Demonstration of features, shown to management and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9BFF-A732-4F40-8E93-89F28D977DF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6613-903E-4CDC-B122-D6D4A4B2377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waiting for instructions, the team takes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ugby the whole team move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E21-F091-4BBD-985E-E68F0E1C7AB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BFD-73A3-47A9-8EFE-6BAB3161FD6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4527-84EC-4ED5-A1F6-55567BAD624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766-5634-4ADE-91DC-6B75030F33A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EB96-215B-4722-A4F6-BC6366EFF20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lnSpc>
                <a:spcPts val="25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-oriented software lifecycle with 30-day iterations (called “sprint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5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7450200" y="6477120"/>
            <a:ext cx="280800" cy="152280"/>
          </a:xfrm>
          <a:custGeom>
            <a:avLst/>
            <a:gdLst>
              <a:gd name="textAreaLeft" fmla="*/ 9720 w 280800"/>
              <a:gd name="textAreaRight" fmla="*/ 271080 w 2808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9787" h="21600">
                <a:moveTo>
                  <a:pt x="0" y="0"/>
                </a:moveTo>
                <a:lnTo>
                  <a:pt x="39787" y="0"/>
                </a:lnTo>
                <a:lnTo>
                  <a:pt x="39787" y="21600"/>
                </a:lnTo>
                <a:lnTo>
                  <a:pt x="0" y="21600"/>
                </a:lnTo>
                <a:close/>
              </a:path>
              <a:path fill="lightenLess" w="39787" h="21600">
                <a:moveTo>
                  <a:pt x="0" y="0"/>
                </a:moveTo>
                <a:lnTo>
                  <a:pt x="39787" y="0"/>
                </a:lnTo>
                <a:lnTo>
                  <a:pt x="38387" y="1400"/>
                </a:lnTo>
                <a:lnTo>
                  <a:pt x="1400" y="1400"/>
                </a:lnTo>
                <a:close/>
              </a:path>
              <a:path fill="darken" w="39787" h="21600">
                <a:moveTo>
                  <a:pt x="39787" y="0"/>
                </a:moveTo>
                <a:lnTo>
                  <a:pt x="39787" y="21600"/>
                </a:lnTo>
                <a:lnTo>
                  <a:pt x="38387" y="20200"/>
                </a:lnTo>
                <a:lnTo>
                  <a:pt x="38387" y="1400"/>
                </a:lnTo>
                <a:close/>
              </a:path>
              <a:path fill="darkenLess" w="39787" h="21600">
                <a:moveTo>
                  <a:pt x="39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87" y="20200"/>
                </a:lnTo>
                <a:close/>
              </a:path>
              <a:path fill="lighten" w="39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87" h="21600">
                <a:moveTo>
                  <a:pt x="12887" y="7493"/>
                </a:moveTo>
                <a:lnTo>
                  <a:pt x="16395" y="7493"/>
                </a:lnTo>
                <a:lnTo>
                  <a:pt x="16395" y="12828"/>
                </a:lnTo>
                <a:cubicBezTo>
                  <a:pt x="16395" y="13751"/>
                  <a:pt x="17195" y="14482"/>
                  <a:pt x="18231" y="14482"/>
                </a:cubicBezTo>
                <a:lnTo>
                  <a:pt x="19893" y="14482"/>
                </a:lnTo>
                <a:cubicBezTo>
                  <a:pt x="20929" y="14482"/>
                  <a:pt x="21730" y="13751"/>
                  <a:pt x="21730" y="12828"/>
                </a:cubicBezTo>
                <a:lnTo>
                  <a:pt x="21730" y="7493"/>
                </a:lnTo>
                <a:lnTo>
                  <a:pt x="19893" y="7493"/>
                </a:lnTo>
                <a:lnTo>
                  <a:pt x="23401" y="3985"/>
                </a:lnTo>
                <a:lnTo>
                  <a:pt x="27074" y="7493"/>
                </a:lnTo>
                <a:lnTo>
                  <a:pt x="25237" y="7493"/>
                </a:lnTo>
                <a:lnTo>
                  <a:pt x="25237" y="12828"/>
                </a:lnTo>
                <a:cubicBezTo>
                  <a:pt x="25237" y="15596"/>
                  <a:pt x="22661" y="18155"/>
                  <a:pt x="19893" y="18155"/>
                </a:cubicBezTo>
                <a:lnTo>
                  <a:pt x="18231" y="18155"/>
                </a:lnTo>
                <a:cubicBezTo>
                  <a:pt x="15463" y="18155"/>
                  <a:pt x="12887" y="15596"/>
                  <a:pt x="12887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ing UML, Patterns, and Ja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61120" y="317376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bject-Oriented Software Engineer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92240" y="133200"/>
            <a:ext cx="6256440" cy="6510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07720" y="234720"/>
            <a:ext cx="5953320" cy="1143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16, Methodologies: Scrum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aging a Software Project with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20320"/>
            <a:ext cx="8001000" cy="53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acklog: Issues for the whol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Backlog: Issues for one iteration(“sprint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anagement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the Project Backlog: List of requirements from stakeholders (developers, manager and custom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the Sprint Backlog: List of issues to be addressed in current 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 Types of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ckoff Meeting: At the beginning of a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Planning Meeting: List of prioritized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Scrum: Informal status meeting, about 15 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Review Meeting: Demonstration of features to management and custo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41520" y="2000160"/>
            <a:ext cx="2146320" cy="927000"/>
            <a:chOff x="1541520" y="2000160"/>
            <a:chExt cx="2146320" cy="927000"/>
          </a:xfrm>
        </p:grpSpPr>
        <p:sp>
          <p:nvSpPr>
            <p:cNvPr id="190" name="Freeform 3"/>
            <p:cNvSpPr/>
            <p:nvPr/>
          </p:nvSpPr>
          <p:spPr>
            <a:xfrm>
              <a:off x="1541520" y="2000160"/>
              <a:ext cx="2146320" cy="927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1" name="Text Box 4"/>
            <p:cNvSpPr/>
            <p:nvPr/>
          </p:nvSpPr>
          <p:spPr>
            <a:xfrm>
              <a:off x="1698480" y="2147760"/>
              <a:ext cx="190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reate Projec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2" name="Group 5"/>
          <p:cNvGrpSpPr/>
          <p:nvPr/>
        </p:nvGrpSpPr>
        <p:grpSpPr>
          <a:xfrm>
            <a:off x="1600200" y="4730760"/>
            <a:ext cx="1994040" cy="1054080"/>
            <a:chOff x="1600200" y="4730760"/>
            <a:chExt cx="1994040" cy="1054080"/>
          </a:xfrm>
        </p:grpSpPr>
        <p:sp>
          <p:nvSpPr>
            <p:cNvPr id="193" name="Freeform 6"/>
            <p:cNvSpPr/>
            <p:nvPr/>
          </p:nvSpPr>
          <p:spPr>
            <a:xfrm>
              <a:off x="1600200" y="4730760"/>
              <a:ext cx="1994040" cy="1054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788840" y="4954680"/>
              <a:ext cx="1789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reate 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5" name="Group 8"/>
          <p:cNvGrpSpPr/>
          <p:nvPr/>
        </p:nvGrpSpPr>
        <p:grpSpPr>
          <a:xfrm>
            <a:off x="4395960" y="3556080"/>
            <a:ext cx="1172880" cy="1270080"/>
            <a:chOff x="4395960" y="3556080"/>
            <a:chExt cx="1172880" cy="1270080"/>
          </a:xfrm>
        </p:grpSpPr>
        <p:sp>
          <p:nvSpPr>
            <p:cNvPr id="196" name="Freeform 9"/>
            <p:cNvSpPr/>
            <p:nvPr/>
          </p:nvSpPr>
          <p:spPr>
            <a:xfrm>
              <a:off x="4395960" y="3556080"/>
              <a:ext cx="1172880" cy="1270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4492080" y="3862440"/>
              <a:ext cx="1008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8" name="Group 11"/>
          <p:cNvGrpSpPr/>
          <p:nvPr/>
        </p:nvGrpSpPr>
        <p:grpSpPr>
          <a:xfrm>
            <a:off x="1612800" y="3321000"/>
            <a:ext cx="1992240" cy="1054080"/>
            <a:chOff x="1612800" y="3321000"/>
            <a:chExt cx="1992240" cy="1054080"/>
          </a:xfrm>
        </p:grpSpPr>
        <p:sp>
          <p:nvSpPr>
            <p:cNvPr id="199" name="Freeform 12"/>
            <p:cNvSpPr/>
            <p:nvPr/>
          </p:nvSpPr>
          <p:spPr>
            <a:xfrm>
              <a:off x="1612800" y="3321000"/>
              <a:ext cx="1992240" cy="1054080"/>
            </a:xfrm>
            <a:prstGeom prst="pie">
              <a:avLst/>
            </a:prstGeom>
            <a:solidFill>
              <a:srgbClr val="4bff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2152800" y="3367080"/>
              <a:ext cx="1146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lann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6585120" y="4768920"/>
            <a:ext cx="1993680" cy="1054080"/>
            <a:chOff x="6585120" y="4768920"/>
            <a:chExt cx="1993680" cy="1054080"/>
          </a:xfrm>
        </p:grpSpPr>
        <p:sp>
          <p:nvSpPr>
            <p:cNvPr id="202" name="Freeform 15"/>
            <p:cNvSpPr/>
            <p:nvPr/>
          </p:nvSpPr>
          <p:spPr>
            <a:xfrm>
              <a:off x="6585120" y="4768920"/>
              <a:ext cx="1993680" cy="1054080"/>
            </a:xfrm>
            <a:prstGeom prst="pie">
              <a:avLst/>
            </a:prstGeom>
            <a:solidFill>
              <a:srgbClr val="1bff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7184160" y="4815000"/>
              <a:ext cx="103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Daily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crum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6585120" y="3486240"/>
            <a:ext cx="1993680" cy="1054080"/>
            <a:chOff x="6585120" y="3486240"/>
            <a:chExt cx="1993680" cy="1054080"/>
          </a:xfrm>
        </p:grpSpPr>
        <p:sp>
          <p:nvSpPr>
            <p:cNvPr id="205" name="Freeform 18"/>
            <p:cNvSpPr/>
            <p:nvPr/>
          </p:nvSpPr>
          <p:spPr>
            <a:xfrm>
              <a:off x="6585120" y="3486240"/>
              <a:ext cx="1993680" cy="1054080"/>
            </a:xfrm>
            <a:prstGeom prst="pie">
              <a:avLst/>
            </a:prstGeom>
            <a:solidFill>
              <a:srgbClr val="14ff2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7090560" y="3532320"/>
              <a:ext cx="103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Review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07" name="Line 20"/>
          <p:cNvSpPr/>
          <p:nvPr/>
        </p:nvSpPr>
        <p:spPr>
          <a:xfrm>
            <a:off x="3600360" y="3987720"/>
            <a:ext cx="7970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576600" y="2743200"/>
            <a:ext cx="12780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3611520" y="2425680"/>
            <a:ext cx="79848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4395960" y="1447920"/>
            <a:ext cx="1172880" cy="1269720"/>
            <a:chOff x="4395960" y="1447920"/>
            <a:chExt cx="1172880" cy="1269720"/>
          </a:xfrm>
        </p:grpSpPr>
        <p:sp>
          <p:nvSpPr>
            <p:cNvPr id="211" name="Freeform 24"/>
            <p:cNvSpPr/>
            <p:nvPr/>
          </p:nvSpPr>
          <p:spPr>
            <a:xfrm>
              <a:off x="4395960" y="1447920"/>
              <a:ext cx="1172880" cy="1269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4527360" y="1792080"/>
              <a:ext cx="1008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roject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1353960" y="1022400"/>
            <a:ext cx="3043080" cy="996840"/>
            <a:chOff x="1353960" y="1022400"/>
            <a:chExt cx="3043080" cy="996840"/>
          </a:xfrm>
        </p:grpSpPr>
        <p:grpSp>
          <p:nvGrpSpPr>
            <p:cNvPr id="214" name="Group 27"/>
            <p:cNvGrpSpPr/>
            <p:nvPr/>
          </p:nvGrpSpPr>
          <p:grpSpPr>
            <a:xfrm>
              <a:off x="1353960" y="1022400"/>
              <a:ext cx="2145960" cy="927000"/>
              <a:chOff x="1353960" y="1022400"/>
              <a:chExt cx="2145960" cy="927000"/>
            </a:xfrm>
          </p:grpSpPr>
          <p:sp>
            <p:nvSpPr>
              <p:cNvPr id="215" name="Freeform 28"/>
              <p:cNvSpPr/>
              <p:nvPr/>
            </p:nvSpPr>
            <p:spPr>
              <a:xfrm>
                <a:off x="1353960" y="1022400"/>
                <a:ext cx="2145960" cy="927000"/>
              </a:xfrm>
              <a:prstGeom prst="pie">
                <a:avLst/>
              </a:prstGeom>
              <a:solidFill>
                <a:srgbClr val="27ff2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Text Box 29"/>
              <p:cNvSpPr/>
              <p:nvPr/>
            </p:nvSpPr>
            <p:spPr>
              <a:xfrm>
                <a:off x="1929240" y="1157400"/>
                <a:ext cx="10386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Palatino"/>
                  </a:rPr>
                  <a:t>Kickoff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Palatino"/>
                  </a:rPr>
                  <a:t>Meeting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7" name="Line 30"/>
            <p:cNvSpPr/>
            <p:nvPr/>
          </p:nvSpPr>
          <p:spPr>
            <a:xfrm>
              <a:off x="3494160" y="1523880"/>
              <a:ext cx="90288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8" name="Line 31"/>
          <p:cNvSpPr/>
          <p:nvPr/>
        </p:nvSpPr>
        <p:spPr>
          <a:xfrm flipV="1">
            <a:off x="3540960" y="4546080"/>
            <a:ext cx="80964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Line 32"/>
          <p:cNvSpPr/>
          <p:nvPr/>
        </p:nvSpPr>
        <p:spPr>
          <a:xfrm flipV="1">
            <a:off x="5570640" y="4076640"/>
            <a:ext cx="1008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5594400" y="4394160"/>
            <a:ext cx="10778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Line 34"/>
          <p:cNvSpPr/>
          <p:nvPr/>
        </p:nvSpPr>
        <p:spPr>
          <a:xfrm flipH="1" flipV="1">
            <a:off x="5581440" y="2031480"/>
            <a:ext cx="165420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 flipH="1" flipV="1">
            <a:off x="5359320" y="4889520"/>
            <a:ext cx="12304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sts, Activities and Meetings in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istics of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47400"/>
            <a:ext cx="819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s of work is done by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s are put in a time-box and told to create a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ams focus on what can be done and how the problem can be solv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s are self-organizing, no formal agend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es and tasks and are established by th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stimates are also done by th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istics of 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ngle place for informal daily meet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is more than a meeting management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ormal planning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PERT Charts, no cost estimates, no roles, no individual assig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functionality is delivered increme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s are regularly built &amp; discussed (“daily build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Scrum Kickoff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Product Backlo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Backlog is never expected to be finalized, even if the project is finis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Backlog content comes from many sources: Users, Customers, Sales, Marketing, Customer Service and Engineer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product ow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the product owner can prioritize the Product Backlo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 Scrum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functional teams that do th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um teams select from the Product Backlog as much as they believe they can develop in additional system functionality  within a 30 day iteration (“sprint”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371760" y="3556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Sprint Planning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to the customer:  Understand the task at h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roblem do we need  to sol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the Sprint Backlog (“list of issu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rt the issues by highest-prio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kills do we hav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kills do we need to learn? (Read Ant, Read XML, Modify Configuration Makef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system functionality for the s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next functionality to be implemen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needs to be done to build 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Daily Scrum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the Sprint Backlog (“list of open issu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re new issues? Add them to the Sprint Back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the issues by highest-prior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action items for the team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s are costly and low bandwith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or to the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correct aud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issues to ad hoc meetings,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decisions and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con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: Can be used for issue-based meet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and Example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Agend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5760" y="1015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 Integration of access control and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Purpo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rst revisions of the hardware/software mapping and the persistent storage design have been completed. The access control model needs to be defined and its integration with the current subsystems, such as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ingSub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eeds to be defin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Desired outc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 issues about the integration of access control with notific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Information sharing [Allocated time: 1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I[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ve: Investigate the access control model provided by the middlew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[Allocated time: 3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 dispatcher see other dispatchers’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 dispatcher modify another dispatchers’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Wrap up [Allocated time: 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and assign new action ite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eting critiqu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Unstructured Minut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0537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of access control and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tains an access list. The notification service asks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bout who has acce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should probably reverse the dependency between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Instead,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quests subscriptions from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ich checks for access and then calls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y, all protected methods are in one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y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lso more easily unsubscribe dispatchers wh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ir access is revok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y, no need for access control in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Dispatchers can see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As long as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not used for chang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, there is no need to restrict subscrip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thinking about the access control on notification would be more gener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more complex. Let’s just separate access control and notification at this poi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revisit the issue if the requirements chan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k. I’ll take care of revising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ingSub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P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Structured Minut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100476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UCTURED MINUTES: Integration of access control and notification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tain an access list of who can examine or modify the state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o subscribe to events, a subsystem sends a request to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ich in turns sends a request to the corresponding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heck acce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st all protected operations.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ption to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ts by sending a request to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checks access and sends a request to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ccess control and protected operations are centralized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a single cla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no need to restrict the access to the event subscription.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s subscriptions directly from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ed not check acce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2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patchers can see the state of any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R[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Simplicity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R[3]: P[3.3]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e action item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I[2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Issue Datab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rcRect l="5590" t="8770" r="7005" b="9475"/>
          <a:stretch/>
        </p:blipFill>
        <p:spPr>
          <a:xfrm>
            <a:off x="554040" y="1295280"/>
            <a:ext cx="7858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tivation: Challen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bandwi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speak slower than they can 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get side tracked or interrup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ing on the purpose of a meeting can consume most of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attending meetings do not produce anything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need time to get to the meeting and return to their work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said and not recorded is forgotten f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tivation: Meeting Management Goa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meetings sh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scope of meeting before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ly on issues withi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ite the right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invite participants who cannot con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invite participants whose agreement i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to agreements for closed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all remember the same out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context for op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en follow up discussions on the same 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Concep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831960" y="1420920"/>
            <a:ext cx="2108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genda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" name="Group 55"/>
          <p:cNvGrpSpPr/>
          <p:nvPr/>
        </p:nvGrpSpPr>
        <p:grpSpPr>
          <a:xfrm>
            <a:off x="5716440" y="2029320"/>
            <a:ext cx="1398240" cy="861480"/>
            <a:chOff x="5716440" y="2029320"/>
            <a:chExt cx="1398240" cy="861480"/>
          </a:xfrm>
        </p:grpSpPr>
        <p:cxnSp>
          <p:nvCxnSpPr>
            <p:cNvPr id="97" name="AutoShape 22"/>
            <p:cNvCxnSpPr>
              <a:stCxn id="98" idx="3"/>
              <a:endCxn id="99" idx="1"/>
            </p:cNvCxnSpPr>
            <p:nvPr/>
          </p:nvCxnSpPr>
          <p:spPr>
            <a:xfrm>
              <a:off x="5716440" y="2332080"/>
              <a:ext cx="1077120" cy="559080"/>
            </a:xfrm>
            <a:prstGeom prst="curvedConnector5">
              <a:avLst>
                <a:gd name="adj1" fmla="val 49983"/>
                <a:gd name="adj2" fmla="val 50000"/>
                <a:gd name="adj3" fmla="val 499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Rectangle 27"/>
            <p:cNvSpPr/>
            <p:nvPr/>
          </p:nvSpPr>
          <p:spPr>
            <a:xfrm>
              <a:off x="5969160" y="202932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ssigned to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1" name="Group 53"/>
          <p:cNvGrpSpPr/>
          <p:nvPr/>
        </p:nvGrpSpPr>
        <p:grpSpPr>
          <a:xfrm>
            <a:off x="2871360" y="3731040"/>
            <a:ext cx="4037400" cy="581400"/>
            <a:chOff x="2871360" y="3731040"/>
            <a:chExt cx="4037400" cy="581400"/>
          </a:xfrm>
        </p:grpSpPr>
        <p:sp>
          <p:nvSpPr>
            <p:cNvPr id="102" name="Rectangle 6"/>
            <p:cNvSpPr/>
            <p:nvPr/>
          </p:nvSpPr>
          <p:spPr>
            <a:xfrm>
              <a:off x="4800600" y="386064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Decis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03" name="AutoShape 16"/>
            <p:cNvCxnSpPr>
              <a:stCxn id="102" idx="1"/>
              <a:endCxn id="104" idx="3"/>
            </p:cNvCxnSpPr>
            <p:nvPr/>
          </p:nvCxnSpPr>
          <p:spPr>
            <a:xfrm flipV="1" rot="10800000">
              <a:off x="2871000" y="4058280"/>
              <a:ext cx="1915200" cy="25452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Rectangle 28"/>
            <p:cNvSpPr/>
            <p:nvPr/>
          </p:nvSpPr>
          <p:spPr>
            <a:xfrm>
              <a:off x="3362760" y="3731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elect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6" name="Group 47"/>
          <p:cNvGrpSpPr/>
          <p:nvPr/>
        </p:nvGrpSpPr>
        <p:grpSpPr>
          <a:xfrm>
            <a:off x="600120" y="1828800"/>
            <a:ext cx="2276280" cy="1320840"/>
            <a:chOff x="600120" y="1828800"/>
            <a:chExt cx="2276280" cy="1320840"/>
          </a:xfrm>
        </p:grpSpPr>
        <p:sp>
          <p:nvSpPr>
            <p:cNvPr id="107" name="Rectangle 4"/>
            <p:cNvSpPr/>
            <p:nvPr/>
          </p:nvSpPr>
          <p:spPr>
            <a:xfrm>
              <a:off x="768240" y="278136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Issue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8" name="Group 32"/>
            <p:cNvGrpSpPr/>
            <p:nvPr/>
          </p:nvGrpSpPr>
          <p:grpSpPr>
            <a:xfrm>
              <a:off x="1766880" y="1828800"/>
              <a:ext cx="111240" cy="939960"/>
              <a:chOff x="1766880" y="1828800"/>
              <a:chExt cx="111240" cy="939960"/>
            </a:xfrm>
          </p:grpSpPr>
          <p:sp>
            <p:nvSpPr>
              <p:cNvPr id="109" name="Line 24"/>
              <p:cNvSpPr/>
              <p:nvPr/>
            </p:nvSpPr>
            <p:spPr>
              <a:xfrm>
                <a:off x="1809720" y="2057400"/>
                <a:ext cx="0" cy="71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0" name="Freeform 25"/>
              <p:cNvSpPr/>
              <p:nvPr/>
            </p:nvSpPr>
            <p:spPr>
              <a:xfrm>
                <a:off x="1766880" y="1828800"/>
                <a:ext cx="111240" cy="222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29"/>
            <p:cNvSpPr/>
            <p:nvPr/>
          </p:nvSpPr>
          <p:spPr>
            <a:xfrm>
              <a:off x="600120" y="2194560"/>
              <a:ext cx="102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cop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2" name="Group 48"/>
          <p:cNvGrpSpPr/>
          <p:nvPr/>
        </p:nvGrpSpPr>
        <p:grpSpPr>
          <a:xfrm>
            <a:off x="2133360" y="1828800"/>
            <a:ext cx="3569040" cy="673200"/>
            <a:chOff x="2133360" y="1828800"/>
            <a:chExt cx="3569040" cy="673200"/>
          </a:xfrm>
        </p:grpSpPr>
        <p:sp>
          <p:nvSpPr>
            <p:cNvPr id="98" name="Rectangle 12"/>
            <p:cNvSpPr/>
            <p:nvPr/>
          </p:nvSpPr>
          <p:spPr>
            <a:xfrm>
              <a:off x="3594240" y="21337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Participant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Rectangle 30"/>
            <p:cNvSpPr/>
            <p:nvPr/>
          </p:nvSpPr>
          <p:spPr>
            <a:xfrm>
              <a:off x="2693520" y="191520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invite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" name="Bogen 31"/>
            <p:cNvSpPr/>
            <p:nvPr/>
          </p:nvSpPr>
          <p:spPr>
            <a:xfrm flipH="1" flipV="1">
              <a:off x="2133000" y="1828800"/>
              <a:ext cx="14475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5" name="Group 49"/>
          <p:cNvGrpSpPr/>
          <p:nvPr/>
        </p:nvGrpSpPr>
        <p:grpSpPr>
          <a:xfrm>
            <a:off x="372600" y="3187800"/>
            <a:ext cx="2485080" cy="1295280"/>
            <a:chOff x="372600" y="3187800"/>
            <a:chExt cx="2485080" cy="1295280"/>
          </a:xfrm>
        </p:grpSpPr>
        <p:sp>
          <p:nvSpPr>
            <p:cNvPr id="104" name="Rectangle 5"/>
            <p:cNvSpPr/>
            <p:nvPr/>
          </p:nvSpPr>
          <p:spPr>
            <a:xfrm>
              <a:off x="749160" y="4114800"/>
              <a:ext cx="2108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Opt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16" name="Group 33"/>
            <p:cNvGrpSpPr/>
            <p:nvPr/>
          </p:nvGrpSpPr>
          <p:grpSpPr>
            <a:xfrm>
              <a:off x="1754280" y="3187800"/>
              <a:ext cx="110880" cy="939240"/>
              <a:chOff x="1754280" y="3187800"/>
              <a:chExt cx="110880" cy="939240"/>
            </a:xfrm>
          </p:grpSpPr>
          <p:sp>
            <p:nvSpPr>
              <p:cNvPr id="117" name="Line 34"/>
              <p:cNvSpPr/>
              <p:nvPr/>
            </p:nvSpPr>
            <p:spPr>
              <a:xfrm>
                <a:off x="1796760" y="3416040"/>
                <a:ext cx="0" cy="71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>
                <a:off x="1754280" y="3187800"/>
                <a:ext cx="110880" cy="221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36"/>
            <p:cNvSpPr/>
            <p:nvPr/>
          </p:nvSpPr>
          <p:spPr>
            <a:xfrm>
              <a:off x="372600" y="3478680"/>
              <a:ext cx="130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ddress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0" name="Group 52"/>
          <p:cNvGrpSpPr/>
          <p:nvPr/>
        </p:nvGrpSpPr>
        <p:grpSpPr>
          <a:xfrm>
            <a:off x="1802160" y="4524120"/>
            <a:ext cx="2056320" cy="734760"/>
            <a:chOff x="1802160" y="4524120"/>
            <a:chExt cx="2056320" cy="734760"/>
          </a:xfrm>
        </p:grpSpPr>
        <p:cxnSp>
          <p:nvCxnSpPr>
            <p:cNvPr id="121" name="AutoShape 20"/>
            <p:cNvCxnSpPr>
              <a:stCxn id="104" idx="2"/>
              <a:endCxn id="122" idx="1"/>
            </p:cNvCxnSpPr>
            <p:nvPr/>
          </p:nvCxnSpPr>
          <p:spPr>
            <a:xfrm flipH="1" rot="16200000">
              <a:off x="2656800" y="3669480"/>
              <a:ext cx="347760" cy="2056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Rectangle 37"/>
            <p:cNvSpPr/>
            <p:nvPr/>
          </p:nvSpPr>
          <p:spPr>
            <a:xfrm>
              <a:off x="2491200" y="495180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ssess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4" name="Group 54"/>
          <p:cNvGrpSpPr/>
          <p:nvPr/>
        </p:nvGrpSpPr>
        <p:grpSpPr>
          <a:xfrm>
            <a:off x="5841000" y="2692440"/>
            <a:ext cx="3074400" cy="1154160"/>
            <a:chOff x="5841000" y="2692440"/>
            <a:chExt cx="3074400" cy="1154160"/>
          </a:xfrm>
        </p:grpSpPr>
        <p:sp>
          <p:nvSpPr>
            <p:cNvPr id="99" name="Rectangle 10"/>
            <p:cNvSpPr/>
            <p:nvPr/>
          </p:nvSpPr>
          <p:spPr>
            <a:xfrm>
              <a:off x="6807240" y="269244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Action Item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25" name="AutoShape 15"/>
            <p:cNvCxnSpPr>
              <a:stCxn id="102" idx="0"/>
              <a:endCxn id="99" idx="2"/>
            </p:cNvCxnSpPr>
            <p:nvPr/>
          </p:nvCxnSpPr>
          <p:spPr>
            <a:xfrm flipH="1" flipV="1" rot="5400000">
              <a:off x="6485400" y="2470680"/>
              <a:ext cx="745200" cy="2007360"/>
            </a:xfrm>
            <a:prstGeom prst="curvedConnector5">
              <a:avLst>
                <a:gd name="adj1" fmla="val 49879"/>
                <a:gd name="adj2" fmla="val 49991"/>
                <a:gd name="adj3" fmla="val 498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Rectangle 38"/>
            <p:cNvSpPr/>
            <p:nvPr/>
          </p:nvSpPr>
          <p:spPr>
            <a:xfrm>
              <a:off x="5841000" y="31485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realiz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190440" y="4524480"/>
            <a:ext cx="2108160" cy="1406520"/>
            <a:chOff x="190440" y="4524480"/>
            <a:chExt cx="2108160" cy="1406520"/>
          </a:xfrm>
        </p:grpSpPr>
        <p:sp>
          <p:nvSpPr>
            <p:cNvPr id="128" name="Rectangle 11"/>
            <p:cNvSpPr/>
            <p:nvPr/>
          </p:nvSpPr>
          <p:spPr>
            <a:xfrm>
              <a:off x="190440" y="55627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Argument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29" name="AutoShape 39"/>
            <p:cNvCxnSpPr>
              <a:stCxn id="104" idx="2"/>
              <a:endCxn id="128" idx="0"/>
            </p:cNvCxnSpPr>
            <p:nvPr/>
          </p:nvCxnSpPr>
          <p:spPr>
            <a:xfrm rot="5400000">
              <a:off x="1011600" y="4757040"/>
              <a:ext cx="1024560" cy="559080"/>
            </a:xfrm>
            <a:prstGeom prst="curvedConnector5">
              <a:avLst>
                <a:gd name="adj1" fmla="val 49912"/>
                <a:gd name="adj2" fmla="val 50000"/>
                <a:gd name="adj3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Rectangle 40"/>
            <p:cNvSpPr/>
            <p:nvPr/>
          </p:nvSpPr>
          <p:spPr>
            <a:xfrm>
              <a:off x="392400" y="4816080"/>
              <a:ext cx="925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uppor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oppose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1" name="Group 51"/>
          <p:cNvGrpSpPr/>
          <p:nvPr/>
        </p:nvGrpSpPr>
        <p:grpSpPr>
          <a:xfrm>
            <a:off x="2312280" y="4673520"/>
            <a:ext cx="3669480" cy="1245960"/>
            <a:chOff x="2312280" y="4673520"/>
            <a:chExt cx="3669480" cy="1245960"/>
          </a:xfrm>
        </p:grpSpPr>
        <p:sp>
          <p:nvSpPr>
            <p:cNvPr id="122" name="Rectangle 7"/>
            <p:cNvSpPr/>
            <p:nvPr/>
          </p:nvSpPr>
          <p:spPr>
            <a:xfrm>
              <a:off x="3873600" y="46735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Criter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32" name="AutoShape 41"/>
            <p:cNvCxnSpPr>
              <a:stCxn id="122" idx="2"/>
              <a:endCxn id="128" idx="3"/>
            </p:cNvCxnSpPr>
            <p:nvPr/>
          </p:nvCxnSpPr>
          <p:spPr>
            <a:xfrm rot="5400000">
              <a:off x="3280680" y="4114440"/>
              <a:ext cx="678600" cy="26154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Rectangle 42"/>
            <p:cNvSpPr/>
            <p:nvPr/>
          </p:nvSpPr>
          <p:spPr>
            <a:xfrm>
              <a:off x="3901320" y="5612400"/>
              <a:ext cx="136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makes explicit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4" name="Group 56"/>
          <p:cNvGrpSpPr/>
          <p:nvPr/>
        </p:nvGrpSpPr>
        <p:grpSpPr>
          <a:xfrm>
            <a:off x="6832440" y="1346040"/>
            <a:ext cx="2108520" cy="1346400"/>
            <a:chOff x="6832440" y="1346040"/>
            <a:chExt cx="2108520" cy="1346400"/>
          </a:xfrm>
        </p:grpSpPr>
        <p:sp>
          <p:nvSpPr>
            <p:cNvPr id="135" name="Rectangle 9"/>
            <p:cNvSpPr/>
            <p:nvPr/>
          </p:nvSpPr>
          <p:spPr>
            <a:xfrm>
              <a:off x="6832440" y="1346040"/>
              <a:ext cx="2108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Minutes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36" name="Group 43"/>
            <p:cNvGrpSpPr/>
            <p:nvPr/>
          </p:nvGrpSpPr>
          <p:grpSpPr>
            <a:xfrm>
              <a:off x="7824960" y="1752480"/>
              <a:ext cx="110880" cy="939960"/>
              <a:chOff x="7824960" y="1752480"/>
              <a:chExt cx="110880" cy="939960"/>
            </a:xfrm>
          </p:grpSpPr>
          <p:sp>
            <p:nvSpPr>
              <p:cNvPr id="137" name="Line 44"/>
              <p:cNvSpPr/>
              <p:nvPr/>
            </p:nvSpPr>
            <p:spPr>
              <a:xfrm>
                <a:off x="7867440" y="1981080"/>
                <a:ext cx="0" cy="71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45"/>
              <p:cNvSpPr/>
              <p:nvPr/>
            </p:nvSpPr>
            <p:spPr>
              <a:xfrm>
                <a:off x="7824960" y="1752480"/>
                <a:ext cx="110880" cy="222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46"/>
            <p:cNvSpPr/>
            <p:nvPr/>
          </p:nvSpPr>
          <p:spPr>
            <a:xfrm>
              <a:off x="8047080" y="208188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record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Docu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the scope of the meeting in terms of open  issues (from the Issue Data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s participants whose agreement is needed to resolve the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ime budget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4_i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cated to each issue before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decisions and their realization,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the current progress of the discussion in terms of options, criteria, and arg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584280" y="1397160"/>
            <a:ext cx="203040" cy="2030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040"/>
              <a:gd name="textAreaBottom" fmla="*/ 1900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AutoShape 6">
            <a:hlinkClick r:id="rId2" action="ppaction://hlinksldjump"/>
          </p:cNvPr>
          <p:cNvSpPr/>
          <p:nvPr/>
        </p:nvSpPr>
        <p:spPr>
          <a:xfrm>
            <a:off x="1447920" y="4952880"/>
            <a:ext cx="203040" cy="2034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400"/>
              <a:gd name="textAreaBottom" fmla="*/ 190440 h 20340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17806" y="10819"/>
                </a:lnTo>
                <a:lnTo>
                  <a:pt x="3794" y="1782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7">
            <a:hlinkClick r:id="rId3" action="ppaction://hlinksldjump"/>
          </p:cNvPr>
          <p:cNvSpPr/>
          <p:nvPr/>
        </p:nvSpPr>
        <p:spPr>
          <a:xfrm>
            <a:off x="1460520" y="5308560"/>
            <a:ext cx="203040" cy="2034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400"/>
              <a:gd name="textAreaBottom" fmla="*/ 190440 h 20340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17806" y="10819"/>
                </a:lnTo>
                <a:lnTo>
                  <a:pt x="3794" y="1782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AutoShape 8">
            <a:hlinkClick r:id="rId4" action="ppaction://hlinksldjump"/>
          </p:cNvPr>
          <p:cNvSpPr/>
          <p:nvPr/>
        </p:nvSpPr>
        <p:spPr>
          <a:xfrm>
            <a:off x="5562720" y="2082960"/>
            <a:ext cx="203040" cy="2030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040"/>
              <a:gd name="textAreaBottom" fmla="*/ 1900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Ro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ible for keeping the meeting withi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upts or redirects participants who get side trac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s that decisions represent consens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kee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s the facilitator when an specific issue takes more time than budg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 ta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decisions, action items, option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es the meeting minutes to all other participants shortly after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071880" y="1003320"/>
            <a:ext cx="2654280" cy="57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articipant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727600" y="1003320"/>
            <a:ext cx="2654280" cy="5702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inute Taker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19040" y="1003320"/>
            <a:ext cx="2654280" cy="5702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Facilitator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58720" y="1406520"/>
            <a:ext cx="2376720" cy="365040"/>
          </a:xfrm>
          <a:prstGeom prst="roundRect">
            <a:avLst>
              <a:gd name="adj" fmla="val 4215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Post Agenda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3" name="Group 32"/>
          <p:cNvGrpSpPr/>
          <p:nvPr/>
        </p:nvGrpSpPr>
        <p:grpSpPr>
          <a:xfrm>
            <a:off x="2949120" y="1588680"/>
            <a:ext cx="2638800" cy="654480"/>
            <a:chOff x="2949120" y="1588680"/>
            <a:chExt cx="2638800" cy="654480"/>
          </a:xfrm>
        </p:grpSpPr>
        <p:sp>
          <p:nvSpPr>
            <p:cNvPr id="154" name="AutoShape 5"/>
            <p:cNvSpPr/>
            <p:nvPr/>
          </p:nvSpPr>
          <p:spPr>
            <a:xfrm>
              <a:off x="3211560" y="1878120"/>
              <a:ext cx="237636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view Agenda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55" name="AutoShape 17"/>
            <p:cNvCxnSpPr>
              <a:stCxn id="152" idx="3"/>
              <a:endCxn id="154" idx="0"/>
            </p:cNvCxnSpPr>
            <p:nvPr/>
          </p:nvCxnSpPr>
          <p:spPr>
            <a:xfrm>
              <a:off x="2949120" y="1588680"/>
              <a:ext cx="1451880" cy="2754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6" name="Group 33"/>
          <p:cNvGrpSpPr/>
          <p:nvPr/>
        </p:nvGrpSpPr>
        <p:grpSpPr>
          <a:xfrm>
            <a:off x="558720" y="2257200"/>
            <a:ext cx="3841560" cy="459000"/>
            <a:chOff x="558720" y="2257200"/>
            <a:chExt cx="3841560" cy="459000"/>
          </a:xfrm>
        </p:grpSpPr>
        <p:sp>
          <p:nvSpPr>
            <p:cNvPr id="157" name="AutoShape 6"/>
            <p:cNvSpPr/>
            <p:nvPr/>
          </p:nvSpPr>
          <p:spPr>
            <a:xfrm>
              <a:off x="558720" y="235116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vise Agenda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58" name="AutoShape 18"/>
            <p:cNvCxnSpPr>
              <a:stCxn id="154" idx="2"/>
              <a:endCxn id="157" idx="3"/>
            </p:cNvCxnSpPr>
            <p:nvPr/>
          </p:nvCxnSpPr>
          <p:spPr>
            <a:xfrm rot="5400000">
              <a:off x="3536280" y="1669680"/>
              <a:ext cx="276840" cy="14518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9" name="Group 34"/>
          <p:cNvGrpSpPr/>
          <p:nvPr/>
        </p:nvGrpSpPr>
        <p:grpSpPr>
          <a:xfrm>
            <a:off x="558720" y="2730600"/>
            <a:ext cx="2376720" cy="744480"/>
            <a:chOff x="558720" y="2730600"/>
            <a:chExt cx="2376720" cy="744480"/>
          </a:xfrm>
        </p:grpSpPr>
        <p:cxnSp>
          <p:nvCxnSpPr>
            <p:cNvPr id="160" name="AutoShape 19"/>
            <p:cNvCxnSpPr>
              <a:stCxn id="157" idx="2"/>
              <a:endCxn id="161" idx="0"/>
            </p:cNvCxnSpPr>
            <p:nvPr/>
          </p:nvCxnSpPr>
          <p:spPr>
            <a:xfrm flipH="1">
              <a:off x="1747080" y="2730600"/>
              <a:ext cx="108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61" name="AutoShape 21"/>
            <p:cNvSpPr/>
            <p:nvPr/>
          </p:nvSpPr>
          <p:spPr>
            <a:xfrm>
              <a:off x="558720" y="311004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Initiate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2" name="Group 37"/>
          <p:cNvGrpSpPr/>
          <p:nvPr/>
        </p:nvGrpSpPr>
        <p:grpSpPr>
          <a:xfrm>
            <a:off x="558720" y="3489120"/>
            <a:ext cx="2376720" cy="1176480"/>
            <a:chOff x="558720" y="3489120"/>
            <a:chExt cx="2376720" cy="1176480"/>
          </a:xfrm>
        </p:grpSpPr>
        <p:sp>
          <p:nvSpPr>
            <p:cNvPr id="163" name="AutoShape 14"/>
            <p:cNvSpPr/>
            <p:nvPr/>
          </p:nvSpPr>
          <p:spPr>
            <a:xfrm>
              <a:off x="558720" y="430056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Facilitate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>
              <a:stCxn id="161" idx="2"/>
              <a:endCxn id="163" idx="0"/>
            </p:cNvCxnSpPr>
            <p:nvPr/>
          </p:nvCxnSpPr>
          <p:spPr>
            <a:xfrm flipH="1">
              <a:off x="1747080" y="3489120"/>
              <a:ext cx="1080" cy="79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65" name="Group 38"/>
          <p:cNvGrpSpPr/>
          <p:nvPr/>
        </p:nvGrpSpPr>
        <p:grpSpPr>
          <a:xfrm>
            <a:off x="1747800" y="3489480"/>
            <a:ext cx="3838680" cy="1268280"/>
            <a:chOff x="1747800" y="3489480"/>
            <a:chExt cx="3838680" cy="1268280"/>
          </a:xfrm>
        </p:grpSpPr>
        <p:sp>
          <p:nvSpPr>
            <p:cNvPr id="166" name="AutoShape 8"/>
            <p:cNvSpPr/>
            <p:nvPr/>
          </p:nvSpPr>
          <p:spPr>
            <a:xfrm>
              <a:off x="3209760" y="4210200"/>
              <a:ext cx="2376720" cy="54756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Discuss &amp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solve Issues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67" name="AutoShape 23"/>
            <p:cNvCxnSpPr>
              <a:stCxn id="161" idx="2"/>
              <a:endCxn id="166" idx="0"/>
            </p:cNvCxnSpPr>
            <p:nvPr/>
          </p:nvCxnSpPr>
          <p:spPr>
            <a:xfrm flipH="1" rot="16200000">
              <a:off x="2720160" y="2516760"/>
              <a:ext cx="707040" cy="2651760"/>
            </a:xfrm>
            <a:prstGeom prst="curvedConnector5">
              <a:avLst>
                <a:gd name="adj1" fmla="val 49872"/>
                <a:gd name="adj2" fmla="val 49993"/>
                <a:gd name="adj3" fmla="val 49872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68" name="Group 39"/>
          <p:cNvGrpSpPr/>
          <p:nvPr/>
        </p:nvGrpSpPr>
        <p:grpSpPr>
          <a:xfrm>
            <a:off x="1747800" y="3489480"/>
            <a:ext cx="6512040" cy="1177920"/>
            <a:chOff x="1747800" y="3489480"/>
            <a:chExt cx="6512040" cy="1177920"/>
          </a:xfrm>
        </p:grpSpPr>
        <p:sp>
          <p:nvSpPr>
            <p:cNvPr id="169" name="AutoShape 13"/>
            <p:cNvSpPr/>
            <p:nvPr/>
          </p:nvSpPr>
          <p:spPr>
            <a:xfrm>
              <a:off x="5883120" y="4302000"/>
              <a:ext cx="2376720" cy="36540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cord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70" name="AutoShape 24"/>
            <p:cNvCxnSpPr>
              <a:stCxn id="161" idx="2"/>
              <a:endCxn id="169" idx="0"/>
            </p:cNvCxnSpPr>
            <p:nvPr/>
          </p:nvCxnSpPr>
          <p:spPr>
            <a:xfrm flipH="1" rot="16200000">
              <a:off x="4010760" y="1226160"/>
              <a:ext cx="799200" cy="5325120"/>
            </a:xfrm>
            <a:prstGeom prst="curvedConnector5">
              <a:avLst>
                <a:gd name="adj1" fmla="val 38756"/>
                <a:gd name="adj2" fmla="val 49996"/>
                <a:gd name="adj3" fmla="val 38756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71" name="Group 43"/>
          <p:cNvGrpSpPr/>
          <p:nvPr/>
        </p:nvGrpSpPr>
        <p:grpSpPr>
          <a:xfrm>
            <a:off x="558720" y="4679640"/>
            <a:ext cx="6513480" cy="1065600"/>
            <a:chOff x="558720" y="4679640"/>
            <a:chExt cx="6513480" cy="1065600"/>
          </a:xfrm>
        </p:grpSpPr>
        <p:grpSp>
          <p:nvGrpSpPr>
            <p:cNvPr id="172" name="Group 40"/>
            <p:cNvGrpSpPr/>
            <p:nvPr/>
          </p:nvGrpSpPr>
          <p:grpSpPr>
            <a:xfrm>
              <a:off x="558720" y="4679640"/>
              <a:ext cx="2376720" cy="1065600"/>
              <a:chOff x="558720" y="4679640"/>
              <a:chExt cx="2376720" cy="1065600"/>
            </a:xfrm>
          </p:grpSpPr>
          <p:sp>
            <p:nvSpPr>
              <p:cNvPr id="173" name="AutoShape 15"/>
              <p:cNvSpPr/>
              <p:nvPr/>
            </p:nvSpPr>
            <p:spPr>
              <a:xfrm>
                <a:off x="558720" y="5380200"/>
                <a:ext cx="2376720" cy="365040"/>
              </a:xfrm>
              <a:prstGeom prst="roundRect">
                <a:avLst>
                  <a:gd name="adj" fmla="val 4215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lose Meeting</a:t>
                </a:r>
                <a:endParaRPr b="0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cxnSp>
            <p:nvCxnSpPr>
              <p:cNvPr id="174" name="AutoShape 25"/>
              <p:cNvCxnSpPr>
                <a:stCxn id="163" idx="2"/>
                <a:endCxn id="173" idx="0"/>
              </p:cNvCxnSpPr>
              <p:nvPr/>
            </p:nvCxnSpPr>
            <p:spPr>
              <a:xfrm flipH="1">
                <a:off x="1747080" y="4679640"/>
                <a:ext cx="1080" cy="6865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cxnSp>
          <p:nvCxnSpPr>
            <p:cNvPr id="175" name="AutoShape 26"/>
            <p:cNvCxnSpPr>
              <a:stCxn id="166" idx="2"/>
              <a:endCxn id="173" idx="0"/>
            </p:cNvCxnSpPr>
            <p:nvPr/>
          </p:nvCxnSpPr>
          <p:spPr>
            <a:xfrm rot="5400000">
              <a:off x="2775960" y="3743280"/>
              <a:ext cx="594360" cy="2651760"/>
            </a:xfrm>
            <a:prstGeom prst="curvedConnector5">
              <a:avLst>
                <a:gd name="adj1" fmla="val 50000"/>
                <a:gd name="adj2" fmla="val 4999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76" name="AutoShape 27"/>
            <p:cNvCxnSpPr>
              <a:stCxn id="169" idx="2"/>
              <a:endCxn id="173" idx="0"/>
            </p:cNvCxnSpPr>
            <p:nvPr/>
          </p:nvCxnSpPr>
          <p:spPr>
            <a:xfrm rot="5400000">
              <a:off x="4067280" y="2361240"/>
              <a:ext cx="685080" cy="5325120"/>
            </a:xfrm>
            <a:prstGeom prst="curvedConnector5">
              <a:avLst>
                <a:gd name="adj1" fmla="val 62828"/>
                <a:gd name="adj2" fmla="val 49996"/>
                <a:gd name="adj3" fmla="val 62828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77" name="Group 42"/>
          <p:cNvGrpSpPr/>
          <p:nvPr/>
        </p:nvGrpSpPr>
        <p:grpSpPr>
          <a:xfrm>
            <a:off x="2949480" y="5562360"/>
            <a:ext cx="5310360" cy="1124280"/>
            <a:chOff x="2949480" y="5562360"/>
            <a:chExt cx="5310360" cy="1124280"/>
          </a:xfrm>
        </p:grpSpPr>
        <p:grpSp>
          <p:nvGrpSpPr>
            <p:cNvPr id="178" name="Group 41"/>
            <p:cNvGrpSpPr/>
            <p:nvPr/>
          </p:nvGrpSpPr>
          <p:grpSpPr>
            <a:xfrm>
              <a:off x="2949480" y="5562360"/>
              <a:ext cx="5310360" cy="1124280"/>
              <a:chOff x="2949480" y="5562360"/>
              <a:chExt cx="5310360" cy="1124280"/>
            </a:xfrm>
          </p:grpSpPr>
          <p:grpSp>
            <p:nvGrpSpPr>
              <p:cNvPr id="179" name="Group 30"/>
              <p:cNvGrpSpPr/>
              <p:nvPr/>
            </p:nvGrpSpPr>
            <p:grpSpPr>
              <a:xfrm>
                <a:off x="3209760" y="6138720"/>
                <a:ext cx="5050080" cy="547920"/>
                <a:chOff x="3209760" y="6138720"/>
                <a:chExt cx="5050080" cy="547920"/>
              </a:xfrm>
            </p:grpSpPr>
            <p:sp>
              <p:nvSpPr>
                <p:cNvPr id="180" name="AutoShape 12"/>
                <p:cNvSpPr/>
                <p:nvPr/>
              </p:nvSpPr>
              <p:spPr>
                <a:xfrm>
                  <a:off x="3209760" y="6138720"/>
                  <a:ext cx="2376720" cy="547920"/>
                </a:xfrm>
                <a:prstGeom prst="roundRect">
                  <a:avLst>
                    <a:gd name="adj" fmla="val 4215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Realize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Action Items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16"/>
                <p:cNvSpPr/>
                <p:nvPr/>
              </p:nvSpPr>
              <p:spPr>
                <a:xfrm>
                  <a:off x="5883120" y="6229440"/>
                  <a:ext cx="2376720" cy="365040"/>
                </a:xfrm>
                <a:prstGeom prst="roundRect">
                  <a:avLst>
                    <a:gd name="adj" fmla="val 4215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Post Minutes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2" name="AutoShape 28"/>
              <p:cNvCxnSpPr>
                <a:stCxn id="173" idx="3"/>
                <a:endCxn id="180" idx="0"/>
              </p:cNvCxnSpPr>
              <p:nvPr/>
            </p:nvCxnSpPr>
            <p:spPr>
              <a:xfrm>
                <a:off x="2949480" y="5562360"/>
                <a:ext cx="1450080" cy="5626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cxnSp>
          <p:nvCxnSpPr>
            <p:cNvPr id="183" name="AutoShape 29"/>
            <p:cNvCxnSpPr>
              <a:stCxn id="173" idx="3"/>
              <a:endCxn id="181" idx="0"/>
            </p:cNvCxnSpPr>
            <p:nvPr/>
          </p:nvCxnSpPr>
          <p:spPr>
            <a:xfrm>
              <a:off x="2949480" y="5562720"/>
              <a:ext cx="4123440" cy="65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rominent Spokes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n Schwaber, Mike Bidd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: Day-to-day management of a softwar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216160" y="2739960"/>
            <a:ext cx="498780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15:42:47Z</dcterms:created>
  <dc:creator>Allen Dutoit</dc:creator>
  <dc:description/>
  <dc:language>en-US</dc:language>
  <cp:lastModifiedBy>Bernd Bruegge</cp:lastModifiedBy>
  <cp:lastPrinted>1998-12-08T10:27:28Z</cp:lastPrinted>
  <dcterms:modified xsi:type="dcterms:W3CDTF">2009-08-04T07:29:54Z</dcterms:modified>
  <cp:revision>299</cp:revision>
  <dc:subject/>
  <dc:title>Design Rationale: Concepts, Technique, and Use</dc:title>
</cp:coreProperties>
</file>