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269413" cy="6948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768760" y="870444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age </a:t>
            </a:r>
            <a:fld id="{08B0BDA1-023B-4481-8AB4-21BD09D2DA32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320840" y="-132120"/>
            <a:ext cx="4214880" cy="315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Most critical of the four phases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At the end of this phase, the “engineering” of the system is complete, and the organization faces the decision: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- Shall we commit to the production phase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Shall we go from a low cost risk to an operation with higher cost risk and substantial inertia (i.e. bureaucracy)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-------------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main question is: Can the organization commit to a fixed-price construction phase?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----------------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- Are the system models and project plans stable enough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- Have the risks been dealt with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- Can we predict cost and schedule for the completion of the development for an acceptable range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acceptable: 20-30 % of the predicted cost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not acceptable: 100% above predicted cost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ransitions between the four states are crucial events for project participants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(they are called stakeholders in the Unified Process) in particular the transition between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engineering and production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Establish the project’s scope, in particular what is included and what is not included in the project to develop the system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Define acceptance criteria for the software system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Identify the critical use cases of the system and primary scenarios of operation that will drive the major design trade-offs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Demonstrate at least one candidate software architecture against some of the core scenarios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Estimate the cost and schedule for the entire project (including detailed estimates for the elaboration phase)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Define and estimate potential risks (sources of unpredictability)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Formulate the scope of the project. Capture requirements and operational concept in a repository that describes the user’s view of the requirements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Result: problem space and acceptance criteria are defined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Design the software architecture. Evaluate Design trade-offs, investigate solution space, check available solution space assets (existing components, technologies)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Result: Feasibility of  at least one candidate architecture, initial set of build vs. buy decisions so that cost, schedule and resource estimates can be derived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====&gt; Here ask this question: The Unified Process emphasizes the design of the software architecture very early. Why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Plan and prepare a business case. Evaluate alternatives for risks, staffing problems, plans. Determine the infrastructure that is sufficient to support the development task. 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Question: The Unified Process emphasizes the design of the software architecture very early. Why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Apply the following questions to the results of the inception phase: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Where are we? So far we have looked at the software lifecycle from a project’s point of view: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Hey, we have to do this, what activities should we use?”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oday, we look at an industrial strenght software lifecycle process from a business point of view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Example: A company doing research and producing software commercially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Purpose: Distinguish between research systems (“prototypes”) and real products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--------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States of a software project managed with the Unified Process: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Inception, Elaboration, Construction, Transition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Artifacts Sets: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Management Set, Engineering Set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Workflows: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Management, Environment, Requirements, Design, Implementation, Assessment, Deployment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Iterations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transition from one phase to another phase is triggered by a significant business decision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and not by the completion of a specific software development activity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o make the development of complex systems manageable,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Unified Process organizes work products produced during the development into </a:t>
            </a:r>
            <a:r>
              <a:rPr b="0" i="1" lang="en-US" sz="1000" spc="-1" strike="noStrike">
                <a:solidFill>
                  <a:srgbClr val="000000"/>
                </a:solidFill>
                <a:latin typeface="Palatino"/>
              </a:rPr>
              <a:t>artifacts sets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Unified Process distinguishes the following five sets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Each artifact set has a different goal and uses  different notations to capture the relevant artifacts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Each artifact set has a different goal and uses  different notations to capture the relevant artifacts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In each phase of the life cycle, new artifacts (“work products”) are produced and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previously developed artifacts are updated to incorporate lessons learned and to capture further depth and breadth of the solution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is is an artifact road map with the focus on the creatio of models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Is this a good road map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Many manager are tempted to pay too much attention on the production of documents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Distinguish between the information inherent in the system models and the paper on which it is written (or the “bits on the screen”)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Extremely important: Distinguish between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information inherent in the system models (functional models, dynamic models, object models)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and the paper on which it is written (or the “bits on the screen”)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main goal of a software development project is the creation of models and the construction of the software system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purpose of documentation is to support this goal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In the 60-90s a lot of time was spent on developing, formatting, reviewing, updating and distributing documents. Why?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1) No rigorous engineering methods and languages was available for analysis and design models. Consequently, paper documents with ad hoc text were the default format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2) Conventional languages for implementation and deployment were highly cryptic. To present the details of software structure and behavior to other project participants (testers, managers, maintainers), a more human-readable format was needed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3) Software project progress needed to be assessed (managers, stakeholders needed “status”). Documents represented a tangible but misleading mechanism for demonstrating progress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4) People wanted to review information, but did not understand the language of the artifact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5) People   wanted to review information, but did not have access to the tools to view the information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Provide templates for documents at the start of the project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Instantiate documents automatically from these templates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Enriching them with modeling and artifact information generated during the project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ools automatically generate documents from the models. State of the art: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Schedule generator (Microsoft Project)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Automatic requirements document generator (Request)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Automatic Interface specification generator (Javadoc)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Automatic generation of analysis and design documents: Existing CASE Tools (Rationale Rose, Together-J)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Automatic test case generation (J_Unit)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Unified Process distinguishes seven workflows: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Let’s review these briefly, to avoid confusion between the phases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in the Unified Process (Software Project Management) and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generic phases of  any project (Project Management)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Let’s review the project phases briefly, to avoid confusion between the phases of a software system developed with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Unified Process (Software Project Management) and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phases of  software project (Project Management)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Every project has at least 5 states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Conception: The idea is born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Definition:  A plan is developed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Starting: Teams are formed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Performing: The work is being done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Closing: The project is finished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Let’s review these briefly, to avoid confusion between the phases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in the Unified Process (Software Project Management) and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generic phases of  any project (Project Management)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se are general management mistakes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For the unified process the penalty is even worse, because almost each iteration depends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on the previous one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Project Manager leaves out the start phase completely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main reason is time pressure.  Don’t let it happen to you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major reason to have a start phase is to confirm the participation of your  project participants: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Inform the stakeholders of your project that your project has been approved and when work will start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Confirm that your stakeholders are still able to support your project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Reconfirm work packages with developers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Explain your role as manager to stakeholders and developers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Project manager jumps directly from the conceive phase to the perform phase (Leaving out define and start phases)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wo reasons for that: Known territory, unknown territory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I have done this before, no need  to waste time”: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Even though projects can be similar to ones done in the past, some things are always different. Examples: Working with different people, new type of equipment, new environment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My project is different from anything I have ever done before, so what good is it to plan?”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You should try to look at a map if you are attempting to travel into unknown territory!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Unified Software Process is becoming a standard in industry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Joining a project late is not that uncommon. Often the planning has been performed by another person, usually a high level manager, and you are asked to take the project over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Or the project is in such a bad state, that the current proejct manager has to be replaced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Reasons for skipping or only partially completing the termination phase: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You leave a project to move on right to the next one. This is the sign of a successful manager:-)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Scarce resources and short deadlines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A new project is always more challenging than wrapping up an old one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Unified Process is an iterative software lifecycle model with emphasis on the early construction of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a software architecture and early demonstrations of the system. 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It consists of phases, workflows and iterations that produce artifacts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4 phases: Inception, Elaboration, Construction, Transition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7 workflows: Management, environment, requirements, design, implementation, assessment, deployment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5 artifact sets: Management set, requirements set, design set, implementation set, deployment set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Palatino"/>
              </a:rPr>
              <a:t>Note:  The Rational Unified Process is a commercial product of the Unified Process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Let’s model the system design in the unified process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term </a:t>
            </a: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Process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 is overloaded in the Unified Process. It uses 3 types of processes: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Metaprocess (“Business process”). An organizations’s policies, procedures and practices for pursuing a software-intensive line of business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Focus: Organizational improvement, long-term strategies, and return on investment (ROI)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Macroprocess (“Lifecycle Model”). The set of processes in in a software lifecycle and dependencies among them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Focus: Producing a software system within cost, schedule and quality constraints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Microprocess (“Process”). Policies, and practices for achieving an artifact of the software process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Focus: Intermediate baselines with adequate quality and adequate functionality as economically and rapidly as practical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Historical note: The Unified Process is based on Ivar Jacobsen’s Objectory, a CASE Tool developed by Ericsson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Emphasis on the </a:t>
            </a:r>
            <a:r>
              <a:rPr b="0" i="1" lang="en-US" sz="1000" spc="-1" strike="noStrike">
                <a:solidFill>
                  <a:srgbClr val="000000"/>
                </a:solidFill>
                <a:latin typeface="Palatino"/>
              </a:rPr>
              <a:t>difference between research/development and production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In the Unified Process this difference is modeled by introducing two major stages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Engineering Stage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Production Stage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is is shown on the next slide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320840" y="-131760"/>
            <a:ext cx="4214880" cy="315756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Note: Stages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 and </a:t>
            </a: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phases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 are nothing else but arbitrary names of the states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(actually </a:t>
            </a: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superstates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 and </a:t>
            </a: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states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) of a project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1080" y="3852360"/>
            <a:ext cx="811188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8000" y="13125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080" y="38523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8000" y="38523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261180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3920" y="1312560"/>
            <a:ext cx="261180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6760" y="1312560"/>
            <a:ext cx="261180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1080" y="3852360"/>
            <a:ext cx="261180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3920" y="3852360"/>
            <a:ext cx="261180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6760" y="3852360"/>
            <a:ext cx="261180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395856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8000" y="1312560"/>
            <a:ext cx="395856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25160" y="225360"/>
            <a:ext cx="82659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8000" y="1312560"/>
            <a:ext cx="395856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41080" y="38523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395856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8000" y="13125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8000" y="38523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8000" y="13125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1080" y="3852360"/>
            <a:ext cx="811188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1080" y="3852360"/>
            <a:ext cx="811188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8000" y="13125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1080" y="38523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8000" y="38523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261180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3920" y="1312560"/>
            <a:ext cx="261180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6760" y="1312560"/>
            <a:ext cx="261180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1080" y="3852360"/>
            <a:ext cx="261180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83920" y="3852360"/>
            <a:ext cx="261180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6760" y="3852360"/>
            <a:ext cx="261180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395856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8000" y="1312560"/>
            <a:ext cx="395856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25160" y="225360"/>
            <a:ext cx="82659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8000" y="1312560"/>
            <a:ext cx="395856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41080" y="38523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395856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8000" y="13125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8000" y="38523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8000" y="1312560"/>
            <a:ext cx="395856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1080" y="3852360"/>
            <a:ext cx="8111880" cy="231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63840" indent="-173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27160" indent="-174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27160" indent="-174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27160" indent="-174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67720" y="6423120"/>
            <a:ext cx="7975440" cy="2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Object-Oriented Software Engineering: Using UML, Patterns, and Java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fld id="{2D9BB52C-312A-4D90-9DC3-3DC78F17815A}" type="slidenum"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9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28"/>
          <p:cNvSpPr/>
          <p:nvPr/>
        </p:nvSpPr>
        <p:spPr>
          <a:xfrm rot="16200000">
            <a:off x="-2318400" y="2992680"/>
            <a:ext cx="6499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UML, Patterns, and Java</a:t>
            </a: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0" name="Text Box 1029"/>
          <p:cNvSpPr/>
          <p:nvPr/>
        </p:nvSpPr>
        <p:spPr>
          <a:xfrm rot="16200000">
            <a:off x="-2693520" y="3216960"/>
            <a:ext cx="64882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-Oriented Software Engineering</a:t>
            </a:r>
            <a:endParaRPr b="1" lang="en-US" sz="2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63840" indent="-173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27160" indent="-174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27160" indent="-174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27160" indent="-174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6720" y="272880"/>
            <a:ext cx="6629400" cy="1059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15, Software Life Cycle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Unified Proces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Picture 1026" descr=""/>
          <p:cNvPicPr/>
          <p:nvPr/>
        </p:nvPicPr>
        <p:blipFill>
          <a:blip r:embed="rId1"/>
          <a:srcRect l="0" t="3028" r="0" b="12607"/>
          <a:stretch/>
        </p:blipFill>
        <p:spPr>
          <a:xfrm>
            <a:off x="2197080" y="1333440"/>
            <a:ext cx="651528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ransitioning from Engineering to Produc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“engineering” of the system is complete, a decision must be ma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 to production ph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ve to an operation with higher cost risk and inertia (i.e. bureaucrac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 ques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e system models and project plans stable enoug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the risks been dealt wit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we predict cost and schedule for the completion of the development for an acceptable rang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7"/>
          <p:cNvGrpSpPr/>
          <p:nvPr/>
        </p:nvGrpSpPr>
        <p:grpSpPr>
          <a:xfrm>
            <a:off x="3001680" y="1514520"/>
            <a:ext cx="3475440" cy="1228680"/>
            <a:chOff x="3001680" y="1514520"/>
            <a:chExt cx="3475440" cy="1228680"/>
          </a:xfrm>
        </p:grpSpPr>
        <p:sp>
          <p:nvSpPr>
            <p:cNvPr id="107" name="Oval 5"/>
            <p:cNvSpPr/>
            <p:nvPr/>
          </p:nvSpPr>
          <p:spPr>
            <a:xfrm>
              <a:off x="4429440" y="1514520"/>
              <a:ext cx="2047680" cy="122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Elaboration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cxnSp>
          <p:nvCxnSpPr>
            <p:cNvPr id="108" name="AutoShape 9"/>
            <p:cNvCxnSpPr>
              <a:stCxn id="109" idx="6"/>
              <a:endCxn id="107" idx="2"/>
            </p:cNvCxnSpPr>
            <p:nvPr/>
          </p:nvCxnSpPr>
          <p:spPr>
            <a:xfrm>
              <a:off x="3001680" y="2111400"/>
              <a:ext cx="1428120" cy="18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0" name="Group 22"/>
          <p:cNvGrpSpPr/>
          <p:nvPr/>
        </p:nvGrpSpPr>
        <p:grpSpPr>
          <a:xfrm>
            <a:off x="318960" y="1447920"/>
            <a:ext cx="2529720" cy="1276920"/>
            <a:chOff x="318960" y="1447920"/>
            <a:chExt cx="2529720" cy="1276920"/>
          </a:xfrm>
        </p:grpSpPr>
        <p:sp>
          <p:nvSpPr>
            <p:cNvPr id="109" name="Oval 4"/>
            <p:cNvSpPr/>
            <p:nvPr/>
          </p:nvSpPr>
          <p:spPr>
            <a:xfrm>
              <a:off x="801720" y="1496520"/>
              <a:ext cx="2046960" cy="122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Inception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318960" y="1447920"/>
              <a:ext cx="622080" cy="3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grpSp>
        <p:nvGrpSpPr>
          <p:cNvPr id="112" name="Group 28"/>
          <p:cNvGrpSpPr/>
          <p:nvPr/>
        </p:nvGrpSpPr>
        <p:grpSpPr>
          <a:xfrm>
            <a:off x="4352760" y="2666880"/>
            <a:ext cx="2048040" cy="2057400"/>
            <a:chOff x="4352760" y="2666880"/>
            <a:chExt cx="2048040" cy="2057400"/>
          </a:xfrm>
        </p:grpSpPr>
        <p:sp>
          <p:nvSpPr>
            <p:cNvPr id="113" name="Oval 6"/>
            <p:cNvSpPr/>
            <p:nvPr/>
          </p:nvSpPr>
          <p:spPr>
            <a:xfrm>
              <a:off x="4352760" y="3821040"/>
              <a:ext cx="2048040" cy="90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Construction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cxnSp>
          <p:nvCxnSpPr>
            <p:cNvPr id="114" name="AutoShape 10"/>
            <p:cNvCxnSpPr>
              <a:stCxn id="107" idx="4"/>
              <a:endCxn id="113" idx="0"/>
            </p:cNvCxnSpPr>
            <p:nvPr/>
          </p:nvCxnSpPr>
          <p:spPr>
            <a:xfrm>
              <a:off x="5343120" y="2666880"/>
              <a:ext cx="34200" cy="1154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15" name="AutoShape 12"/>
          <p:cNvCxnSpPr>
            <a:stCxn id="116" idx="0"/>
            <a:endCxn id="109" idx="4"/>
          </p:cNvCxnSpPr>
          <p:nvPr/>
        </p:nvCxnSpPr>
        <p:spPr>
          <a:xfrm flipH="1" flipV="1">
            <a:off x="1825200" y="2725200"/>
            <a:ext cx="41760" cy="1085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tates of a Software System in the UP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8" name="Group 21"/>
          <p:cNvGrpSpPr/>
          <p:nvPr/>
        </p:nvGrpSpPr>
        <p:grpSpPr>
          <a:xfrm>
            <a:off x="2986200" y="2438280"/>
            <a:ext cx="1964520" cy="1702800"/>
            <a:chOff x="2986200" y="2438280"/>
            <a:chExt cx="1964520" cy="1702800"/>
          </a:xfrm>
        </p:grpSpPr>
        <p:sp>
          <p:nvSpPr>
            <p:cNvPr id="119" name="AutoShape 18"/>
            <p:cNvSpPr/>
            <p:nvPr/>
          </p:nvSpPr>
          <p:spPr>
            <a:xfrm>
              <a:off x="3903120" y="2569320"/>
              <a:ext cx="1047600" cy="1571760"/>
            </a:xfrm>
            <a:custGeom>
              <a:avLst/>
              <a:gdLst>
                <a:gd name="textAreaLeft" fmla="*/ 140040 w 1047600"/>
                <a:gd name="textAreaRight" fmla="*/ 907560 w 1047600"/>
                <a:gd name="textAreaTop" fmla="*/ 275040 h 1571760"/>
                <a:gd name="textAreaBottom" fmla="*/ 1139760 h 15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120" name="AutoShape 19"/>
            <p:cNvSpPr/>
            <p:nvPr/>
          </p:nvSpPr>
          <p:spPr>
            <a:xfrm flipH="1" flipV="1">
              <a:off x="2986200" y="2438280"/>
              <a:ext cx="1047600" cy="1571760"/>
            </a:xfrm>
            <a:custGeom>
              <a:avLst/>
              <a:gdLst>
                <a:gd name="textAreaLeft" fmla="*/ 140040 w 1047600"/>
                <a:gd name="textAreaRight" fmla="*/ 907560 w 1047600"/>
                <a:gd name="textAreaTop" fmla="*/ 275040 h 1571760"/>
                <a:gd name="textAreaBottom" fmla="*/ 1139760 h 15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grpSp>
        <p:nvGrpSpPr>
          <p:cNvPr id="121" name="Group 29"/>
          <p:cNvGrpSpPr/>
          <p:nvPr/>
        </p:nvGrpSpPr>
        <p:grpSpPr>
          <a:xfrm>
            <a:off x="852480" y="3809880"/>
            <a:ext cx="3457440" cy="1105200"/>
            <a:chOff x="852480" y="3809880"/>
            <a:chExt cx="3457440" cy="1105200"/>
          </a:xfrm>
        </p:grpSpPr>
        <p:cxnSp>
          <p:nvCxnSpPr>
            <p:cNvPr id="122" name="AutoShape 11"/>
            <p:cNvCxnSpPr>
              <a:stCxn id="113" idx="2"/>
              <a:endCxn id="116" idx="6"/>
            </p:cNvCxnSpPr>
            <p:nvPr/>
          </p:nvCxnSpPr>
          <p:spPr>
            <a:xfrm flipH="1">
              <a:off x="2881080" y="4349520"/>
              <a:ext cx="1429200" cy="13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" name="Oval 20"/>
            <p:cNvSpPr/>
            <p:nvPr/>
          </p:nvSpPr>
          <p:spPr>
            <a:xfrm>
              <a:off x="852480" y="3809880"/>
              <a:ext cx="2028960" cy="1105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Transition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sp>
        <p:nvSpPr>
          <p:cNvPr id="123" name="AutoShape 31"/>
          <p:cNvSpPr/>
          <p:nvPr/>
        </p:nvSpPr>
        <p:spPr>
          <a:xfrm>
            <a:off x="6172200" y="2514600"/>
            <a:ext cx="2743200" cy="1676520"/>
          </a:xfrm>
          <a:prstGeom prst="cloudCallout">
            <a:avLst>
              <a:gd name="adj1" fmla="val -75231"/>
              <a:gd name="adj2" fmla="val -32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Transition from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engineering stage to 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production stage.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ception Phase: Objectiv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1080" y="1658880"/>
            <a:ext cx="8111880" cy="371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the project scop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critical use cases and sc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 acceptance criteri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at least one candidate software archite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e the cost and schedule for the proje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 and estimate potential risk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6019920" y="152280"/>
            <a:ext cx="2590560" cy="1714680"/>
            <a:chOff x="6019920" y="152280"/>
            <a:chExt cx="2590560" cy="1714680"/>
          </a:xfrm>
        </p:grpSpPr>
        <p:grpSp>
          <p:nvGrpSpPr>
            <p:cNvPr id="127" name="Group 4"/>
            <p:cNvGrpSpPr/>
            <p:nvPr/>
          </p:nvGrpSpPr>
          <p:grpSpPr>
            <a:xfrm>
              <a:off x="7148520" y="185040"/>
              <a:ext cx="1461960" cy="607680"/>
              <a:chOff x="7148520" y="185040"/>
              <a:chExt cx="1461960" cy="607680"/>
            </a:xfrm>
          </p:grpSpPr>
          <p:sp>
            <p:nvSpPr>
              <p:cNvPr id="128" name="Oval 5"/>
              <p:cNvSpPr/>
              <p:nvPr/>
            </p:nvSpPr>
            <p:spPr>
              <a:xfrm>
                <a:off x="7749000" y="185040"/>
                <a:ext cx="861480" cy="607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Elabora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cxnSp>
            <p:nvCxnSpPr>
              <p:cNvPr id="129" name="AutoShape 6"/>
              <p:cNvCxnSpPr>
                <a:stCxn id="130" idx="6"/>
                <a:endCxn id="128" idx="2"/>
              </p:cNvCxnSpPr>
              <p:nvPr/>
            </p:nvCxnSpPr>
            <p:spPr>
              <a:xfrm>
                <a:off x="7148520" y="479880"/>
                <a:ext cx="601200" cy="90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31" name="Group 7"/>
            <p:cNvGrpSpPr/>
            <p:nvPr/>
          </p:nvGrpSpPr>
          <p:grpSpPr>
            <a:xfrm>
              <a:off x="6019920" y="152280"/>
              <a:ext cx="1064160" cy="631440"/>
              <a:chOff x="6019920" y="152280"/>
              <a:chExt cx="1064160" cy="631440"/>
            </a:xfrm>
          </p:grpSpPr>
          <p:sp>
            <p:nvSpPr>
              <p:cNvPr id="130" name="Oval 8"/>
              <p:cNvSpPr/>
              <p:nvPr/>
            </p:nvSpPr>
            <p:spPr>
              <a:xfrm>
                <a:off x="6222960" y="176400"/>
                <a:ext cx="861120" cy="607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Incep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132" name="Line 9"/>
              <p:cNvSpPr/>
              <p:nvPr/>
            </p:nvSpPr>
            <p:spPr>
              <a:xfrm>
                <a:off x="6019920" y="152280"/>
                <a:ext cx="261720" cy="19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grpSp>
          <p:nvGrpSpPr>
            <p:cNvPr id="133" name="Group 10"/>
            <p:cNvGrpSpPr/>
            <p:nvPr/>
          </p:nvGrpSpPr>
          <p:grpSpPr>
            <a:xfrm>
              <a:off x="7716600" y="754560"/>
              <a:ext cx="861480" cy="1017360"/>
              <a:chOff x="7716600" y="754560"/>
              <a:chExt cx="861480" cy="1017360"/>
            </a:xfrm>
          </p:grpSpPr>
          <p:sp>
            <p:nvSpPr>
              <p:cNvPr id="134" name="Oval 11"/>
              <p:cNvSpPr/>
              <p:nvPr/>
            </p:nvSpPr>
            <p:spPr>
              <a:xfrm>
                <a:off x="7716600" y="1325520"/>
                <a:ext cx="861480" cy="446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Construc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cxnSp>
            <p:nvCxnSpPr>
              <p:cNvPr id="135" name="AutoShape 12"/>
              <p:cNvCxnSpPr>
                <a:stCxn id="128" idx="4"/>
                <a:endCxn id="134" idx="0"/>
              </p:cNvCxnSpPr>
              <p:nvPr/>
            </p:nvCxnSpPr>
            <p:spPr>
              <a:xfrm>
                <a:off x="8132760" y="754560"/>
                <a:ext cx="14760" cy="5713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36" name="AutoShape 13"/>
            <p:cNvCxnSpPr>
              <a:stCxn id="137" idx="0"/>
              <a:endCxn id="130" idx="4"/>
            </p:cNvCxnSpPr>
            <p:nvPr/>
          </p:nvCxnSpPr>
          <p:spPr>
            <a:xfrm flipH="1" flipV="1">
              <a:off x="6653160" y="783360"/>
              <a:ext cx="18000" cy="536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8" name="Group 14"/>
            <p:cNvGrpSpPr/>
            <p:nvPr/>
          </p:nvGrpSpPr>
          <p:grpSpPr>
            <a:xfrm>
              <a:off x="7142040" y="641520"/>
              <a:ext cx="826200" cy="842400"/>
              <a:chOff x="7142040" y="641520"/>
              <a:chExt cx="826200" cy="842400"/>
            </a:xfrm>
          </p:grpSpPr>
          <p:sp>
            <p:nvSpPr>
              <p:cNvPr id="139" name="AutoShape 15"/>
              <p:cNvSpPr/>
              <p:nvPr/>
            </p:nvSpPr>
            <p:spPr>
              <a:xfrm>
                <a:off x="7527600" y="706680"/>
                <a:ext cx="440640" cy="777240"/>
              </a:xfrm>
              <a:custGeom>
                <a:avLst/>
                <a:gdLst>
                  <a:gd name="textAreaLeft" fmla="*/ 59040 w 440640"/>
                  <a:gd name="textAreaRight" fmla="*/ 381600 w 440640"/>
                  <a:gd name="textAreaTop" fmla="*/ 136080 h 777240"/>
                  <a:gd name="textAreaBottom" fmla="*/ 563760 h 77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140" name="AutoShape 16"/>
              <p:cNvSpPr/>
              <p:nvPr/>
            </p:nvSpPr>
            <p:spPr>
              <a:xfrm flipH="1" flipV="1">
                <a:off x="7142040" y="641160"/>
                <a:ext cx="440640" cy="777240"/>
              </a:xfrm>
              <a:custGeom>
                <a:avLst/>
                <a:gdLst>
                  <a:gd name="textAreaLeft" fmla="*/ 59040 w 440640"/>
                  <a:gd name="textAreaRight" fmla="*/ 381600 w 440640"/>
                  <a:gd name="textAreaTop" fmla="*/ 135720 h 777240"/>
                  <a:gd name="textAreaBottom" fmla="*/ 563400 h 77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grpSp>
          <p:nvGrpSpPr>
            <p:cNvPr id="141" name="Group 17"/>
            <p:cNvGrpSpPr/>
            <p:nvPr/>
          </p:nvGrpSpPr>
          <p:grpSpPr>
            <a:xfrm>
              <a:off x="6244200" y="1320480"/>
              <a:ext cx="1454040" cy="546480"/>
              <a:chOff x="6244200" y="1320480"/>
              <a:chExt cx="1454040" cy="546480"/>
            </a:xfrm>
          </p:grpSpPr>
          <p:cxnSp>
            <p:nvCxnSpPr>
              <p:cNvPr id="142" name="AutoShape 18"/>
              <p:cNvCxnSpPr>
                <a:stCxn id="134" idx="2"/>
                <a:endCxn id="137" idx="6"/>
              </p:cNvCxnSpPr>
              <p:nvPr/>
            </p:nvCxnSpPr>
            <p:spPr>
              <a:xfrm flipH="1">
                <a:off x="7097400" y="1586880"/>
                <a:ext cx="601200" cy="6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7" name="Oval 19"/>
              <p:cNvSpPr/>
              <p:nvPr/>
            </p:nvSpPr>
            <p:spPr>
              <a:xfrm>
                <a:off x="6244200" y="1320480"/>
                <a:ext cx="853560" cy="54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Transi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ception Phase: Activit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2640" y="1371240"/>
            <a:ext cx="7716960" cy="4267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ulate the scope of th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ture requirem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: problem space and acceptance criteria are defi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 the software archite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design trade-offs, investigate solution sp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: Feasibility of  at least one candidate architecture is explored, initial set of build vs. buy decis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 and prepare a business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alternatives for risks, staffing problems, pl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4">
            <a:hlinkClick r:id="rId1" action="ppaction://hlinksldjump"/>
          </p:cNvPr>
          <p:cNvSpPr/>
          <p:nvPr/>
        </p:nvSpPr>
        <p:spPr>
          <a:xfrm>
            <a:off x="2590920" y="44956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ception Phase: Evaluation Criteria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all stakeholders concur on the scope definition and cost and schedule estimat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requirements understood, are the critical use cases adequately model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software architecture understoo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cost, schedule estimates, priorities, risks and development processes credib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re a prototype that helps in evaluating the criteri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laboration Phase: Objectiv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41080" y="159984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line the software architec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 a configuration management plan in which all changes are tracked and maintai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line the problem stat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 line the software project management plan for the construction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that the architecture supports the requirements at a reasonable cost in a reasonabl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: Why does the Unified process not  recommend the establishment of a configuration management plan during the inception pha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6019920" y="152280"/>
            <a:ext cx="2590560" cy="1714680"/>
            <a:chOff x="6019920" y="152280"/>
            <a:chExt cx="2590560" cy="1714680"/>
          </a:xfrm>
        </p:grpSpPr>
        <p:grpSp>
          <p:nvGrpSpPr>
            <p:cNvPr id="151" name="Group 5"/>
            <p:cNvGrpSpPr/>
            <p:nvPr/>
          </p:nvGrpSpPr>
          <p:grpSpPr>
            <a:xfrm>
              <a:off x="7148520" y="185040"/>
              <a:ext cx="1461960" cy="607680"/>
              <a:chOff x="7148520" y="185040"/>
              <a:chExt cx="1461960" cy="607680"/>
            </a:xfrm>
          </p:grpSpPr>
          <p:sp>
            <p:nvSpPr>
              <p:cNvPr id="152" name="Oval 6"/>
              <p:cNvSpPr/>
              <p:nvPr/>
            </p:nvSpPr>
            <p:spPr>
              <a:xfrm>
                <a:off x="7749000" y="185040"/>
                <a:ext cx="861480" cy="607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Elabora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cxnSp>
            <p:nvCxnSpPr>
              <p:cNvPr id="153" name="AutoShape 7"/>
              <p:cNvCxnSpPr>
                <a:stCxn id="154" idx="6"/>
                <a:endCxn id="152" idx="2"/>
              </p:cNvCxnSpPr>
              <p:nvPr/>
            </p:nvCxnSpPr>
            <p:spPr>
              <a:xfrm>
                <a:off x="7148520" y="479880"/>
                <a:ext cx="601200" cy="90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5" name="Group 8"/>
            <p:cNvGrpSpPr/>
            <p:nvPr/>
          </p:nvGrpSpPr>
          <p:grpSpPr>
            <a:xfrm>
              <a:off x="6019920" y="152280"/>
              <a:ext cx="1064160" cy="631440"/>
              <a:chOff x="6019920" y="152280"/>
              <a:chExt cx="1064160" cy="631440"/>
            </a:xfrm>
          </p:grpSpPr>
          <p:sp>
            <p:nvSpPr>
              <p:cNvPr id="154" name="Oval 9"/>
              <p:cNvSpPr/>
              <p:nvPr/>
            </p:nvSpPr>
            <p:spPr>
              <a:xfrm>
                <a:off x="6222960" y="176400"/>
                <a:ext cx="861120" cy="607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Incep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156" name="Line 10"/>
              <p:cNvSpPr/>
              <p:nvPr/>
            </p:nvSpPr>
            <p:spPr>
              <a:xfrm>
                <a:off x="6019920" y="152280"/>
                <a:ext cx="261720" cy="19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grpSp>
          <p:nvGrpSpPr>
            <p:cNvPr id="157" name="Group 11"/>
            <p:cNvGrpSpPr/>
            <p:nvPr/>
          </p:nvGrpSpPr>
          <p:grpSpPr>
            <a:xfrm>
              <a:off x="7716600" y="754560"/>
              <a:ext cx="861480" cy="1017360"/>
              <a:chOff x="7716600" y="754560"/>
              <a:chExt cx="861480" cy="1017360"/>
            </a:xfrm>
          </p:grpSpPr>
          <p:sp>
            <p:nvSpPr>
              <p:cNvPr id="158" name="Oval 12"/>
              <p:cNvSpPr/>
              <p:nvPr/>
            </p:nvSpPr>
            <p:spPr>
              <a:xfrm>
                <a:off x="7716600" y="1325520"/>
                <a:ext cx="861480" cy="446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Construc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cxnSp>
            <p:nvCxnSpPr>
              <p:cNvPr id="159" name="AutoShape 13"/>
              <p:cNvCxnSpPr>
                <a:stCxn id="152" idx="4"/>
                <a:endCxn id="158" idx="0"/>
              </p:cNvCxnSpPr>
              <p:nvPr/>
            </p:nvCxnSpPr>
            <p:spPr>
              <a:xfrm>
                <a:off x="8132760" y="754560"/>
                <a:ext cx="14760" cy="5713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60" name="AutoShape 14"/>
            <p:cNvCxnSpPr>
              <a:stCxn id="161" idx="0"/>
              <a:endCxn id="154" idx="4"/>
            </p:cNvCxnSpPr>
            <p:nvPr/>
          </p:nvCxnSpPr>
          <p:spPr>
            <a:xfrm flipH="1" flipV="1">
              <a:off x="6653160" y="783360"/>
              <a:ext cx="18000" cy="536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62" name="Group 15"/>
            <p:cNvGrpSpPr/>
            <p:nvPr/>
          </p:nvGrpSpPr>
          <p:grpSpPr>
            <a:xfrm>
              <a:off x="7142040" y="641520"/>
              <a:ext cx="826200" cy="842400"/>
              <a:chOff x="7142040" y="641520"/>
              <a:chExt cx="826200" cy="842400"/>
            </a:xfrm>
          </p:grpSpPr>
          <p:sp>
            <p:nvSpPr>
              <p:cNvPr id="163" name="AutoShape 16"/>
              <p:cNvSpPr/>
              <p:nvPr/>
            </p:nvSpPr>
            <p:spPr>
              <a:xfrm>
                <a:off x="7527600" y="706680"/>
                <a:ext cx="440640" cy="777240"/>
              </a:xfrm>
              <a:custGeom>
                <a:avLst/>
                <a:gdLst>
                  <a:gd name="textAreaLeft" fmla="*/ 59040 w 440640"/>
                  <a:gd name="textAreaRight" fmla="*/ 381600 w 440640"/>
                  <a:gd name="textAreaTop" fmla="*/ 136080 h 777240"/>
                  <a:gd name="textAreaBottom" fmla="*/ 563760 h 77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164" name="AutoShape 17"/>
              <p:cNvSpPr/>
              <p:nvPr/>
            </p:nvSpPr>
            <p:spPr>
              <a:xfrm flipH="1" flipV="1">
                <a:off x="7142040" y="641160"/>
                <a:ext cx="440640" cy="777240"/>
              </a:xfrm>
              <a:custGeom>
                <a:avLst/>
                <a:gdLst>
                  <a:gd name="textAreaLeft" fmla="*/ 59040 w 440640"/>
                  <a:gd name="textAreaRight" fmla="*/ 381600 w 440640"/>
                  <a:gd name="textAreaTop" fmla="*/ 135720 h 777240"/>
                  <a:gd name="textAreaBottom" fmla="*/ 563400 h 77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grpSp>
          <p:nvGrpSpPr>
            <p:cNvPr id="165" name="Group 18"/>
            <p:cNvGrpSpPr/>
            <p:nvPr/>
          </p:nvGrpSpPr>
          <p:grpSpPr>
            <a:xfrm>
              <a:off x="6244200" y="1320480"/>
              <a:ext cx="1454040" cy="546480"/>
              <a:chOff x="6244200" y="1320480"/>
              <a:chExt cx="1454040" cy="546480"/>
            </a:xfrm>
          </p:grpSpPr>
          <p:cxnSp>
            <p:nvCxnSpPr>
              <p:cNvPr id="166" name="AutoShape 19"/>
              <p:cNvCxnSpPr>
                <a:stCxn id="158" idx="2"/>
                <a:endCxn id="161" idx="6"/>
              </p:cNvCxnSpPr>
              <p:nvPr/>
            </p:nvCxnSpPr>
            <p:spPr>
              <a:xfrm flipH="1">
                <a:off x="7097400" y="1586880"/>
                <a:ext cx="601200" cy="6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1" name="Oval 20"/>
              <p:cNvSpPr/>
              <p:nvPr/>
            </p:nvSpPr>
            <p:spPr>
              <a:xfrm>
                <a:off x="6244200" y="1320480"/>
                <a:ext cx="853560" cy="54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Transi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laboration Phase: Activit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 fontScale="98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aborate the problem statement (“vision”) by working out the critical use cases that drive technical and managerial decis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aborate the infrastructur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ilor the software process for the construction stage, identify too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intermediate milestones and evaluation criteria for these mileston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buy/build (“make/buy”) problems and make decis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lessons learned from the inception phase to redesign the software architecture if necessary (“always necessary”:-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laboration Phase: Evaluation Criteria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y the following questions to the results of the inception pha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problem statement stab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architecture stab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the executable demonstration show that the major risk elements have been addressed and credibly resolv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construction plan credible? By what claims is it backed up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all stakeholders (project participants) agree that the vision expressed in the problem can be met if the current plan is execut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actual resource expenditures versus planned expenditures so far acceptab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nstruction Phase: Objectiv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41080" y="199512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imize development costs by optimizing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hieve adequate quality as rapidly as pract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hieve useful version (alpha, beta, and other test releases) as soon as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019920" y="152280"/>
            <a:ext cx="2590560" cy="1714680"/>
            <a:chOff x="6019920" y="152280"/>
            <a:chExt cx="2590560" cy="1714680"/>
          </a:xfrm>
        </p:grpSpPr>
        <p:grpSp>
          <p:nvGrpSpPr>
            <p:cNvPr id="174" name="Group 5"/>
            <p:cNvGrpSpPr/>
            <p:nvPr/>
          </p:nvGrpSpPr>
          <p:grpSpPr>
            <a:xfrm>
              <a:off x="7148520" y="185040"/>
              <a:ext cx="1461960" cy="607680"/>
              <a:chOff x="7148520" y="185040"/>
              <a:chExt cx="1461960" cy="607680"/>
            </a:xfrm>
          </p:grpSpPr>
          <p:sp>
            <p:nvSpPr>
              <p:cNvPr id="175" name="Oval 6"/>
              <p:cNvSpPr/>
              <p:nvPr/>
            </p:nvSpPr>
            <p:spPr>
              <a:xfrm>
                <a:off x="7749000" y="185040"/>
                <a:ext cx="861480" cy="607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Elabora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cxnSp>
            <p:nvCxnSpPr>
              <p:cNvPr id="176" name="AutoShape 7"/>
              <p:cNvCxnSpPr>
                <a:stCxn id="177" idx="6"/>
                <a:endCxn id="175" idx="2"/>
              </p:cNvCxnSpPr>
              <p:nvPr/>
            </p:nvCxnSpPr>
            <p:spPr>
              <a:xfrm>
                <a:off x="7148520" y="479880"/>
                <a:ext cx="601200" cy="90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78" name="Group 8"/>
            <p:cNvGrpSpPr/>
            <p:nvPr/>
          </p:nvGrpSpPr>
          <p:grpSpPr>
            <a:xfrm>
              <a:off x="6019920" y="152280"/>
              <a:ext cx="1064160" cy="631440"/>
              <a:chOff x="6019920" y="152280"/>
              <a:chExt cx="1064160" cy="631440"/>
            </a:xfrm>
          </p:grpSpPr>
          <p:sp>
            <p:nvSpPr>
              <p:cNvPr id="177" name="Oval 9"/>
              <p:cNvSpPr/>
              <p:nvPr/>
            </p:nvSpPr>
            <p:spPr>
              <a:xfrm>
                <a:off x="6222960" y="176400"/>
                <a:ext cx="861120" cy="607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Incep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>
                <a:off x="6019920" y="152280"/>
                <a:ext cx="261720" cy="19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grpSp>
          <p:nvGrpSpPr>
            <p:cNvPr id="180" name="Group 11"/>
            <p:cNvGrpSpPr/>
            <p:nvPr/>
          </p:nvGrpSpPr>
          <p:grpSpPr>
            <a:xfrm>
              <a:off x="7716600" y="754560"/>
              <a:ext cx="861480" cy="1017360"/>
              <a:chOff x="7716600" y="754560"/>
              <a:chExt cx="861480" cy="1017360"/>
            </a:xfrm>
          </p:grpSpPr>
          <p:sp>
            <p:nvSpPr>
              <p:cNvPr id="181" name="Oval 12"/>
              <p:cNvSpPr/>
              <p:nvPr/>
            </p:nvSpPr>
            <p:spPr>
              <a:xfrm>
                <a:off x="7716600" y="1325520"/>
                <a:ext cx="861480" cy="446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Construc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cxnSp>
            <p:nvCxnSpPr>
              <p:cNvPr id="182" name="AutoShape 13"/>
              <p:cNvCxnSpPr>
                <a:stCxn id="175" idx="4"/>
                <a:endCxn id="181" idx="0"/>
              </p:cNvCxnSpPr>
              <p:nvPr/>
            </p:nvCxnSpPr>
            <p:spPr>
              <a:xfrm>
                <a:off x="8132760" y="754560"/>
                <a:ext cx="14760" cy="5713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83" name="AutoShape 14"/>
            <p:cNvCxnSpPr>
              <a:stCxn id="184" idx="0"/>
              <a:endCxn id="177" idx="4"/>
            </p:cNvCxnSpPr>
            <p:nvPr/>
          </p:nvCxnSpPr>
          <p:spPr>
            <a:xfrm flipH="1" flipV="1">
              <a:off x="6653160" y="783360"/>
              <a:ext cx="18000" cy="536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5" name="Group 15"/>
            <p:cNvGrpSpPr/>
            <p:nvPr/>
          </p:nvGrpSpPr>
          <p:grpSpPr>
            <a:xfrm>
              <a:off x="7142040" y="641520"/>
              <a:ext cx="826200" cy="842400"/>
              <a:chOff x="7142040" y="641520"/>
              <a:chExt cx="826200" cy="842400"/>
            </a:xfrm>
          </p:grpSpPr>
          <p:sp>
            <p:nvSpPr>
              <p:cNvPr id="186" name="AutoShape 16"/>
              <p:cNvSpPr/>
              <p:nvPr/>
            </p:nvSpPr>
            <p:spPr>
              <a:xfrm>
                <a:off x="7527600" y="706680"/>
                <a:ext cx="440640" cy="777240"/>
              </a:xfrm>
              <a:custGeom>
                <a:avLst/>
                <a:gdLst>
                  <a:gd name="textAreaLeft" fmla="*/ 59040 w 440640"/>
                  <a:gd name="textAreaRight" fmla="*/ 381600 w 440640"/>
                  <a:gd name="textAreaTop" fmla="*/ 136080 h 777240"/>
                  <a:gd name="textAreaBottom" fmla="*/ 563760 h 77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187" name="AutoShape 17"/>
              <p:cNvSpPr/>
              <p:nvPr/>
            </p:nvSpPr>
            <p:spPr>
              <a:xfrm flipH="1" flipV="1">
                <a:off x="7142040" y="641160"/>
                <a:ext cx="440640" cy="777240"/>
              </a:xfrm>
              <a:custGeom>
                <a:avLst/>
                <a:gdLst>
                  <a:gd name="textAreaLeft" fmla="*/ 59040 w 440640"/>
                  <a:gd name="textAreaRight" fmla="*/ 381600 w 440640"/>
                  <a:gd name="textAreaTop" fmla="*/ 135720 h 777240"/>
                  <a:gd name="textAreaBottom" fmla="*/ 563400 h 77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grpSp>
          <p:nvGrpSpPr>
            <p:cNvPr id="188" name="Group 18"/>
            <p:cNvGrpSpPr/>
            <p:nvPr/>
          </p:nvGrpSpPr>
          <p:grpSpPr>
            <a:xfrm>
              <a:off x="6244200" y="1320480"/>
              <a:ext cx="1454040" cy="546480"/>
              <a:chOff x="6244200" y="1320480"/>
              <a:chExt cx="1454040" cy="546480"/>
            </a:xfrm>
          </p:grpSpPr>
          <p:cxnSp>
            <p:nvCxnSpPr>
              <p:cNvPr id="189" name="AutoShape 19"/>
              <p:cNvCxnSpPr>
                <a:stCxn id="181" idx="2"/>
                <a:endCxn id="184" idx="6"/>
              </p:cNvCxnSpPr>
              <p:nvPr/>
            </p:nvCxnSpPr>
            <p:spPr>
              <a:xfrm flipH="1">
                <a:off x="7097400" y="1586880"/>
                <a:ext cx="601200" cy="6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84" name="Oval 20"/>
              <p:cNvSpPr/>
              <p:nvPr/>
            </p:nvSpPr>
            <p:spPr>
              <a:xfrm>
                <a:off x="6244200" y="1320480"/>
                <a:ext cx="853560" cy="54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Transi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nstruction Phase: Activit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ource management, control and process optim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component development and testing against evalu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ssment of product releases against acceptance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 of Today’s Lectur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1080" y="106632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fied Process: An iterative process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s of a software system developed with the Unified Proces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eption, Elaboration, Construction, Tran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tifacts Se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ment Set, Engineering 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flow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ment, Environment, Requirements, Design, Implementation, Assessment, Deploy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ing iterations as software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stakes in managing it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nstruction Phase: Evaluation Criteria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y the following questions to the results of the construction pha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product baselin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atu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ough to be deployed in the user communit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sting faults are not obstacles to do the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product baselin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ough to be deployed in the user communit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ding changes are not obstacles to do the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e stakeholders ready for the transition of the software system to the user communit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actual resource expenditures versus planned expenditures so far acceptab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ransition Phas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1080" y="191880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ansition phase is entered when a baseline is m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usable subset of the system has been built with acceptable quality levels and user docum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an be deployed to the user commun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some projects the transition phase means the starting point for another version of the software syste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other projects the transition phase means the complete delivery of the software system to a third party responsible for operation, maintenance and enhance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6019920" y="152280"/>
            <a:ext cx="2590560" cy="1714680"/>
            <a:chOff x="6019920" y="152280"/>
            <a:chExt cx="2590560" cy="1714680"/>
          </a:xfrm>
        </p:grpSpPr>
        <p:grpSp>
          <p:nvGrpSpPr>
            <p:cNvPr id="197" name="Group 5"/>
            <p:cNvGrpSpPr/>
            <p:nvPr/>
          </p:nvGrpSpPr>
          <p:grpSpPr>
            <a:xfrm>
              <a:off x="7148520" y="185040"/>
              <a:ext cx="1461960" cy="607680"/>
              <a:chOff x="7148520" y="185040"/>
              <a:chExt cx="1461960" cy="607680"/>
            </a:xfrm>
          </p:grpSpPr>
          <p:sp>
            <p:nvSpPr>
              <p:cNvPr id="198" name="Oval 6"/>
              <p:cNvSpPr/>
              <p:nvPr/>
            </p:nvSpPr>
            <p:spPr>
              <a:xfrm>
                <a:off x="7749000" y="185040"/>
                <a:ext cx="861480" cy="607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Elabora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cxnSp>
            <p:nvCxnSpPr>
              <p:cNvPr id="199" name="AutoShape 7"/>
              <p:cNvCxnSpPr>
                <a:stCxn id="200" idx="6"/>
                <a:endCxn id="198" idx="2"/>
              </p:cNvCxnSpPr>
              <p:nvPr/>
            </p:nvCxnSpPr>
            <p:spPr>
              <a:xfrm>
                <a:off x="7148520" y="479880"/>
                <a:ext cx="601200" cy="90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201" name="Group 8"/>
            <p:cNvGrpSpPr/>
            <p:nvPr/>
          </p:nvGrpSpPr>
          <p:grpSpPr>
            <a:xfrm>
              <a:off x="6019920" y="152280"/>
              <a:ext cx="1064160" cy="631440"/>
              <a:chOff x="6019920" y="152280"/>
              <a:chExt cx="1064160" cy="631440"/>
            </a:xfrm>
          </p:grpSpPr>
          <p:sp>
            <p:nvSpPr>
              <p:cNvPr id="200" name="Oval 9"/>
              <p:cNvSpPr/>
              <p:nvPr/>
            </p:nvSpPr>
            <p:spPr>
              <a:xfrm>
                <a:off x="6222960" y="176400"/>
                <a:ext cx="861120" cy="607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Incep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202" name="Line 10"/>
              <p:cNvSpPr/>
              <p:nvPr/>
            </p:nvSpPr>
            <p:spPr>
              <a:xfrm>
                <a:off x="6019920" y="152280"/>
                <a:ext cx="261720" cy="19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grpSp>
          <p:nvGrpSpPr>
            <p:cNvPr id="203" name="Group 11"/>
            <p:cNvGrpSpPr/>
            <p:nvPr/>
          </p:nvGrpSpPr>
          <p:grpSpPr>
            <a:xfrm>
              <a:off x="7716600" y="754560"/>
              <a:ext cx="861480" cy="1017360"/>
              <a:chOff x="7716600" y="754560"/>
              <a:chExt cx="861480" cy="1017360"/>
            </a:xfrm>
          </p:grpSpPr>
          <p:sp>
            <p:nvSpPr>
              <p:cNvPr id="204" name="Oval 12"/>
              <p:cNvSpPr/>
              <p:nvPr/>
            </p:nvSpPr>
            <p:spPr>
              <a:xfrm>
                <a:off x="7716600" y="1325520"/>
                <a:ext cx="861480" cy="446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Construc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cxnSp>
            <p:nvCxnSpPr>
              <p:cNvPr id="205" name="AutoShape 13"/>
              <p:cNvCxnSpPr>
                <a:stCxn id="198" idx="4"/>
                <a:endCxn id="204" idx="0"/>
              </p:cNvCxnSpPr>
              <p:nvPr/>
            </p:nvCxnSpPr>
            <p:spPr>
              <a:xfrm>
                <a:off x="8132760" y="754560"/>
                <a:ext cx="14760" cy="5713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206" name="AutoShape 14"/>
            <p:cNvCxnSpPr>
              <a:stCxn id="207" idx="0"/>
              <a:endCxn id="200" idx="4"/>
            </p:cNvCxnSpPr>
            <p:nvPr/>
          </p:nvCxnSpPr>
          <p:spPr>
            <a:xfrm flipH="1" flipV="1">
              <a:off x="6653160" y="783360"/>
              <a:ext cx="18000" cy="536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08" name="Group 15"/>
            <p:cNvGrpSpPr/>
            <p:nvPr/>
          </p:nvGrpSpPr>
          <p:grpSpPr>
            <a:xfrm>
              <a:off x="7142040" y="641520"/>
              <a:ext cx="826200" cy="842400"/>
              <a:chOff x="7142040" y="641520"/>
              <a:chExt cx="826200" cy="84240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7527600" y="706680"/>
                <a:ext cx="440640" cy="777240"/>
              </a:xfrm>
              <a:custGeom>
                <a:avLst/>
                <a:gdLst>
                  <a:gd name="textAreaLeft" fmla="*/ 59040 w 440640"/>
                  <a:gd name="textAreaRight" fmla="*/ 381600 w 440640"/>
                  <a:gd name="textAreaTop" fmla="*/ 136080 h 777240"/>
                  <a:gd name="textAreaBottom" fmla="*/ 563760 h 77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 flipH="1" flipV="1">
                <a:off x="7142040" y="641160"/>
                <a:ext cx="440640" cy="777240"/>
              </a:xfrm>
              <a:custGeom>
                <a:avLst/>
                <a:gdLst>
                  <a:gd name="textAreaLeft" fmla="*/ 59040 w 440640"/>
                  <a:gd name="textAreaRight" fmla="*/ 381600 w 440640"/>
                  <a:gd name="textAreaTop" fmla="*/ 135720 h 777240"/>
                  <a:gd name="textAreaBottom" fmla="*/ 563400 h 77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grpSp>
          <p:nvGrpSpPr>
            <p:cNvPr id="211" name="Group 18"/>
            <p:cNvGrpSpPr/>
            <p:nvPr/>
          </p:nvGrpSpPr>
          <p:grpSpPr>
            <a:xfrm>
              <a:off x="6244200" y="1320480"/>
              <a:ext cx="1454040" cy="546480"/>
              <a:chOff x="6244200" y="1320480"/>
              <a:chExt cx="1454040" cy="546480"/>
            </a:xfrm>
          </p:grpSpPr>
          <p:cxnSp>
            <p:nvCxnSpPr>
              <p:cNvPr id="212" name="AutoShape 19"/>
              <p:cNvCxnSpPr>
                <a:stCxn id="204" idx="2"/>
                <a:endCxn id="207" idx="6"/>
              </p:cNvCxnSpPr>
              <p:nvPr/>
            </p:nvCxnSpPr>
            <p:spPr>
              <a:xfrm flipH="1">
                <a:off x="7097400" y="1586880"/>
                <a:ext cx="601200" cy="6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07" name="Oval 20"/>
              <p:cNvSpPr/>
              <p:nvPr/>
            </p:nvSpPr>
            <p:spPr>
              <a:xfrm>
                <a:off x="6244200" y="1320480"/>
                <a:ext cx="853560" cy="54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Transi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ransition Phase: Objectiv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hieve independence of user (users can support themselv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loyment baseline is complete and consistent with the criteria in the project agre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nal baseline can be built as rapidly and cost-effectively as possibl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ransition Phase: Activit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chronization and integration of concurrent development increments into one consistent deployment base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ercial packaging and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les rollout kit develop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eld personnel train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f deployment baseline against the acceptance criteri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ransition Phase: Evaluation Criteria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user satisfie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actual resource expenditures versus planned expenditures so far acceptabl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terations in the Unified Proce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of the four phases introduced so far (inception, elaboration, construction, transition) consists of one or more it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iter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s a set of activities for which there is a milestone (“well-defined intermediate event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cope and results of the iteration are captured via work products (called artifacts in the UP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hase vs. Iter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d5000a"/>
                </a:solidFill>
                <a:latin typeface="Verdana"/>
              </a:rPr>
              <a:t>pha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reates a formal, stake-holder approved version of artif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leads to a “major milestone”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to phase transi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iggered by a significant business decision (not by the completion of a software development activ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400" spc="-1" strike="noStrike">
                <a:solidFill>
                  <a:srgbClr val="d5000a"/>
                </a:solidFill>
                <a:latin typeface="Verdana"/>
              </a:rPr>
              <a:t>iter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reates an informal, internally controlled version of artif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leads to a “minor milestone”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eration to iteration transi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iggered by a specific software development activ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rtifact Sets in the Unified Proce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Artifact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ork product in a uniform representation format (natural language, UML, Java, binary code,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Artifact set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t of artifacts developed and reviewed as a single ent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nified Process distinguishes five artifact 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ment s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 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 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ation 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loyment 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3962520" y="4191120"/>
            <a:ext cx="4674960" cy="1599840"/>
            <a:chOff x="3962520" y="4191120"/>
            <a:chExt cx="4674960" cy="1599840"/>
          </a:xfrm>
        </p:grpSpPr>
        <p:sp>
          <p:nvSpPr>
            <p:cNvPr id="226" name="AutoShape 4"/>
            <p:cNvSpPr/>
            <p:nvPr/>
          </p:nvSpPr>
          <p:spPr>
            <a:xfrm>
              <a:off x="3962520" y="4191120"/>
              <a:ext cx="674640" cy="1599840"/>
            </a:xfrm>
            <a:custGeom>
              <a:avLst/>
              <a:gdLst>
                <a:gd name="textAreaLeft" fmla="*/ 0 w 674640"/>
                <a:gd name="textAreaRight" fmla="*/ 243720 w 674640"/>
                <a:gd name="textAreaTop" fmla="*/ 41400 h 1599840"/>
                <a:gd name="textAreaBottom" fmla="*/ 1558440 h 159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227" name="Text Box 5"/>
            <p:cNvSpPr/>
            <p:nvPr/>
          </p:nvSpPr>
          <p:spPr>
            <a:xfrm>
              <a:off x="4453200" y="4838760"/>
              <a:ext cx="418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Also called the engineering set.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rtifact Sets  in the Unified Proce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0440" y="1219320"/>
            <a:ext cx="2286000" cy="259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5000" bIns="45000" anchor="t">
            <a:normAutofit/>
          </a:bodyPr>
          <a:p>
            <a:pPr marL="289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ments S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Vision docu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Requirements model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2484360" y="1219320"/>
            <a:ext cx="1935360" cy="259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ign Set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Desig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model(s)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Test model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Softwa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architecture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4419720" y="1219320"/>
            <a:ext cx="2286000" cy="259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mplementation  Set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Source co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baselines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Compile-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files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Compone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executables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705720" y="1219320"/>
            <a:ext cx="2361960" cy="259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ployment 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t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Integrated pro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duct executable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Run-time files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User 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cumentation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grpSp>
        <p:nvGrpSpPr>
          <p:cNvPr id="233" name="Group 15"/>
          <p:cNvGrpSpPr/>
          <p:nvPr/>
        </p:nvGrpSpPr>
        <p:grpSpPr>
          <a:xfrm>
            <a:off x="457200" y="3886200"/>
            <a:ext cx="8305560" cy="2406600"/>
            <a:chOff x="457200" y="3886200"/>
            <a:chExt cx="8305560" cy="2406600"/>
          </a:xfrm>
        </p:grpSpPr>
        <p:sp>
          <p:nvSpPr>
            <p:cNvPr id="234" name="Rectangle 7"/>
            <p:cNvSpPr/>
            <p:nvPr/>
          </p:nvSpPr>
          <p:spPr>
            <a:xfrm>
              <a:off x="3504960" y="3886200"/>
              <a:ext cx="259092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5000a"/>
                  </a:solidFill>
                  <a:latin typeface="Verdana"/>
                </a:rPr>
                <a:t>Management Set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>
              <a:off x="990360" y="4139640"/>
              <a:ext cx="3353040" cy="2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Planning Artifacts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Software Project Management Plan (SPMP) 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. Software Configuration Management Plan (SCMP)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3. Work breakdown structure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4. Business Case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. Release specifications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5562360" y="4210560"/>
              <a:ext cx="3124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Operational Artifacts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. Release descriptions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. Status assessments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3. Change Management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database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4. Deployment documents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. Environment.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>
              <a:off x="457200" y="3886200"/>
              <a:ext cx="8305560" cy="240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grpSp>
        <p:nvGrpSpPr>
          <p:cNvPr id="238" name="Group 14"/>
          <p:cNvGrpSpPr/>
          <p:nvPr/>
        </p:nvGrpSpPr>
        <p:grpSpPr>
          <a:xfrm>
            <a:off x="25560" y="892080"/>
            <a:ext cx="9118440" cy="2994120"/>
            <a:chOff x="25560" y="892080"/>
            <a:chExt cx="9118440" cy="2994120"/>
          </a:xfrm>
        </p:grpSpPr>
        <p:sp>
          <p:nvSpPr>
            <p:cNvPr id="239" name="Rectangle 12"/>
            <p:cNvSpPr/>
            <p:nvPr/>
          </p:nvSpPr>
          <p:spPr>
            <a:xfrm>
              <a:off x="25560" y="914400"/>
              <a:ext cx="9118440" cy="297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240" name="Text Box 13"/>
            <p:cNvSpPr/>
            <p:nvPr/>
          </p:nvSpPr>
          <p:spPr>
            <a:xfrm>
              <a:off x="3164040" y="892080"/>
              <a:ext cx="198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5000a"/>
                  </a:solidFill>
                  <a:latin typeface="Verdana"/>
                </a:rPr>
                <a:t>Engineering Set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presentation of Artifact Sets (1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Management Se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: Capture plans, processes, objectives, acceptance crite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ation: Ad hoc text, graphics, textual use c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Requirements 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: Capture problem in language of problem dom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ation:  Structured text, UML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Design 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: Capture the engineering bluepr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ation:  Structured text, UML mode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view of Defini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281fff"/>
                </a:solidFill>
                <a:latin typeface="Verdana"/>
              </a:rPr>
              <a:t>Software life cyc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 of activities and their relationships to each other to support the development of a software syste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281fff"/>
                </a:solidFill>
                <a:latin typeface="Verdana"/>
              </a:rPr>
              <a:t>Software development methodology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llection of techniques for building models -  applied across the software life cy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ationale for Selection of Artifact Sets (2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Implementation 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: Capture the building blocks of the solution domain in human-readable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ation: Programming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Deployment 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: Capture the solution in machine-readable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ation: Machine langu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Life-cycle Focus on Artifact Se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41080" y="1312920"/>
            <a:ext cx="8111880" cy="69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 fontScale="92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artifact set is the predominant focus in one stage of the unified proces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057400" y="2362320"/>
            <a:ext cx="17524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Inception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809880" y="2362320"/>
            <a:ext cx="1752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Elaboration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5562720" y="2362320"/>
            <a:ext cx="17524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Construction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7315200" y="2362320"/>
            <a:ext cx="17524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Transition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3809880" y="236232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5562720" y="236232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7315200" y="236232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190440" y="29718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Management 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Set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190440" y="373392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Requirements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Set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419040" y="4495680"/>
            <a:ext cx="1295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Design Set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52280" y="518148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Implementation 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Set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304920" y="5867280"/>
            <a:ext cx="1523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Deployment 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Set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057400" y="3200400"/>
            <a:ext cx="1752480" cy="2286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3809880" y="3200400"/>
            <a:ext cx="1752840" cy="2286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5562720" y="3200400"/>
            <a:ext cx="1752480" cy="2286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7315200" y="3200400"/>
            <a:ext cx="1752480" cy="2286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2057400" y="3657600"/>
            <a:ext cx="1752480" cy="4572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809880" y="3886200"/>
            <a:ext cx="1752840" cy="2286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5562720" y="3962520"/>
            <a:ext cx="17524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7315200" y="4038480"/>
            <a:ext cx="1752480" cy="763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2057400" y="4648320"/>
            <a:ext cx="17524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3809880" y="4343400"/>
            <a:ext cx="1752840" cy="4572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5562720" y="4648320"/>
            <a:ext cx="17524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7315200" y="4724280"/>
            <a:ext cx="1752480" cy="763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2057400" y="5410080"/>
            <a:ext cx="1752480" cy="763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3809880" y="5334120"/>
            <a:ext cx="17528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562720" y="5029200"/>
            <a:ext cx="1752480" cy="4572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7315200" y="5257800"/>
            <a:ext cx="1752480" cy="2286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2057400" y="6095880"/>
            <a:ext cx="1752480" cy="763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3809880" y="6019920"/>
            <a:ext cx="17528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5562720" y="5943600"/>
            <a:ext cx="1752480" cy="2286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7315200" y="5715000"/>
            <a:ext cx="1752480" cy="4572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2057400" y="3657600"/>
            <a:ext cx="1752480" cy="457200"/>
          </a:xfrm>
          <a:prstGeom prst="rect">
            <a:avLst/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3809880" y="4343400"/>
            <a:ext cx="1752840" cy="457200"/>
          </a:xfrm>
          <a:prstGeom prst="rect">
            <a:avLst/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5562720" y="5029200"/>
            <a:ext cx="1752480" cy="457200"/>
          </a:xfrm>
          <a:prstGeom prst="rect">
            <a:avLst/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315200" y="5715000"/>
            <a:ext cx="1752480" cy="457200"/>
          </a:xfrm>
          <a:prstGeom prst="rect">
            <a:avLst/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naging the Artifact Se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rtifacts need to be updated at each major milestone (after a phas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artifacts must be updated at each minor milestone (after an iteration)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Artifact set roadm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ualization of the updates of artifacts across the software life-cy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ftware project manager is responsible for managing the artifact set roadm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fact set roadmap: Focus on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fact set roadmap: Focus on docu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72520" y="75960"/>
            <a:ext cx="6890040" cy="874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rtifact Set Roadmap: Focus on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odels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057400" y="914400"/>
            <a:ext cx="1752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Inception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3809880" y="914400"/>
            <a:ext cx="17528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Elaboration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5562720" y="914400"/>
            <a:ext cx="1752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onstruction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7315200" y="914400"/>
            <a:ext cx="1752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Transition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90" name="Line 8"/>
          <p:cNvSpPr/>
          <p:nvPr/>
        </p:nvSpPr>
        <p:spPr>
          <a:xfrm>
            <a:off x="3809880" y="914400"/>
            <a:ext cx="0" cy="5715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5562720" y="914400"/>
            <a:ext cx="0" cy="5715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7315200" y="914400"/>
            <a:ext cx="0" cy="5715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152280" y="12952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Management Se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152280" y="327672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Requirements Se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152280" y="3809880"/>
            <a:ext cx="1295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Design Se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228600" y="571500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Deployment Se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97" name="Rectangle 39"/>
          <p:cNvSpPr/>
          <p:nvPr/>
        </p:nvSpPr>
        <p:spPr>
          <a:xfrm>
            <a:off x="380880" y="1752480"/>
            <a:ext cx="20574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1. Vision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2. WBS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3. Schedule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4. Conf. Managemen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5. Project Agreemen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6. Test cases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98" name="Rectangle 40"/>
          <p:cNvSpPr/>
          <p:nvPr/>
        </p:nvSpPr>
        <p:spPr>
          <a:xfrm>
            <a:off x="457200" y="350532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1. Analysis Model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299" name="Rectangle 41"/>
          <p:cNvSpPr/>
          <p:nvPr/>
        </p:nvSpPr>
        <p:spPr>
          <a:xfrm>
            <a:off x="304920" y="434340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1. System Design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2. Interface Specification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00" name="Rectangle 42"/>
          <p:cNvSpPr/>
          <p:nvPr/>
        </p:nvSpPr>
        <p:spPr>
          <a:xfrm>
            <a:off x="228600" y="4724280"/>
            <a:ext cx="1523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mplementation Se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01" name="Rectangle 43"/>
          <p:cNvSpPr/>
          <p:nvPr/>
        </p:nvSpPr>
        <p:spPr>
          <a:xfrm>
            <a:off x="457200" y="525780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1. Source code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2. Test cases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02" name="Rectangle 44"/>
          <p:cNvSpPr/>
          <p:nvPr/>
        </p:nvSpPr>
        <p:spPr>
          <a:xfrm>
            <a:off x="457200" y="6172200"/>
            <a:ext cx="2666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1. Alpha-Tes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2. Beta-Tes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03" name="AutoShape 45"/>
          <p:cNvSpPr/>
          <p:nvPr/>
        </p:nvSpPr>
        <p:spPr>
          <a:xfrm>
            <a:off x="7772400" y="2300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04" name="AutoShape 46"/>
          <p:cNvSpPr/>
          <p:nvPr/>
        </p:nvSpPr>
        <p:spPr>
          <a:xfrm>
            <a:off x="7772400" y="5349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05" name="Text Box 47"/>
          <p:cNvSpPr/>
          <p:nvPr/>
        </p:nvSpPr>
        <p:spPr>
          <a:xfrm>
            <a:off x="7937280" y="2286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nformal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06" name="Text Box 48"/>
          <p:cNvSpPr/>
          <p:nvPr/>
        </p:nvSpPr>
        <p:spPr>
          <a:xfrm>
            <a:off x="7964640" y="53496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Baseline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07" name="AutoShape 50"/>
          <p:cNvSpPr/>
          <p:nvPr/>
        </p:nvSpPr>
        <p:spPr>
          <a:xfrm>
            <a:off x="2514600" y="1676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08" name="AutoShape 51"/>
          <p:cNvSpPr/>
          <p:nvPr/>
        </p:nvSpPr>
        <p:spPr>
          <a:xfrm>
            <a:off x="3276720" y="19051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09" name="AutoShape 52"/>
          <p:cNvSpPr/>
          <p:nvPr/>
        </p:nvSpPr>
        <p:spPr>
          <a:xfrm>
            <a:off x="3733920" y="21337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10" name="AutoShape 53"/>
          <p:cNvSpPr/>
          <p:nvPr/>
        </p:nvSpPr>
        <p:spPr>
          <a:xfrm>
            <a:off x="5486400" y="23623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11" name="AutoShape 54"/>
          <p:cNvSpPr/>
          <p:nvPr/>
        </p:nvSpPr>
        <p:spPr>
          <a:xfrm>
            <a:off x="3733920" y="26668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12" name="AutoShape 55"/>
          <p:cNvSpPr/>
          <p:nvPr/>
        </p:nvSpPr>
        <p:spPr>
          <a:xfrm>
            <a:off x="3733920" y="28954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13" name="AutoShape 56"/>
          <p:cNvSpPr/>
          <p:nvPr/>
        </p:nvSpPr>
        <p:spPr>
          <a:xfrm>
            <a:off x="2438280" y="350532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14" name="AutoShape 57"/>
          <p:cNvSpPr/>
          <p:nvPr/>
        </p:nvSpPr>
        <p:spPr>
          <a:xfrm>
            <a:off x="2438280" y="426708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15" name="AutoShape 58"/>
          <p:cNvSpPr/>
          <p:nvPr/>
        </p:nvSpPr>
        <p:spPr>
          <a:xfrm>
            <a:off x="3733920" y="35053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16" name="AutoShape 59"/>
          <p:cNvSpPr/>
          <p:nvPr/>
        </p:nvSpPr>
        <p:spPr>
          <a:xfrm>
            <a:off x="5486400" y="42670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17" name="AutoShape 60"/>
          <p:cNvSpPr/>
          <p:nvPr/>
        </p:nvSpPr>
        <p:spPr>
          <a:xfrm>
            <a:off x="5486400" y="45338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18" name="AutoShape 61"/>
          <p:cNvSpPr/>
          <p:nvPr/>
        </p:nvSpPr>
        <p:spPr>
          <a:xfrm>
            <a:off x="3733920" y="42670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19" name="AutoShape 62"/>
          <p:cNvSpPr/>
          <p:nvPr/>
        </p:nvSpPr>
        <p:spPr>
          <a:xfrm>
            <a:off x="4952880" y="426708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20" name="AutoShape 63"/>
          <p:cNvSpPr/>
          <p:nvPr/>
        </p:nvSpPr>
        <p:spPr>
          <a:xfrm>
            <a:off x="5486400" y="5105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21" name="AutoShape 64"/>
          <p:cNvSpPr/>
          <p:nvPr/>
        </p:nvSpPr>
        <p:spPr>
          <a:xfrm>
            <a:off x="3733920" y="54100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22" name="AutoShape 66"/>
          <p:cNvSpPr/>
          <p:nvPr/>
        </p:nvSpPr>
        <p:spPr>
          <a:xfrm>
            <a:off x="5486400" y="28954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23" name="AutoShape 67"/>
          <p:cNvSpPr/>
          <p:nvPr/>
        </p:nvSpPr>
        <p:spPr>
          <a:xfrm>
            <a:off x="5486400" y="35053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24" name="AutoShape 68"/>
          <p:cNvSpPr/>
          <p:nvPr/>
        </p:nvSpPr>
        <p:spPr>
          <a:xfrm>
            <a:off x="3733920" y="19051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25" name="AutoShape 69"/>
          <p:cNvSpPr/>
          <p:nvPr/>
        </p:nvSpPr>
        <p:spPr>
          <a:xfrm>
            <a:off x="3720960" y="238752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26" name="Rectangle 70"/>
          <p:cNvSpPr/>
          <p:nvPr/>
        </p:nvSpPr>
        <p:spPr>
          <a:xfrm>
            <a:off x="2057400" y="1447920"/>
            <a:ext cx="53352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27" name="Rectangle 71"/>
          <p:cNvSpPr/>
          <p:nvPr/>
        </p:nvSpPr>
        <p:spPr>
          <a:xfrm>
            <a:off x="2590920" y="1447920"/>
            <a:ext cx="76176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28" name="Rectangle 73"/>
          <p:cNvSpPr/>
          <p:nvPr/>
        </p:nvSpPr>
        <p:spPr>
          <a:xfrm>
            <a:off x="3352680" y="1447920"/>
            <a:ext cx="45720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29" name="AutoShape 74"/>
          <p:cNvSpPr/>
          <p:nvPr/>
        </p:nvSpPr>
        <p:spPr>
          <a:xfrm>
            <a:off x="2514600" y="19051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30" name="AutoShape 75"/>
          <p:cNvSpPr/>
          <p:nvPr/>
        </p:nvSpPr>
        <p:spPr>
          <a:xfrm>
            <a:off x="5486400" y="1676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31" name="Rectangle 76"/>
          <p:cNvSpPr/>
          <p:nvPr/>
        </p:nvSpPr>
        <p:spPr>
          <a:xfrm>
            <a:off x="3809880" y="1447920"/>
            <a:ext cx="53352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32" name="Rectangle 77"/>
          <p:cNvSpPr/>
          <p:nvPr/>
        </p:nvSpPr>
        <p:spPr>
          <a:xfrm>
            <a:off x="4343400" y="1447920"/>
            <a:ext cx="76212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33" name="Rectangle 78"/>
          <p:cNvSpPr/>
          <p:nvPr/>
        </p:nvSpPr>
        <p:spPr>
          <a:xfrm>
            <a:off x="5105520" y="1447920"/>
            <a:ext cx="45720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34" name="AutoShape 79"/>
          <p:cNvSpPr/>
          <p:nvPr/>
        </p:nvSpPr>
        <p:spPr>
          <a:xfrm>
            <a:off x="6019920" y="1676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35" name="Rectangle 80"/>
          <p:cNvSpPr/>
          <p:nvPr/>
        </p:nvSpPr>
        <p:spPr>
          <a:xfrm>
            <a:off x="5562720" y="1447920"/>
            <a:ext cx="53316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36" name="Rectangle 81"/>
          <p:cNvSpPr/>
          <p:nvPr/>
        </p:nvSpPr>
        <p:spPr>
          <a:xfrm>
            <a:off x="6095880" y="1447920"/>
            <a:ext cx="76212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37" name="Rectangle 82"/>
          <p:cNvSpPr/>
          <p:nvPr/>
        </p:nvSpPr>
        <p:spPr>
          <a:xfrm>
            <a:off x="6858000" y="1447920"/>
            <a:ext cx="45720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38" name="AutoShape 83"/>
          <p:cNvSpPr/>
          <p:nvPr/>
        </p:nvSpPr>
        <p:spPr>
          <a:xfrm>
            <a:off x="7772400" y="1676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39" name="Rectangle 84"/>
          <p:cNvSpPr/>
          <p:nvPr/>
        </p:nvSpPr>
        <p:spPr>
          <a:xfrm>
            <a:off x="7315200" y="1447920"/>
            <a:ext cx="53352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40" name="Rectangle 85"/>
          <p:cNvSpPr/>
          <p:nvPr/>
        </p:nvSpPr>
        <p:spPr>
          <a:xfrm>
            <a:off x="7848720" y="1447920"/>
            <a:ext cx="76176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41" name="Rectangle 86"/>
          <p:cNvSpPr/>
          <p:nvPr/>
        </p:nvSpPr>
        <p:spPr>
          <a:xfrm>
            <a:off x="8610480" y="1447920"/>
            <a:ext cx="45720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42" name="AutoShape 87"/>
          <p:cNvSpPr/>
          <p:nvPr/>
        </p:nvSpPr>
        <p:spPr>
          <a:xfrm>
            <a:off x="5486400" y="2603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43" name="AutoShape 88"/>
          <p:cNvSpPr/>
          <p:nvPr/>
        </p:nvSpPr>
        <p:spPr>
          <a:xfrm>
            <a:off x="7238880" y="350532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44" name="AutoShape 90"/>
          <p:cNvSpPr/>
          <p:nvPr/>
        </p:nvSpPr>
        <p:spPr>
          <a:xfrm>
            <a:off x="4952880" y="449568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45" name="AutoShape 91"/>
          <p:cNvSpPr/>
          <p:nvPr/>
        </p:nvSpPr>
        <p:spPr>
          <a:xfrm>
            <a:off x="4267080" y="426708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46" name="AutoShape 92"/>
          <p:cNvSpPr/>
          <p:nvPr/>
        </p:nvSpPr>
        <p:spPr>
          <a:xfrm>
            <a:off x="5943600" y="5105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47" name="AutoShape 93"/>
          <p:cNvSpPr/>
          <p:nvPr/>
        </p:nvSpPr>
        <p:spPr>
          <a:xfrm>
            <a:off x="6705720" y="5105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48" name="AutoShape 94"/>
          <p:cNvSpPr/>
          <p:nvPr/>
        </p:nvSpPr>
        <p:spPr>
          <a:xfrm>
            <a:off x="7238880" y="510552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49" name="AutoShape 95"/>
          <p:cNvSpPr/>
          <p:nvPr/>
        </p:nvSpPr>
        <p:spPr>
          <a:xfrm>
            <a:off x="4267080" y="541008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50" name="AutoShape 96"/>
          <p:cNvSpPr/>
          <p:nvPr/>
        </p:nvSpPr>
        <p:spPr>
          <a:xfrm>
            <a:off x="4800600" y="54100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51" name="AutoShape 97"/>
          <p:cNvSpPr/>
          <p:nvPr/>
        </p:nvSpPr>
        <p:spPr>
          <a:xfrm>
            <a:off x="5486400" y="54100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52" name="AutoShape 98"/>
          <p:cNvSpPr/>
          <p:nvPr/>
        </p:nvSpPr>
        <p:spPr>
          <a:xfrm>
            <a:off x="5943600" y="54100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53" name="AutoShape 99"/>
          <p:cNvSpPr/>
          <p:nvPr/>
        </p:nvSpPr>
        <p:spPr>
          <a:xfrm>
            <a:off x="6705720" y="54100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54" name="AutoShape 100"/>
          <p:cNvSpPr/>
          <p:nvPr/>
        </p:nvSpPr>
        <p:spPr>
          <a:xfrm>
            <a:off x="7238880" y="541008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55" name="AutoShape 101"/>
          <p:cNvSpPr/>
          <p:nvPr/>
        </p:nvSpPr>
        <p:spPr>
          <a:xfrm>
            <a:off x="7238880" y="608328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56" name="AutoShape 102"/>
          <p:cNvSpPr/>
          <p:nvPr/>
        </p:nvSpPr>
        <p:spPr>
          <a:xfrm>
            <a:off x="3733920" y="60958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57" name="AutoShape 103"/>
          <p:cNvSpPr/>
          <p:nvPr/>
        </p:nvSpPr>
        <p:spPr>
          <a:xfrm>
            <a:off x="5486400" y="63244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58" name="AutoShape 104"/>
          <p:cNvSpPr/>
          <p:nvPr/>
        </p:nvSpPr>
        <p:spPr>
          <a:xfrm>
            <a:off x="7238880" y="632448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59" name="Line 105"/>
          <p:cNvSpPr/>
          <p:nvPr/>
        </p:nvSpPr>
        <p:spPr>
          <a:xfrm>
            <a:off x="9067680" y="914400"/>
            <a:ext cx="0" cy="5715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60" name="AutoShape 106"/>
          <p:cNvSpPr/>
          <p:nvPr/>
        </p:nvSpPr>
        <p:spPr>
          <a:xfrm>
            <a:off x="8991720" y="35053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61" name="AutoShape 107"/>
          <p:cNvSpPr/>
          <p:nvPr/>
        </p:nvSpPr>
        <p:spPr>
          <a:xfrm>
            <a:off x="7772400" y="60958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62" name="AutoShape 108"/>
          <p:cNvSpPr/>
          <p:nvPr/>
        </p:nvSpPr>
        <p:spPr>
          <a:xfrm>
            <a:off x="7772400" y="63374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63" name="AutoShape 109"/>
          <p:cNvSpPr/>
          <p:nvPr/>
        </p:nvSpPr>
        <p:spPr>
          <a:xfrm>
            <a:off x="8305920" y="61088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64" name="AutoShape 110"/>
          <p:cNvSpPr/>
          <p:nvPr/>
        </p:nvSpPr>
        <p:spPr>
          <a:xfrm>
            <a:off x="8305920" y="63500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65" name="AutoShape 111"/>
          <p:cNvSpPr/>
          <p:nvPr/>
        </p:nvSpPr>
        <p:spPr>
          <a:xfrm>
            <a:off x="8991720" y="61214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66" name="AutoShape 112"/>
          <p:cNvSpPr/>
          <p:nvPr/>
        </p:nvSpPr>
        <p:spPr>
          <a:xfrm>
            <a:off x="8991720" y="63626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67" name="AutoShape 113"/>
          <p:cNvSpPr/>
          <p:nvPr/>
        </p:nvSpPr>
        <p:spPr>
          <a:xfrm>
            <a:off x="3276720" y="35053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rtifact Set Roadmap: Focus on Documen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2057400" y="914400"/>
            <a:ext cx="1752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Inception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3809880" y="914400"/>
            <a:ext cx="17528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Elaboration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5562720" y="914400"/>
            <a:ext cx="1752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onstruction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7315200" y="914400"/>
            <a:ext cx="1752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Transition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3809880" y="914400"/>
            <a:ext cx="0" cy="5715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5562720" y="914400"/>
            <a:ext cx="0" cy="5715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7315200" y="914400"/>
            <a:ext cx="0" cy="5715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152280" y="12952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Management Se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77" name="Rectangle 11"/>
          <p:cNvSpPr/>
          <p:nvPr/>
        </p:nvSpPr>
        <p:spPr>
          <a:xfrm>
            <a:off x="152280" y="327672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Requirements Se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78" name="Rectangle 12"/>
          <p:cNvSpPr/>
          <p:nvPr/>
        </p:nvSpPr>
        <p:spPr>
          <a:xfrm>
            <a:off x="152280" y="3809880"/>
            <a:ext cx="1295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Design Se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79" name="Rectangle 13"/>
          <p:cNvSpPr/>
          <p:nvPr/>
        </p:nvSpPr>
        <p:spPr>
          <a:xfrm>
            <a:off x="228600" y="571500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Deployment Se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80" name="Rectangle 14"/>
          <p:cNvSpPr/>
          <p:nvPr/>
        </p:nvSpPr>
        <p:spPr>
          <a:xfrm>
            <a:off x="380880" y="1752480"/>
            <a:ext cx="20574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1. Problem Statemen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2. WBS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3. SPMP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4. SCMP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5. Project Agreemen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6. Test plan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81" name="Rectangle 15"/>
          <p:cNvSpPr/>
          <p:nvPr/>
        </p:nvSpPr>
        <p:spPr>
          <a:xfrm>
            <a:off x="457200" y="350532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1. RAD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82" name="Rectangle 16"/>
          <p:cNvSpPr/>
          <p:nvPr/>
        </p:nvSpPr>
        <p:spPr>
          <a:xfrm>
            <a:off x="457200" y="434340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1. SDD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2. ODD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83" name="Rectangle 17"/>
          <p:cNvSpPr/>
          <p:nvPr/>
        </p:nvSpPr>
        <p:spPr>
          <a:xfrm>
            <a:off x="228600" y="4724280"/>
            <a:ext cx="1523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mplementation Se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84" name="Rectangle 18"/>
          <p:cNvSpPr/>
          <p:nvPr/>
        </p:nvSpPr>
        <p:spPr>
          <a:xfrm>
            <a:off x="457200" y="525780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1. Source code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2. Test cases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85" name="Rectangle 19"/>
          <p:cNvSpPr/>
          <p:nvPr/>
        </p:nvSpPr>
        <p:spPr>
          <a:xfrm>
            <a:off x="457200" y="6172200"/>
            <a:ext cx="2666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1. User Manual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2. Administrator Manual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86" name="AutoShape 20"/>
          <p:cNvSpPr/>
          <p:nvPr/>
        </p:nvSpPr>
        <p:spPr>
          <a:xfrm>
            <a:off x="7772400" y="2300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87" name="AutoShape 21"/>
          <p:cNvSpPr/>
          <p:nvPr/>
        </p:nvSpPr>
        <p:spPr>
          <a:xfrm>
            <a:off x="7772400" y="5349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7937280" y="2286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nformal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89" name="Text Box 23"/>
          <p:cNvSpPr/>
          <p:nvPr/>
        </p:nvSpPr>
        <p:spPr>
          <a:xfrm>
            <a:off x="7964640" y="53496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Baseline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90" name="AutoShape 24"/>
          <p:cNvSpPr/>
          <p:nvPr/>
        </p:nvSpPr>
        <p:spPr>
          <a:xfrm>
            <a:off x="2514600" y="1676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91" name="AutoShape 25"/>
          <p:cNvSpPr/>
          <p:nvPr/>
        </p:nvSpPr>
        <p:spPr>
          <a:xfrm>
            <a:off x="3276720" y="19051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92" name="AutoShape 26"/>
          <p:cNvSpPr/>
          <p:nvPr/>
        </p:nvSpPr>
        <p:spPr>
          <a:xfrm>
            <a:off x="3733920" y="21337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93" name="AutoShape 27"/>
          <p:cNvSpPr/>
          <p:nvPr/>
        </p:nvSpPr>
        <p:spPr>
          <a:xfrm>
            <a:off x="5486400" y="23623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94" name="AutoShape 28"/>
          <p:cNvSpPr/>
          <p:nvPr/>
        </p:nvSpPr>
        <p:spPr>
          <a:xfrm>
            <a:off x="3733920" y="26668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95" name="AutoShape 29"/>
          <p:cNvSpPr/>
          <p:nvPr/>
        </p:nvSpPr>
        <p:spPr>
          <a:xfrm>
            <a:off x="3733920" y="28954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96" name="AutoShape 30"/>
          <p:cNvSpPr/>
          <p:nvPr/>
        </p:nvSpPr>
        <p:spPr>
          <a:xfrm>
            <a:off x="2438280" y="350532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97" name="AutoShape 31"/>
          <p:cNvSpPr/>
          <p:nvPr/>
        </p:nvSpPr>
        <p:spPr>
          <a:xfrm>
            <a:off x="2438280" y="426708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98" name="AutoShape 32"/>
          <p:cNvSpPr/>
          <p:nvPr/>
        </p:nvSpPr>
        <p:spPr>
          <a:xfrm>
            <a:off x="3733920" y="35053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399" name="AutoShape 33"/>
          <p:cNvSpPr/>
          <p:nvPr/>
        </p:nvSpPr>
        <p:spPr>
          <a:xfrm>
            <a:off x="5486400" y="42670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00" name="AutoShape 34"/>
          <p:cNvSpPr/>
          <p:nvPr/>
        </p:nvSpPr>
        <p:spPr>
          <a:xfrm>
            <a:off x="5486400" y="45338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01" name="AutoShape 35"/>
          <p:cNvSpPr/>
          <p:nvPr/>
        </p:nvSpPr>
        <p:spPr>
          <a:xfrm>
            <a:off x="3733920" y="42670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02" name="AutoShape 36"/>
          <p:cNvSpPr/>
          <p:nvPr/>
        </p:nvSpPr>
        <p:spPr>
          <a:xfrm>
            <a:off x="4952880" y="426708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03" name="AutoShape 37"/>
          <p:cNvSpPr/>
          <p:nvPr/>
        </p:nvSpPr>
        <p:spPr>
          <a:xfrm>
            <a:off x="5486400" y="5105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04" name="AutoShape 38"/>
          <p:cNvSpPr/>
          <p:nvPr/>
        </p:nvSpPr>
        <p:spPr>
          <a:xfrm>
            <a:off x="3733920" y="54100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05" name="AutoShape 39"/>
          <p:cNvSpPr/>
          <p:nvPr/>
        </p:nvSpPr>
        <p:spPr>
          <a:xfrm>
            <a:off x="5486400" y="28954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06" name="AutoShape 40"/>
          <p:cNvSpPr/>
          <p:nvPr/>
        </p:nvSpPr>
        <p:spPr>
          <a:xfrm>
            <a:off x="5486400" y="35053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07" name="AutoShape 41"/>
          <p:cNvSpPr/>
          <p:nvPr/>
        </p:nvSpPr>
        <p:spPr>
          <a:xfrm>
            <a:off x="3733920" y="19051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08" name="AutoShape 42"/>
          <p:cNvSpPr/>
          <p:nvPr/>
        </p:nvSpPr>
        <p:spPr>
          <a:xfrm>
            <a:off x="3720960" y="238752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09" name="Rectangle 43"/>
          <p:cNvSpPr/>
          <p:nvPr/>
        </p:nvSpPr>
        <p:spPr>
          <a:xfrm>
            <a:off x="2057400" y="1447920"/>
            <a:ext cx="53352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10" name="Rectangle 44"/>
          <p:cNvSpPr/>
          <p:nvPr/>
        </p:nvSpPr>
        <p:spPr>
          <a:xfrm>
            <a:off x="2590920" y="1447920"/>
            <a:ext cx="76176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11" name="Rectangle 45"/>
          <p:cNvSpPr/>
          <p:nvPr/>
        </p:nvSpPr>
        <p:spPr>
          <a:xfrm>
            <a:off x="3352680" y="1447920"/>
            <a:ext cx="45720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12" name="AutoShape 46"/>
          <p:cNvSpPr/>
          <p:nvPr/>
        </p:nvSpPr>
        <p:spPr>
          <a:xfrm>
            <a:off x="2514600" y="19051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13" name="AutoShape 47"/>
          <p:cNvSpPr/>
          <p:nvPr/>
        </p:nvSpPr>
        <p:spPr>
          <a:xfrm>
            <a:off x="5486400" y="1676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14" name="Rectangle 48"/>
          <p:cNvSpPr/>
          <p:nvPr/>
        </p:nvSpPr>
        <p:spPr>
          <a:xfrm>
            <a:off x="3809880" y="1447920"/>
            <a:ext cx="53352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15" name="Rectangle 49"/>
          <p:cNvSpPr/>
          <p:nvPr/>
        </p:nvSpPr>
        <p:spPr>
          <a:xfrm>
            <a:off x="4343400" y="1447920"/>
            <a:ext cx="76212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16" name="Rectangle 50"/>
          <p:cNvSpPr/>
          <p:nvPr/>
        </p:nvSpPr>
        <p:spPr>
          <a:xfrm>
            <a:off x="5105520" y="1447920"/>
            <a:ext cx="45720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17" name="AutoShape 51"/>
          <p:cNvSpPr/>
          <p:nvPr/>
        </p:nvSpPr>
        <p:spPr>
          <a:xfrm>
            <a:off x="6019920" y="1676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18" name="Rectangle 52"/>
          <p:cNvSpPr/>
          <p:nvPr/>
        </p:nvSpPr>
        <p:spPr>
          <a:xfrm>
            <a:off x="5562720" y="1447920"/>
            <a:ext cx="53316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19" name="Rectangle 53"/>
          <p:cNvSpPr/>
          <p:nvPr/>
        </p:nvSpPr>
        <p:spPr>
          <a:xfrm>
            <a:off x="6095880" y="1447920"/>
            <a:ext cx="76212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20" name="Rectangle 54"/>
          <p:cNvSpPr/>
          <p:nvPr/>
        </p:nvSpPr>
        <p:spPr>
          <a:xfrm>
            <a:off x="6858000" y="1447920"/>
            <a:ext cx="45720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21" name="AutoShape 55"/>
          <p:cNvSpPr/>
          <p:nvPr/>
        </p:nvSpPr>
        <p:spPr>
          <a:xfrm>
            <a:off x="7772400" y="1676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22" name="Rectangle 56"/>
          <p:cNvSpPr/>
          <p:nvPr/>
        </p:nvSpPr>
        <p:spPr>
          <a:xfrm>
            <a:off x="7315200" y="1447920"/>
            <a:ext cx="53352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23" name="Rectangle 57"/>
          <p:cNvSpPr/>
          <p:nvPr/>
        </p:nvSpPr>
        <p:spPr>
          <a:xfrm>
            <a:off x="7848720" y="1447920"/>
            <a:ext cx="76176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24" name="Rectangle 58"/>
          <p:cNvSpPr/>
          <p:nvPr/>
        </p:nvSpPr>
        <p:spPr>
          <a:xfrm>
            <a:off x="8610480" y="1447920"/>
            <a:ext cx="45720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25" name="AutoShape 59"/>
          <p:cNvSpPr/>
          <p:nvPr/>
        </p:nvSpPr>
        <p:spPr>
          <a:xfrm>
            <a:off x="5486400" y="2603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26" name="AutoShape 60"/>
          <p:cNvSpPr/>
          <p:nvPr/>
        </p:nvSpPr>
        <p:spPr>
          <a:xfrm>
            <a:off x="7238880" y="350532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27" name="AutoShape 61"/>
          <p:cNvSpPr/>
          <p:nvPr/>
        </p:nvSpPr>
        <p:spPr>
          <a:xfrm>
            <a:off x="4952880" y="449568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28" name="AutoShape 62"/>
          <p:cNvSpPr/>
          <p:nvPr/>
        </p:nvSpPr>
        <p:spPr>
          <a:xfrm>
            <a:off x="4267080" y="426708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29" name="AutoShape 63"/>
          <p:cNvSpPr/>
          <p:nvPr/>
        </p:nvSpPr>
        <p:spPr>
          <a:xfrm>
            <a:off x="5943600" y="5105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30" name="AutoShape 64"/>
          <p:cNvSpPr/>
          <p:nvPr/>
        </p:nvSpPr>
        <p:spPr>
          <a:xfrm>
            <a:off x="6705720" y="51055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31" name="AutoShape 65"/>
          <p:cNvSpPr/>
          <p:nvPr/>
        </p:nvSpPr>
        <p:spPr>
          <a:xfrm>
            <a:off x="7238880" y="510552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32" name="AutoShape 66"/>
          <p:cNvSpPr/>
          <p:nvPr/>
        </p:nvSpPr>
        <p:spPr>
          <a:xfrm>
            <a:off x="4267080" y="541008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33" name="AutoShape 67"/>
          <p:cNvSpPr/>
          <p:nvPr/>
        </p:nvSpPr>
        <p:spPr>
          <a:xfrm>
            <a:off x="4800600" y="54100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34" name="AutoShape 68"/>
          <p:cNvSpPr/>
          <p:nvPr/>
        </p:nvSpPr>
        <p:spPr>
          <a:xfrm>
            <a:off x="5486400" y="54100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35" name="AutoShape 69"/>
          <p:cNvSpPr/>
          <p:nvPr/>
        </p:nvSpPr>
        <p:spPr>
          <a:xfrm>
            <a:off x="5943600" y="54100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36" name="AutoShape 70"/>
          <p:cNvSpPr/>
          <p:nvPr/>
        </p:nvSpPr>
        <p:spPr>
          <a:xfrm>
            <a:off x="6705720" y="54100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37" name="AutoShape 71"/>
          <p:cNvSpPr/>
          <p:nvPr/>
        </p:nvSpPr>
        <p:spPr>
          <a:xfrm>
            <a:off x="7238880" y="541008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38" name="AutoShape 72"/>
          <p:cNvSpPr/>
          <p:nvPr/>
        </p:nvSpPr>
        <p:spPr>
          <a:xfrm>
            <a:off x="7238880" y="608328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39" name="AutoShape 73"/>
          <p:cNvSpPr/>
          <p:nvPr/>
        </p:nvSpPr>
        <p:spPr>
          <a:xfrm>
            <a:off x="3733920" y="60958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40" name="AutoShape 74"/>
          <p:cNvSpPr/>
          <p:nvPr/>
        </p:nvSpPr>
        <p:spPr>
          <a:xfrm>
            <a:off x="5486400" y="63244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41" name="AutoShape 75"/>
          <p:cNvSpPr/>
          <p:nvPr/>
        </p:nvSpPr>
        <p:spPr>
          <a:xfrm>
            <a:off x="7238880" y="632448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42" name="Line 76"/>
          <p:cNvSpPr/>
          <p:nvPr/>
        </p:nvSpPr>
        <p:spPr>
          <a:xfrm>
            <a:off x="9067680" y="914400"/>
            <a:ext cx="0" cy="5715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43" name="AutoShape 77"/>
          <p:cNvSpPr/>
          <p:nvPr/>
        </p:nvSpPr>
        <p:spPr>
          <a:xfrm>
            <a:off x="8991720" y="35053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44" name="AutoShape 78"/>
          <p:cNvSpPr/>
          <p:nvPr/>
        </p:nvSpPr>
        <p:spPr>
          <a:xfrm>
            <a:off x="7772400" y="60958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45" name="AutoShape 79"/>
          <p:cNvSpPr/>
          <p:nvPr/>
        </p:nvSpPr>
        <p:spPr>
          <a:xfrm>
            <a:off x="7772400" y="63374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46" name="AutoShape 80"/>
          <p:cNvSpPr/>
          <p:nvPr/>
        </p:nvSpPr>
        <p:spPr>
          <a:xfrm>
            <a:off x="8305920" y="61088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47" name="AutoShape 81"/>
          <p:cNvSpPr/>
          <p:nvPr/>
        </p:nvSpPr>
        <p:spPr>
          <a:xfrm>
            <a:off x="8305920" y="63500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48" name="AutoShape 82"/>
          <p:cNvSpPr/>
          <p:nvPr/>
        </p:nvSpPr>
        <p:spPr>
          <a:xfrm>
            <a:off x="8991720" y="61214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49" name="AutoShape 83"/>
          <p:cNvSpPr/>
          <p:nvPr/>
        </p:nvSpPr>
        <p:spPr>
          <a:xfrm>
            <a:off x="8991720" y="63626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50" name="AutoShape 84"/>
          <p:cNvSpPr/>
          <p:nvPr/>
        </p:nvSpPr>
        <p:spPr>
          <a:xfrm>
            <a:off x="3276720" y="35053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odels vs. Documen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69280" cy="487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software project managers  pay too much attention on the production of documents</a:t>
            </a: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Documentation-driven approac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duction of the documents drives the milestones and deadlin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Model-driven appr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duction of the models drive the milestones dead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 goal of a software development projec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ion of models and construction of the softwar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urpose of documentation is to support this go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Historical Reasons for Documentation-Driven Approach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ople wanted to review information, but did not understand the language of the artif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ople wanted to review information, but did not have access to the tools to view the inform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rigorous engineering methods and language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ere available for analysis and design mode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5920" indent="-37692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fore paper documents with ad hoc text were u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ntional languages for implementation and deployment were highly crypti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5920" indent="-37692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ore human-readable format was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rs needed “statu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5920" indent="-37692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cuments seemed to be a good mechanism for demonstrating progr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rtifact-Driven Approach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templates for documents at the start of th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ntiate documents automatically from these templ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rich them with modeling and artifact information generated during the projec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ls automatically generate documents from the models. Exampl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tion of analysis and design documents (Commercial CASE too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tion of the interface specification (Javado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 case generation (J_Uni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 generation (Microsoft Project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icro Processes in the Unified Proce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60360" y="1143000"/>
            <a:ext cx="8631360" cy="541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nified Process distinguishes between macro and micro proces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acro process models the software lifecy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icro process models activities that produce artifac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icro processes are also called workflows in the Unified Proces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orkflows in the Unified Proce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work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 work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ments work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 work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ementation work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ssment work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loyment workfl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oftware Life Cycle Questions (Review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4600" y="1049040"/>
            <a:ext cx="8610480" cy="5319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activities should I selec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the dependencies between activities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should I schedule the activiti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 to as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proble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solu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mechanisms that best implement the solu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is the solution construct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problem solv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the customer use the solu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we deal with changes that occur during the development? Are enhancements need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orkflows in the Unified Proce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Management work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ning the project (Problem statement, SPMP, SCMP, test 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Environment work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on of process and maintenance environment. Setup of infrastructure (Communication, configuration management, ..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Requirements work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sis of application domain and creation of requirements artifacts (analysis mod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Design work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ion of solution and design artifacts (system design model, object design model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orkflows in the Unified Process (2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Implementation work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ation of  solution, source code testing, maintenance of implementation and deployment artifacts (source co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Assessment work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process and products (reviews, walkthroughs, inspections, testing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Deployment work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ition the software system to the end us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265960" cy="874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orkflows work across Phas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3800" y="5778360"/>
            <a:ext cx="9042120" cy="927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flows create artifacts (documents, mode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flows consist of one or more iterations per phas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190440" y="411480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Implementation 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orkflow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266760" y="1523880"/>
            <a:ext cx="1752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Management 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orkflow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69" name="Rectangle 12"/>
          <p:cNvSpPr/>
          <p:nvPr/>
        </p:nvSpPr>
        <p:spPr>
          <a:xfrm>
            <a:off x="266760" y="2666880"/>
            <a:ext cx="1752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Requirements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orkflow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304920" y="3429000"/>
            <a:ext cx="1295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Design Workflow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76320" y="5257800"/>
            <a:ext cx="2133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Deployment 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orkflow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72" name="Rectangle 42"/>
          <p:cNvSpPr/>
          <p:nvPr/>
        </p:nvSpPr>
        <p:spPr>
          <a:xfrm>
            <a:off x="190440" y="4724280"/>
            <a:ext cx="1905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Assessment 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orkflow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73" name="Rectangle 43"/>
          <p:cNvSpPr/>
          <p:nvPr/>
        </p:nvSpPr>
        <p:spPr>
          <a:xfrm>
            <a:off x="266760" y="2057400"/>
            <a:ext cx="1752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Environment 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orkflow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74" name="Line 74"/>
          <p:cNvSpPr/>
          <p:nvPr/>
        </p:nvSpPr>
        <p:spPr>
          <a:xfrm>
            <a:off x="1143000" y="2133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75" name="Line 85"/>
          <p:cNvSpPr/>
          <p:nvPr/>
        </p:nvSpPr>
        <p:spPr>
          <a:xfrm>
            <a:off x="1143000" y="4114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76" name="Rectangle 142"/>
          <p:cNvSpPr/>
          <p:nvPr/>
        </p:nvSpPr>
        <p:spPr>
          <a:xfrm>
            <a:off x="4105440" y="1536840"/>
            <a:ext cx="1595160" cy="2491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2514600" y="696960"/>
            <a:ext cx="159696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Inception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111560" y="696960"/>
            <a:ext cx="159696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Elaboration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5708520" y="696960"/>
            <a:ext cx="159732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Construction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7305840" y="696960"/>
            <a:ext cx="159516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Transition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81" name="Line 8"/>
          <p:cNvSpPr/>
          <p:nvPr/>
        </p:nvSpPr>
        <p:spPr>
          <a:xfrm>
            <a:off x="4111560" y="941400"/>
            <a:ext cx="1800" cy="4221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82" name="Line 9"/>
          <p:cNvSpPr/>
          <p:nvPr/>
        </p:nvSpPr>
        <p:spPr>
          <a:xfrm>
            <a:off x="5708520" y="941400"/>
            <a:ext cx="1800" cy="4221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83" name="Line 10"/>
          <p:cNvSpPr/>
          <p:nvPr/>
        </p:nvSpPr>
        <p:spPr>
          <a:xfrm>
            <a:off x="7305840" y="941400"/>
            <a:ext cx="1440" cy="4221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84" name="Rectangle 16"/>
          <p:cNvSpPr/>
          <p:nvPr/>
        </p:nvSpPr>
        <p:spPr>
          <a:xfrm>
            <a:off x="2514600" y="1603440"/>
            <a:ext cx="1596960" cy="1648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85" name="Rectangle 18"/>
          <p:cNvSpPr/>
          <p:nvPr/>
        </p:nvSpPr>
        <p:spPr>
          <a:xfrm>
            <a:off x="5708520" y="1603440"/>
            <a:ext cx="1597320" cy="1648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86" name="Rectangle 19"/>
          <p:cNvSpPr/>
          <p:nvPr/>
        </p:nvSpPr>
        <p:spPr>
          <a:xfrm>
            <a:off x="7305840" y="1603440"/>
            <a:ext cx="1595160" cy="1648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5708520" y="2678040"/>
            <a:ext cx="1597320" cy="1666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88" name="Rectangle 23"/>
          <p:cNvSpPr/>
          <p:nvPr/>
        </p:nvSpPr>
        <p:spPr>
          <a:xfrm>
            <a:off x="7305840" y="2762280"/>
            <a:ext cx="1595160" cy="824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89" name="Rectangle 27"/>
          <p:cNvSpPr/>
          <p:nvPr/>
        </p:nvSpPr>
        <p:spPr>
          <a:xfrm>
            <a:off x="7305840" y="3506760"/>
            <a:ext cx="1595160" cy="824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90" name="Rectangle 28"/>
          <p:cNvSpPr/>
          <p:nvPr/>
        </p:nvSpPr>
        <p:spPr>
          <a:xfrm>
            <a:off x="2514600" y="4251240"/>
            <a:ext cx="1596960" cy="828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91" name="Rectangle 29"/>
          <p:cNvSpPr/>
          <p:nvPr/>
        </p:nvSpPr>
        <p:spPr>
          <a:xfrm>
            <a:off x="4111560" y="4168800"/>
            <a:ext cx="1596960" cy="1652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92" name="Rectangle 30"/>
          <p:cNvSpPr/>
          <p:nvPr/>
        </p:nvSpPr>
        <p:spPr>
          <a:xfrm>
            <a:off x="5708520" y="3836880"/>
            <a:ext cx="1597320" cy="4971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93" name="Rectangle 44"/>
          <p:cNvSpPr/>
          <p:nvPr/>
        </p:nvSpPr>
        <p:spPr>
          <a:xfrm>
            <a:off x="2514600" y="2098800"/>
            <a:ext cx="1596960" cy="838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94" name="Rectangle 45"/>
          <p:cNvSpPr/>
          <p:nvPr/>
        </p:nvSpPr>
        <p:spPr>
          <a:xfrm>
            <a:off x="4111560" y="1933560"/>
            <a:ext cx="1596960" cy="2491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95" name="Rectangle 46"/>
          <p:cNvSpPr/>
          <p:nvPr/>
        </p:nvSpPr>
        <p:spPr>
          <a:xfrm>
            <a:off x="5708520" y="2016000"/>
            <a:ext cx="1597320" cy="1666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496" name="Rectangle 47"/>
          <p:cNvSpPr/>
          <p:nvPr/>
        </p:nvSpPr>
        <p:spPr>
          <a:xfrm>
            <a:off x="7305840" y="2016000"/>
            <a:ext cx="1595160" cy="1666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grpSp>
        <p:nvGrpSpPr>
          <p:cNvPr id="497" name="Group 56"/>
          <p:cNvGrpSpPr/>
          <p:nvPr/>
        </p:nvGrpSpPr>
        <p:grpSpPr>
          <a:xfrm>
            <a:off x="2514600" y="1276200"/>
            <a:ext cx="1581840" cy="247320"/>
            <a:chOff x="2514600" y="1276200"/>
            <a:chExt cx="1581840" cy="247320"/>
          </a:xfrm>
        </p:grpSpPr>
        <p:sp>
          <p:nvSpPr>
            <p:cNvPr id="498" name="Rectangle 48"/>
            <p:cNvSpPr/>
            <p:nvPr/>
          </p:nvSpPr>
          <p:spPr>
            <a:xfrm>
              <a:off x="2514600" y="1276200"/>
              <a:ext cx="90036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499" name="Rectangle 49"/>
            <p:cNvSpPr/>
            <p:nvPr/>
          </p:nvSpPr>
          <p:spPr>
            <a:xfrm>
              <a:off x="3360240" y="1276200"/>
              <a:ext cx="7362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sp>
        <p:nvSpPr>
          <p:cNvPr id="500" name="Rectangle 58"/>
          <p:cNvSpPr/>
          <p:nvPr/>
        </p:nvSpPr>
        <p:spPr>
          <a:xfrm>
            <a:off x="4111560" y="1276200"/>
            <a:ext cx="65556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501" name="Rectangle 59"/>
          <p:cNvSpPr/>
          <p:nvPr/>
        </p:nvSpPr>
        <p:spPr>
          <a:xfrm>
            <a:off x="5106960" y="1276200"/>
            <a:ext cx="60156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grpSp>
        <p:nvGrpSpPr>
          <p:cNvPr id="502" name="Group 60"/>
          <p:cNvGrpSpPr/>
          <p:nvPr/>
        </p:nvGrpSpPr>
        <p:grpSpPr>
          <a:xfrm>
            <a:off x="5708520" y="1276200"/>
            <a:ext cx="1582560" cy="247320"/>
            <a:chOff x="5708520" y="1276200"/>
            <a:chExt cx="1582560" cy="247320"/>
          </a:xfrm>
        </p:grpSpPr>
        <p:sp>
          <p:nvSpPr>
            <p:cNvPr id="503" name="Rectangle 61"/>
            <p:cNvSpPr/>
            <p:nvPr/>
          </p:nvSpPr>
          <p:spPr>
            <a:xfrm>
              <a:off x="5708520" y="1276200"/>
              <a:ext cx="90036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04" name="Rectangle 62"/>
            <p:cNvSpPr/>
            <p:nvPr/>
          </p:nvSpPr>
          <p:spPr>
            <a:xfrm>
              <a:off x="6554520" y="1276200"/>
              <a:ext cx="73656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grpSp>
        <p:nvGrpSpPr>
          <p:cNvPr id="505" name="Group 63"/>
          <p:cNvGrpSpPr/>
          <p:nvPr/>
        </p:nvGrpSpPr>
        <p:grpSpPr>
          <a:xfrm>
            <a:off x="7305840" y="1276200"/>
            <a:ext cx="1581840" cy="247320"/>
            <a:chOff x="7305840" y="1276200"/>
            <a:chExt cx="1581840" cy="247320"/>
          </a:xfrm>
        </p:grpSpPr>
        <p:sp>
          <p:nvSpPr>
            <p:cNvPr id="506" name="Rectangle 64"/>
            <p:cNvSpPr/>
            <p:nvPr/>
          </p:nvSpPr>
          <p:spPr>
            <a:xfrm>
              <a:off x="7305840" y="1276200"/>
              <a:ext cx="90036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07" name="Rectangle 65"/>
            <p:cNvSpPr/>
            <p:nvPr/>
          </p:nvSpPr>
          <p:spPr>
            <a:xfrm>
              <a:off x="8151480" y="1276200"/>
              <a:ext cx="736200" cy="24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sp>
        <p:nvSpPr>
          <p:cNvPr id="508" name="Rectangle 66"/>
          <p:cNvSpPr/>
          <p:nvPr/>
        </p:nvSpPr>
        <p:spPr>
          <a:xfrm>
            <a:off x="4562640" y="1276200"/>
            <a:ext cx="65376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509" name="Rectangle 67"/>
          <p:cNvSpPr/>
          <p:nvPr/>
        </p:nvSpPr>
        <p:spPr>
          <a:xfrm>
            <a:off x="2514600" y="2678040"/>
            <a:ext cx="1596960" cy="1666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3333600" y="2347920"/>
            <a:ext cx="777960" cy="4968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grpSp>
        <p:nvGrpSpPr>
          <p:cNvPr id="511" name="Group 76"/>
          <p:cNvGrpSpPr/>
          <p:nvPr/>
        </p:nvGrpSpPr>
        <p:grpSpPr>
          <a:xfrm>
            <a:off x="4111560" y="2513160"/>
            <a:ext cx="1596600" cy="331200"/>
            <a:chOff x="4111560" y="2513160"/>
            <a:chExt cx="1596600" cy="331200"/>
          </a:xfrm>
        </p:grpSpPr>
        <p:sp>
          <p:nvSpPr>
            <p:cNvPr id="512" name="Rectangle 68"/>
            <p:cNvSpPr/>
            <p:nvPr/>
          </p:nvSpPr>
          <p:spPr>
            <a:xfrm>
              <a:off x="4111560" y="2679120"/>
              <a:ext cx="1596600" cy="1652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13" name="Rectangle 69"/>
            <p:cNvSpPr/>
            <p:nvPr/>
          </p:nvSpPr>
          <p:spPr>
            <a:xfrm>
              <a:off x="4111560" y="2513160"/>
              <a:ext cx="450360" cy="3312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14" name="Rectangle 71"/>
            <p:cNvSpPr/>
            <p:nvPr/>
          </p:nvSpPr>
          <p:spPr>
            <a:xfrm>
              <a:off x="4575240" y="2595960"/>
              <a:ext cx="641520" cy="2484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sp>
        <p:nvSpPr>
          <p:cNvPr id="515" name="Line 72"/>
          <p:cNvSpPr/>
          <p:nvPr/>
        </p:nvSpPr>
        <p:spPr>
          <a:xfrm>
            <a:off x="3182760" y="1603440"/>
            <a:ext cx="18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grpSp>
        <p:nvGrpSpPr>
          <p:cNvPr id="516" name="Group 93"/>
          <p:cNvGrpSpPr/>
          <p:nvPr/>
        </p:nvGrpSpPr>
        <p:grpSpPr>
          <a:xfrm>
            <a:off x="2541600" y="3341520"/>
            <a:ext cx="1611000" cy="247320"/>
            <a:chOff x="2541600" y="3341520"/>
            <a:chExt cx="1611000" cy="247320"/>
          </a:xfrm>
        </p:grpSpPr>
        <p:sp>
          <p:nvSpPr>
            <p:cNvPr id="517" name="Rectangle 24"/>
            <p:cNvSpPr/>
            <p:nvPr/>
          </p:nvSpPr>
          <p:spPr>
            <a:xfrm>
              <a:off x="2541600" y="3423960"/>
              <a:ext cx="1597680" cy="1648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18" name="Line 73"/>
            <p:cNvSpPr/>
            <p:nvPr/>
          </p:nvSpPr>
          <p:spPr>
            <a:xfrm>
              <a:off x="3360960" y="342396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19" name="Rectangle 75"/>
            <p:cNvSpPr/>
            <p:nvPr/>
          </p:nvSpPr>
          <p:spPr>
            <a:xfrm>
              <a:off x="3333240" y="3341520"/>
              <a:ext cx="819360" cy="2473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grpSp>
        <p:nvGrpSpPr>
          <p:cNvPr id="520" name="Group 77"/>
          <p:cNvGrpSpPr/>
          <p:nvPr/>
        </p:nvGrpSpPr>
        <p:grpSpPr>
          <a:xfrm>
            <a:off x="4097160" y="3092400"/>
            <a:ext cx="1596960" cy="496440"/>
            <a:chOff x="4097160" y="3092400"/>
            <a:chExt cx="1596960" cy="496440"/>
          </a:xfrm>
        </p:grpSpPr>
        <p:sp>
          <p:nvSpPr>
            <p:cNvPr id="521" name="Rectangle 78"/>
            <p:cNvSpPr/>
            <p:nvPr/>
          </p:nvSpPr>
          <p:spPr>
            <a:xfrm flipH="1">
              <a:off x="4097160" y="3340800"/>
              <a:ext cx="1596960" cy="2476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22" name="Rectangle 79"/>
            <p:cNvSpPr/>
            <p:nvPr/>
          </p:nvSpPr>
          <p:spPr>
            <a:xfrm flipH="1">
              <a:off x="5243400" y="3092400"/>
              <a:ext cx="450360" cy="4964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23" name="Rectangle 80"/>
            <p:cNvSpPr/>
            <p:nvPr/>
          </p:nvSpPr>
          <p:spPr>
            <a:xfrm flipH="1">
              <a:off x="4588560" y="3216600"/>
              <a:ext cx="641520" cy="3722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grpSp>
        <p:nvGrpSpPr>
          <p:cNvPr id="524" name="Group 113"/>
          <p:cNvGrpSpPr/>
          <p:nvPr/>
        </p:nvGrpSpPr>
        <p:grpSpPr>
          <a:xfrm>
            <a:off x="5708880" y="3341520"/>
            <a:ext cx="1609560" cy="247320"/>
            <a:chOff x="5708880" y="3341520"/>
            <a:chExt cx="1609560" cy="247320"/>
          </a:xfrm>
        </p:grpSpPr>
        <p:sp>
          <p:nvSpPr>
            <p:cNvPr id="525" name="Rectangle 26"/>
            <p:cNvSpPr/>
            <p:nvPr/>
          </p:nvSpPr>
          <p:spPr>
            <a:xfrm flipH="1">
              <a:off x="5722200" y="3423960"/>
              <a:ext cx="1596240" cy="1648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26" name="Rectangle 81"/>
            <p:cNvSpPr/>
            <p:nvPr/>
          </p:nvSpPr>
          <p:spPr>
            <a:xfrm flipH="1">
              <a:off x="5722200" y="3423960"/>
              <a:ext cx="1596240" cy="1648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27" name="Line 82"/>
            <p:cNvSpPr/>
            <p:nvPr/>
          </p:nvSpPr>
          <p:spPr>
            <a:xfrm>
              <a:off x="6499800" y="342396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28" name="Rectangle 83"/>
            <p:cNvSpPr/>
            <p:nvPr/>
          </p:nvSpPr>
          <p:spPr>
            <a:xfrm flipH="1">
              <a:off x="5708880" y="3341520"/>
              <a:ext cx="818640" cy="2473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sp>
        <p:nvSpPr>
          <p:cNvPr id="529" name="Rectangle 84"/>
          <p:cNvSpPr/>
          <p:nvPr/>
        </p:nvSpPr>
        <p:spPr>
          <a:xfrm>
            <a:off x="2514600" y="4251240"/>
            <a:ext cx="1596960" cy="828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grpSp>
        <p:nvGrpSpPr>
          <p:cNvPr id="530" name="Group 88"/>
          <p:cNvGrpSpPr/>
          <p:nvPr/>
        </p:nvGrpSpPr>
        <p:grpSpPr>
          <a:xfrm>
            <a:off x="4111560" y="4168800"/>
            <a:ext cx="1596600" cy="164880"/>
            <a:chOff x="4111560" y="4168800"/>
            <a:chExt cx="1596600" cy="164880"/>
          </a:xfrm>
        </p:grpSpPr>
        <p:sp>
          <p:nvSpPr>
            <p:cNvPr id="531" name="Rectangle 17"/>
            <p:cNvSpPr/>
            <p:nvPr/>
          </p:nvSpPr>
          <p:spPr>
            <a:xfrm>
              <a:off x="4111560" y="4168800"/>
              <a:ext cx="1596600" cy="1648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32" name="Line 86"/>
            <p:cNvSpPr/>
            <p:nvPr/>
          </p:nvSpPr>
          <p:spPr>
            <a:xfrm>
              <a:off x="4561920" y="41688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33" name="Line 87"/>
            <p:cNvSpPr/>
            <p:nvPr/>
          </p:nvSpPr>
          <p:spPr>
            <a:xfrm>
              <a:off x="5216760" y="41688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sp>
        <p:nvSpPr>
          <p:cNvPr id="534" name="Line 90"/>
          <p:cNvSpPr/>
          <p:nvPr/>
        </p:nvSpPr>
        <p:spPr>
          <a:xfrm>
            <a:off x="6527880" y="3836880"/>
            <a:ext cx="1440" cy="49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535" name="Line 92"/>
          <p:cNvSpPr/>
          <p:nvPr/>
        </p:nvSpPr>
        <p:spPr>
          <a:xfrm>
            <a:off x="6527880" y="3836880"/>
            <a:ext cx="1440" cy="49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grpSp>
        <p:nvGrpSpPr>
          <p:cNvPr id="536" name="Group 94"/>
          <p:cNvGrpSpPr/>
          <p:nvPr/>
        </p:nvGrpSpPr>
        <p:grpSpPr>
          <a:xfrm>
            <a:off x="7305840" y="4086360"/>
            <a:ext cx="1609200" cy="247320"/>
            <a:chOff x="7305840" y="4086360"/>
            <a:chExt cx="1609200" cy="247320"/>
          </a:xfrm>
        </p:grpSpPr>
        <p:sp>
          <p:nvSpPr>
            <p:cNvPr id="537" name="Rectangle 95"/>
            <p:cNvSpPr/>
            <p:nvPr/>
          </p:nvSpPr>
          <p:spPr>
            <a:xfrm flipH="1">
              <a:off x="7318800" y="4168800"/>
              <a:ext cx="1595880" cy="1648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38" name="Line 96"/>
            <p:cNvSpPr/>
            <p:nvPr/>
          </p:nvSpPr>
          <p:spPr>
            <a:xfrm>
              <a:off x="8096760" y="41688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39" name="Rectangle 97"/>
            <p:cNvSpPr/>
            <p:nvPr/>
          </p:nvSpPr>
          <p:spPr>
            <a:xfrm flipH="1">
              <a:off x="7305480" y="4086360"/>
              <a:ext cx="818280" cy="2473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grpSp>
        <p:nvGrpSpPr>
          <p:cNvPr id="540" name="Group 114"/>
          <p:cNvGrpSpPr/>
          <p:nvPr/>
        </p:nvGrpSpPr>
        <p:grpSpPr>
          <a:xfrm>
            <a:off x="2514600" y="4583160"/>
            <a:ext cx="6400080" cy="329760"/>
            <a:chOff x="2514600" y="4583160"/>
            <a:chExt cx="6400080" cy="329760"/>
          </a:xfrm>
        </p:grpSpPr>
        <p:sp>
          <p:nvSpPr>
            <p:cNvPr id="541" name="Rectangle 98"/>
            <p:cNvSpPr/>
            <p:nvPr/>
          </p:nvSpPr>
          <p:spPr>
            <a:xfrm>
              <a:off x="2514600" y="4830480"/>
              <a:ext cx="1596600" cy="824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42" name="Rectangle 99"/>
            <p:cNvSpPr/>
            <p:nvPr/>
          </p:nvSpPr>
          <p:spPr>
            <a:xfrm>
              <a:off x="4111200" y="4747680"/>
              <a:ext cx="1596240" cy="1652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43" name="Rectangle 100"/>
            <p:cNvSpPr/>
            <p:nvPr/>
          </p:nvSpPr>
          <p:spPr>
            <a:xfrm>
              <a:off x="5707800" y="4583160"/>
              <a:ext cx="1596600" cy="329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44" name="Rectangle 101"/>
            <p:cNvSpPr/>
            <p:nvPr/>
          </p:nvSpPr>
          <p:spPr>
            <a:xfrm>
              <a:off x="2514600" y="4830480"/>
              <a:ext cx="1596600" cy="824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45" name="Line 102"/>
            <p:cNvSpPr/>
            <p:nvPr/>
          </p:nvSpPr>
          <p:spPr>
            <a:xfrm>
              <a:off x="3319920" y="4830480"/>
              <a:ext cx="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grpSp>
          <p:nvGrpSpPr>
            <p:cNvPr id="546" name="Group 103"/>
            <p:cNvGrpSpPr/>
            <p:nvPr/>
          </p:nvGrpSpPr>
          <p:grpSpPr>
            <a:xfrm>
              <a:off x="4111200" y="4747680"/>
              <a:ext cx="1595880" cy="164880"/>
              <a:chOff x="4111200" y="4747680"/>
              <a:chExt cx="1595880" cy="164880"/>
            </a:xfrm>
          </p:grpSpPr>
          <p:sp>
            <p:nvSpPr>
              <p:cNvPr id="547" name="Rectangle 104"/>
              <p:cNvSpPr/>
              <p:nvPr/>
            </p:nvSpPr>
            <p:spPr>
              <a:xfrm>
                <a:off x="4111200" y="4747680"/>
                <a:ext cx="1595880" cy="1648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548" name="Line 105"/>
              <p:cNvSpPr/>
              <p:nvPr/>
            </p:nvSpPr>
            <p:spPr>
              <a:xfrm>
                <a:off x="4561200" y="4747680"/>
                <a:ext cx="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549" name="Line 106"/>
              <p:cNvSpPr/>
              <p:nvPr/>
            </p:nvSpPr>
            <p:spPr>
              <a:xfrm>
                <a:off x="5216040" y="4747680"/>
                <a:ext cx="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grpSp>
          <p:nvGrpSpPr>
            <p:cNvPr id="550" name="Group 109"/>
            <p:cNvGrpSpPr/>
            <p:nvPr/>
          </p:nvGrpSpPr>
          <p:grpSpPr>
            <a:xfrm>
              <a:off x="7304760" y="4665600"/>
              <a:ext cx="1609920" cy="246960"/>
              <a:chOff x="7304760" y="4665600"/>
              <a:chExt cx="1609920" cy="246960"/>
            </a:xfrm>
          </p:grpSpPr>
          <p:sp>
            <p:nvSpPr>
              <p:cNvPr id="551" name="Rectangle 110"/>
              <p:cNvSpPr/>
              <p:nvPr/>
            </p:nvSpPr>
            <p:spPr>
              <a:xfrm flipH="1">
                <a:off x="7317720" y="4748040"/>
                <a:ext cx="1596600" cy="16452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552" name="Line 111"/>
              <p:cNvSpPr/>
              <p:nvPr/>
            </p:nvSpPr>
            <p:spPr>
              <a:xfrm>
                <a:off x="8096040" y="4748040"/>
                <a:ext cx="0" cy="16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553" name="Rectangle 112"/>
              <p:cNvSpPr/>
              <p:nvPr/>
            </p:nvSpPr>
            <p:spPr>
              <a:xfrm flipH="1">
                <a:off x="7304760" y="4665600"/>
                <a:ext cx="818640" cy="2469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</p:grpSp>
      <p:grpSp>
        <p:nvGrpSpPr>
          <p:cNvPr id="554" name="Group 115"/>
          <p:cNvGrpSpPr/>
          <p:nvPr/>
        </p:nvGrpSpPr>
        <p:grpSpPr>
          <a:xfrm>
            <a:off x="2514600" y="5078520"/>
            <a:ext cx="6400080" cy="331200"/>
            <a:chOff x="2514600" y="5078520"/>
            <a:chExt cx="6400080" cy="331200"/>
          </a:xfrm>
        </p:grpSpPr>
        <p:sp>
          <p:nvSpPr>
            <p:cNvPr id="555" name="Rectangle 116"/>
            <p:cNvSpPr/>
            <p:nvPr/>
          </p:nvSpPr>
          <p:spPr>
            <a:xfrm>
              <a:off x="2514600" y="5326920"/>
              <a:ext cx="1596600" cy="828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56" name="Rectangle 117"/>
            <p:cNvSpPr/>
            <p:nvPr/>
          </p:nvSpPr>
          <p:spPr>
            <a:xfrm>
              <a:off x="4111200" y="5243760"/>
              <a:ext cx="1596240" cy="1659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57" name="Rectangle 118"/>
            <p:cNvSpPr/>
            <p:nvPr/>
          </p:nvSpPr>
          <p:spPr>
            <a:xfrm>
              <a:off x="5707800" y="5078520"/>
              <a:ext cx="1596600" cy="3312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58" name="Rectangle 119"/>
            <p:cNvSpPr/>
            <p:nvPr/>
          </p:nvSpPr>
          <p:spPr>
            <a:xfrm>
              <a:off x="2514600" y="5326920"/>
              <a:ext cx="1596600" cy="828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59" name="Line 120"/>
            <p:cNvSpPr/>
            <p:nvPr/>
          </p:nvSpPr>
          <p:spPr>
            <a:xfrm>
              <a:off x="3319920" y="5326920"/>
              <a:ext cx="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grpSp>
          <p:nvGrpSpPr>
            <p:cNvPr id="560" name="Group 121"/>
            <p:cNvGrpSpPr/>
            <p:nvPr/>
          </p:nvGrpSpPr>
          <p:grpSpPr>
            <a:xfrm>
              <a:off x="4111200" y="5243760"/>
              <a:ext cx="1595880" cy="165600"/>
              <a:chOff x="4111200" y="5243760"/>
              <a:chExt cx="1595880" cy="165600"/>
            </a:xfrm>
          </p:grpSpPr>
          <p:sp>
            <p:nvSpPr>
              <p:cNvPr id="561" name="Rectangle 122"/>
              <p:cNvSpPr/>
              <p:nvPr/>
            </p:nvSpPr>
            <p:spPr>
              <a:xfrm>
                <a:off x="4111200" y="5243760"/>
                <a:ext cx="1595880" cy="165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562" name="Line 123"/>
              <p:cNvSpPr/>
              <p:nvPr/>
            </p:nvSpPr>
            <p:spPr>
              <a:xfrm>
                <a:off x="4561200" y="5243760"/>
                <a:ext cx="0" cy="16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563" name="Line 124"/>
              <p:cNvSpPr/>
              <p:nvPr/>
            </p:nvSpPr>
            <p:spPr>
              <a:xfrm>
                <a:off x="5216040" y="5243760"/>
                <a:ext cx="0" cy="16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grpSp>
          <p:nvGrpSpPr>
            <p:cNvPr id="564" name="Group 125"/>
            <p:cNvGrpSpPr/>
            <p:nvPr/>
          </p:nvGrpSpPr>
          <p:grpSpPr>
            <a:xfrm>
              <a:off x="7304760" y="5161320"/>
              <a:ext cx="1609920" cy="248040"/>
              <a:chOff x="7304760" y="5161320"/>
              <a:chExt cx="1609920" cy="248040"/>
            </a:xfrm>
          </p:grpSpPr>
          <p:sp>
            <p:nvSpPr>
              <p:cNvPr id="565" name="Rectangle 126"/>
              <p:cNvSpPr/>
              <p:nvPr/>
            </p:nvSpPr>
            <p:spPr>
              <a:xfrm flipH="1">
                <a:off x="7317720" y="5244120"/>
                <a:ext cx="1596600" cy="1652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566" name="Line 127"/>
              <p:cNvSpPr/>
              <p:nvPr/>
            </p:nvSpPr>
            <p:spPr>
              <a:xfrm>
                <a:off x="8096040" y="5244120"/>
                <a:ext cx="0" cy="16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567" name="Rectangle 128"/>
              <p:cNvSpPr/>
              <p:nvPr/>
            </p:nvSpPr>
            <p:spPr>
              <a:xfrm flipH="1">
                <a:off x="7304760" y="5161320"/>
                <a:ext cx="818640" cy="2480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</p:grpSp>
      <p:sp>
        <p:nvSpPr>
          <p:cNvPr id="568" name="Line 129"/>
          <p:cNvSpPr/>
          <p:nvPr/>
        </p:nvSpPr>
        <p:spPr>
          <a:xfrm>
            <a:off x="6527880" y="4583160"/>
            <a:ext cx="144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569" name="Line 130"/>
          <p:cNvSpPr/>
          <p:nvPr/>
        </p:nvSpPr>
        <p:spPr>
          <a:xfrm>
            <a:off x="6527880" y="5078520"/>
            <a:ext cx="144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570" name="Line 131"/>
          <p:cNvSpPr/>
          <p:nvPr/>
        </p:nvSpPr>
        <p:spPr>
          <a:xfrm>
            <a:off x="4562640" y="1603440"/>
            <a:ext cx="14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571" name="Line 132"/>
          <p:cNvSpPr/>
          <p:nvPr/>
        </p:nvSpPr>
        <p:spPr>
          <a:xfrm>
            <a:off x="5216400" y="1603440"/>
            <a:ext cx="18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572" name="Line 133"/>
          <p:cNvSpPr/>
          <p:nvPr/>
        </p:nvSpPr>
        <p:spPr>
          <a:xfrm>
            <a:off x="6575400" y="1603440"/>
            <a:ext cx="14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573" name="Line 134"/>
          <p:cNvSpPr/>
          <p:nvPr/>
        </p:nvSpPr>
        <p:spPr>
          <a:xfrm>
            <a:off x="8164440" y="1603440"/>
            <a:ext cx="18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574" name="Line 135"/>
          <p:cNvSpPr/>
          <p:nvPr/>
        </p:nvSpPr>
        <p:spPr>
          <a:xfrm>
            <a:off x="4548240" y="1968480"/>
            <a:ext cx="144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575" name="Line 137"/>
          <p:cNvSpPr/>
          <p:nvPr/>
        </p:nvSpPr>
        <p:spPr>
          <a:xfrm>
            <a:off x="6546960" y="2678040"/>
            <a:ext cx="144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576" name="Line 138"/>
          <p:cNvSpPr/>
          <p:nvPr/>
        </p:nvSpPr>
        <p:spPr>
          <a:xfrm>
            <a:off x="6561000" y="2016000"/>
            <a:ext cx="180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577" name="Line 139"/>
          <p:cNvSpPr/>
          <p:nvPr/>
        </p:nvSpPr>
        <p:spPr>
          <a:xfrm>
            <a:off x="8155080" y="2016000"/>
            <a:ext cx="144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578" name="Line 141"/>
          <p:cNvSpPr/>
          <p:nvPr/>
        </p:nvSpPr>
        <p:spPr>
          <a:xfrm>
            <a:off x="5203800" y="1933560"/>
            <a:ext cx="144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naging Projects in the Unified Proce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should we manage the construction of software systems with the Unified Process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at the development of a software system with the Unified Process as a set of several iterat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of these can can be scheduled in parallel, others have to occur in sequ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a single project for each it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 work break down structures for each of the 7 workflow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ject Phases vs. Unified Process Phases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project has at least 5 st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ceiving: The idea is bo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ing:  A plan is develop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ing: Teams are form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ing: The work is being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ing: The project is finishe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hases of a </a:t>
            </a:r>
            <a:r>
              <a:rPr b="1" lang="en-US" sz="3000" spc="-1" strike="noStrike">
                <a:solidFill>
                  <a:srgbClr val="281fff"/>
                </a:solidFill>
                <a:latin typeface="Century Gothic"/>
              </a:rPr>
              <a:t>Software Projec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Rectangle 25"/>
          <p:cNvSpPr/>
          <p:nvPr/>
        </p:nvSpPr>
        <p:spPr>
          <a:xfrm>
            <a:off x="3577680" y="5257800"/>
            <a:ext cx="125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System Done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585" name="Rectangle 26"/>
          <p:cNvSpPr/>
          <p:nvPr/>
        </p:nvSpPr>
        <p:spPr>
          <a:xfrm>
            <a:off x="1514520" y="4022640"/>
            <a:ext cx="158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New Technology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grpSp>
        <p:nvGrpSpPr>
          <p:cNvPr id="586" name="Group 59"/>
          <p:cNvGrpSpPr/>
          <p:nvPr/>
        </p:nvGrpSpPr>
        <p:grpSpPr>
          <a:xfrm>
            <a:off x="90360" y="1260360"/>
            <a:ext cx="2865600" cy="1881360"/>
            <a:chOff x="90360" y="1260360"/>
            <a:chExt cx="2865600" cy="1881360"/>
          </a:xfrm>
        </p:grpSpPr>
        <p:sp>
          <p:nvSpPr>
            <p:cNvPr id="587" name="AutoShape 3"/>
            <p:cNvSpPr/>
            <p:nvPr/>
          </p:nvSpPr>
          <p:spPr>
            <a:xfrm>
              <a:off x="90360" y="1717560"/>
              <a:ext cx="2865600" cy="1424160"/>
            </a:xfrm>
            <a:prstGeom prst="roundRect">
              <a:avLst>
                <a:gd name="adj" fmla="val 33986"/>
              </a:avLst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88" name="Rectangle 4"/>
            <p:cNvSpPr/>
            <p:nvPr/>
          </p:nvSpPr>
          <p:spPr>
            <a:xfrm>
              <a:off x="882000" y="1778040"/>
              <a:ext cx="1366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Lucida Sans Typewriter"/>
                </a:rPr>
                <a:t>Conception</a:t>
              </a:r>
              <a:endParaRPr b="1" lang="en-US" sz="19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89" name="Line 11"/>
            <p:cNvSpPr/>
            <p:nvPr/>
          </p:nvSpPr>
          <p:spPr>
            <a:xfrm>
              <a:off x="115920" y="2120760"/>
              <a:ext cx="2813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90" name="Rectangle 15"/>
            <p:cNvSpPr/>
            <p:nvPr/>
          </p:nvSpPr>
          <p:spPr>
            <a:xfrm>
              <a:off x="652680" y="2187720"/>
              <a:ext cx="140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FormulateIdea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91" name="Oval 22"/>
            <p:cNvSpPr/>
            <p:nvPr/>
          </p:nvSpPr>
          <p:spPr>
            <a:xfrm>
              <a:off x="1052640" y="1260360"/>
              <a:ext cx="201600" cy="187560"/>
            </a:xfrm>
            <a:prstGeom prst="ellipse">
              <a:avLst/>
            </a:prstGeom>
            <a:solidFill>
              <a:srgbClr val="00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92" name="Line 23"/>
            <p:cNvSpPr/>
            <p:nvPr/>
          </p:nvSpPr>
          <p:spPr>
            <a:xfrm>
              <a:off x="1158840" y="1401840"/>
              <a:ext cx="3240" cy="29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93" name="Rectangle 27"/>
            <p:cNvSpPr/>
            <p:nvPr/>
          </p:nvSpPr>
          <p:spPr>
            <a:xfrm>
              <a:off x="355320" y="2403360"/>
              <a:ext cx="183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Cost-BenefitAnalysis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94" name="Rectangle 28"/>
            <p:cNvSpPr/>
            <p:nvPr/>
          </p:nvSpPr>
          <p:spPr>
            <a:xfrm>
              <a:off x="588960" y="2617920"/>
              <a:ext cx="1462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FeasibilityStudy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95" name="Rectangle 29"/>
            <p:cNvSpPr/>
            <p:nvPr/>
          </p:nvSpPr>
          <p:spPr>
            <a:xfrm>
              <a:off x="1027800" y="283212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Review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grpSp>
        <p:nvGrpSpPr>
          <p:cNvPr id="596" name="Group 62"/>
          <p:cNvGrpSpPr/>
          <p:nvPr/>
        </p:nvGrpSpPr>
        <p:grpSpPr>
          <a:xfrm>
            <a:off x="3132000" y="2249640"/>
            <a:ext cx="3065760" cy="1158840"/>
            <a:chOff x="3132000" y="2249640"/>
            <a:chExt cx="3065760" cy="1158840"/>
          </a:xfrm>
        </p:grpSpPr>
        <p:sp>
          <p:nvSpPr>
            <p:cNvPr id="597" name="AutoShape 5"/>
            <p:cNvSpPr/>
            <p:nvPr/>
          </p:nvSpPr>
          <p:spPr>
            <a:xfrm>
              <a:off x="3132000" y="2249640"/>
              <a:ext cx="3065760" cy="1158840"/>
            </a:xfrm>
            <a:prstGeom prst="roundRect">
              <a:avLst>
                <a:gd name="adj" fmla="val 41801"/>
              </a:avLst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98" name="Rectangle 6"/>
            <p:cNvSpPr/>
            <p:nvPr/>
          </p:nvSpPr>
          <p:spPr>
            <a:xfrm>
              <a:off x="3937680" y="236232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 Typewriter"/>
                </a:rPr>
                <a:t>Definition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>
              <a:off x="3132000" y="2681280"/>
              <a:ext cx="30416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00" name="Rectangle 16"/>
            <p:cNvSpPr/>
            <p:nvPr/>
          </p:nvSpPr>
          <p:spPr>
            <a:xfrm>
              <a:off x="3598560" y="2719440"/>
              <a:ext cx="176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Problem Statement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01" name="Rectangle 34"/>
            <p:cNvSpPr/>
            <p:nvPr/>
          </p:nvSpPr>
          <p:spPr>
            <a:xfrm>
              <a:off x="3465720" y="2963880"/>
              <a:ext cx="194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Software Architecture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02" name="Rectangle 35"/>
            <p:cNvSpPr/>
            <p:nvPr/>
          </p:nvSpPr>
          <p:spPr>
            <a:xfrm>
              <a:off x="3836520" y="3151080"/>
              <a:ext cx="132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Software Plan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grpSp>
        <p:nvGrpSpPr>
          <p:cNvPr id="603" name="Group 63"/>
          <p:cNvGrpSpPr/>
          <p:nvPr/>
        </p:nvGrpSpPr>
        <p:grpSpPr>
          <a:xfrm>
            <a:off x="6400800" y="1660680"/>
            <a:ext cx="2666880" cy="1423800"/>
            <a:chOff x="6400800" y="1660680"/>
            <a:chExt cx="2666880" cy="1423800"/>
          </a:xfrm>
        </p:grpSpPr>
        <p:sp>
          <p:nvSpPr>
            <p:cNvPr id="604" name="Rectangle 8"/>
            <p:cNvSpPr/>
            <p:nvPr/>
          </p:nvSpPr>
          <p:spPr>
            <a:xfrm>
              <a:off x="7535160" y="1752480"/>
              <a:ext cx="63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 Typewriter"/>
                </a:rPr>
                <a:t>Start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grpSp>
          <p:nvGrpSpPr>
            <p:cNvPr id="605" name="Group 58"/>
            <p:cNvGrpSpPr/>
            <p:nvPr/>
          </p:nvGrpSpPr>
          <p:grpSpPr>
            <a:xfrm>
              <a:off x="6400800" y="1660680"/>
              <a:ext cx="2666880" cy="1423800"/>
              <a:chOff x="6400800" y="1660680"/>
              <a:chExt cx="2666880" cy="1423800"/>
            </a:xfrm>
          </p:grpSpPr>
          <p:sp>
            <p:nvSpPr>
              <p:cNvPr id="606" name="AutoShape 7"/>
              <p:cNvSpPr/>
              <p:nvPr/>
            </p:nvSpPr>
            <p:spPr>
              <a:xfrm>
                <a:off x="6400800" y="1660680"/>
                <a:ext cx="2666880" cy="1423800"/>
              </a:xfrm>
              <a:prstGeom prst="roundRect">
                <a:avLst>
                  <a:gd name="adj" fmla="val 33986"/>
                </a:avLst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07" name="Line 13"/>
              <p:cNvSpPr/>
              <p:nvPr/>
            </p:nvSpPr>
            <p:spPr>
              <a:xfrm>
                <a:off x="6422040" y="2114640"/>
                <a:ext cx="26251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sp>
          <p:nvSpPr>
            <p:cNvPr id="608" name="Rectangle 17"/>
            <p:cNvSpPr/>
            <p:nvPr/>
          </p:nvSpPr>
          <p:spPr>
            <a:xfrm>
              <a:off x="7029000" y="2827440"/>
              <a:ext cx="1369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Project Kickoff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09" name="Rectangle 31"/>
            <p:cNvSpPr/>
            <p:nvPr/>
          </p:nvSpPr>
          <p:spPr>
            <a:xfrm>
              <a:off x="6708600" y="2236680"/>
              <a:ext cx="18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Infrastructure Setup 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10" name="Rectangle 36"/>
            <p:cNvSpPr/>
            <p:nvPr/>
          </p:nvSpPr>
          <p:spPr>
            <a:xfrm>
              <a:off x="6839280" y="2452680"/>
              <a:ext cx="1639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Skill Identification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11" name="Rectangle 37"/>
            <p:cNvSpPr/>
            <p:nvPr/>
          </p:nvSpPr>
          <p:spPr>
            <a:xfrm>
              <a:off x="6956280" y="2639880"/>
              <a:ext cx="1538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Team Formation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grpSp>
        <p:nvGrpSpPr>
          <p:cNvPr id="612" name="Group 65"/>
          <p:cNvGrpSpPr/>
          <p:nvPr/>
        </p:nvGrpSpPr>
        <p:grpSpPr>
          <a:xfrm>
            <a:off x="5262480" y="4419720"/>
            <a:ext cx="2357640" cy="1452600"/>
            <a:chOff x="5262480" y="4419720"/>
            <a:chExt cx="2357640" cy="1452600"/>
          </a:xfrm>
        </p:grpSpPr>
        <p:sp>
          <p:nvSpPr>
            <p:cNvPr id="613" name="AutoShape 9"/>
            <p:cNvSpPr/>
            <p:nvPr/>
          </p:nvSpPr>
          <p:spPr>
            <a:xfrm>
              <a:off x="5262480" y="4419720"/>
              <a:ext cx="2357640" cy="1452600"/>
            </a:xfrm>
            <a:prstGeom prst="roundRect">
              <a:avLst>
                <a:gd name="adj" fmla="val 33310"/>
              </a:avLst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14" name="Rectangle 10"/>
            <p:cNvSpPr/>
            <p:nvPr/>
          </p:nvSpPr>
          <p:spPr>
            <a:xfrm>
              <a:off x="5677200" y="4572000"/>
              <a:ext cx="159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 Typewriter"/>
                </a:rPr>
                <a:t>Steady State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15" name="Line 14"/>
            <p:cNvSpPr/>
            <p:nvPr/>
          </p:nvSpPr>
          <p:spPr>
            <a:xfrm>
              <a:off x="5262480" y="4964040"/>
              <a:ext cx="23576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16" name="Rectangle 18"/>
            <p:cNvSpPr/>
            <p:nvPr/>
          </p:nvSpPr>
          <p:spPr>
            <a:xfrm>
              <a:off x="5604480" y="4973760"/>
              <a:ext cx="1495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Develop System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17" name="Rectangle 38"/>
            <p:cNvSpPr/>
            <p:nvPr/>
          </p:nvSpPr>
          <p:spPr>
            <a:xfrm>
              <a:off x="5823720" y="5187960"/>
              <a:ext cx="1123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Controlling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18" name="Rectangle 39"/>
            <p:cNvSpPr/>
            <p:nvPr/>
          </p:nvSpPr>
          <p:spPr>
            <a:xfrm>
              <a:off x="5515560" y="5375160"/>
              <a:ext cx="165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Risk Management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19" name="Rectangle 40"/>
            <p:cNvSpPr/>
            <p:nvPr/>
          </p:nvSpPr>
          <p:spPr>
            <a:xfrm>
              <a:off x="5825520" y="5592600"/>
              <a:ext cx="1142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Replanning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sp>
        <p:nvSpPr>
          <p:cNvPr id="620" name="Rectangle 51"/>
          <p:cNvSpPr/>
          <p:nvPr/>
        </p:nvSpPr>
        <p:spPr>
          <a:xfrm>
            <a:off x="1504080" y="3733920"/>
            <a:ext cx="172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New Requirement</a:t>
            </a:r>
            <a:endParaRPr b="1" lang="en-US" sz="16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grpSp>
        <p:nvGrpSpPr>
          <p:cNvPr id="621" name="Group 60"/>
          <p:cNvGrpSpPr/>
          <p:nvPr/>
        </p:nvGrpSpPr>
        <p:grpSpPr>
          <a:xfrm>
            <a:off x="2964960" y="1600200"/>
            <a:ext cx="1700640" cy="829800"/>
            <a:chOff x="2964960" y="1600200"/>
            <a:chExt cx="1700640" cy="829800"/>
          </a:xfrm>
        </p:grpSpPr>
        <p:sp>
          <p:nvSpPr>
            <p:cNvPr id="622" name="Rectangle 19"/>
            <p:cNvSpPr/>
            <p:nvPr/>
          </p:nvSpPr>
          <p:spPr>
            <a:xfrm>
              <a:off x="3300120" y="1600200"/>
              <a:ext cx="932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GoAhead 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cxnSp>
          <p:nvCxnSpPr>
            <p:cNvPr id="623" name="AutoShape 52"/>
            <p:cNvCxnSpPr>
              <a:stCxn id="587" idx="3"/>
              <a:endCxn id="597" idx="0"/>
            </p:cNvCxnSpPr>
            <p:nvPr/>
          </p:nvCxnSpPr>
          <p:spPr>
            <a:xfrm flipV="1">
              <a:off x="2964960" y="2239200"/>
              <a:ext cx="1701000" cy="191160"/>
            </a:xfrm>
            <a:prstGeom prst="curvedConnector5">
              <a:avLst>
                <a:gd name="adj1" fmla="val 4572"/>
                <a:gd name="adj2" fmla="val 107358"/>
                <a:gd name="adj3" fmla="val 4572"/>
              </a:avLst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24" name="Group 61"/>
          <p:cNvGrpSpPr/>
          <p:nvPr/>
        </p:nvGrpSpPr>
        <p:grpSpPr>
          <a:xfrm>
            <a:off x="4665600" y="1173240"/>
            <a:ext cx="3069000" cy="1066680"/>
            <a:chOff x="4665600" y="1173240"/>
            <a:chExt cx="3069000" cy="1066680"/>
          </a:xfrm>
        </p:grpSpPr>
        <p:sp>
          <p:nvSpPr>
            <p:cNvPr id="625" name="Rectangle 20"/>
            <p:cNvSpPr/>
            <p:nvPr/>
          </p:nvSpPr>
          <p:spPr>
            <a:xfrm>
              <a:off x="5587200" y="1173240"/>
              <a:ext cx="1319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ScopeDefined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cxnSp>
          <p:nvCxnSpPr>
            <p:cNvPr id="626" name="AutoShape 53"/>
            <p:cNvCxnSpPr>
              <a:stCxn id="597" idx="0"/>
              <a:endCxn id="606" idx="0"/>
            </p:cNvCxnSpPr>
            <p:nvPr/>
          </p:nvCxnSpPr>
          <p:spPr>
            <a:xfrm flipH="1" flipV="1" rot="5400000">
              <a:off x="5905080" y="410760"/>
              <a:ext cx="589680" cy="3069360"/>
            </a:xfrm>
            <a:prstGeom prst="curvedConnector5">
              <a:avLst>
                <a:gd name="adj1" fmla="val 137141"/>
                <a:gd name="adj2" fmla="val 49994"/>
                <a:gd name="adj3" fmla="val 137141"/>
              </a:avLst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27" name="Group 66"/>
          <p:cNvGrpSpPr/>
          <p:nvPr/>
        </p:nvGrpSpPr>
        <p:grpSpPr>
          <a:xfrm>
            <a:off x="533520" y="4572000"/>
            <a:ext cx="4719600" cy="1827360"/>
            <a:chOff x="533520" y="4572000"/>
            <a:chExt cx="4719600" cy="1827360"/>
          </a:xfrm>
        </p:grpSpPr>
        <p:sp>
          <p:nvSpPr>
            <p:cNvPr id="628" name="AutoShape 42"/>
            <p:cNvSpPr/>
            <p:nvPr/>
          </p:nvSpPr>
          <p:spPr>
            <a:xfrm>
              <a:off x="533520" y="4572000"/>
              <a:ext cx="2533680" cy="1128600"/>
            </a:xfrm>
            <a:prstGeom prst="roundRect">
              <a:avLst>
                <a:gd name="adj" fmla="val 42870"/>
              </a:avLst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29" name="Rectangle 43"/>
            <p:cNvSpPr/>
            <p:nvPr/>
          </p:nvSpPr>
          <p:spPr>
            <a:xfrm>
              <a:off x="1175400" y="4646520"/>
              <a:ext cx="157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 Typewriter"/>
                </a:rPr>
                <a:t>Termination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30" name="Line 44"/>
            <p:cNvSpPr/>
            <p:nvPr/>
          </p:nvSpPr>
          <p:spPr>
            <a:xfrm>
              <a:off x="595440" y="4951440"/>
              <a:ext cx="250812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31" name="Rectangle 45"/>
            <p:cNvSpPr/>
            <p:nvPr/>
          </p:nvSpPr>
          <p:spPr>
            <a:xfrm>
              <a:off x="770760" y="5013360"/>
              <a:ext cx="1631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Client Acceptance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32" name="Oval 46"/>
            <p:cNvSpPr/>
            <p:nvPr/>
          </p:nvSpPr>
          <p:spPr>
            <a:xfrm>
              <a:off x="1725480" y="6157800"/>
              <a:ext cx="176400" cy="187560"/>
            </a:xfrm>
            <a:prstGeom prst="ellipse">
              <a:avLst/>
            </a:prstGeom>
            <a:solidFill>
              <a:srgbClr val="00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33" name="Line 47"/>
            <p:cNvSpPr/>
            <p:nvPr/>
          </p:nvSpPr>
          <p:spPr>
            <a:xfrm flipV="1">
              <a:off x="1822320" y="5700240"/>
              <a:ext cx="6480" cy="374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34" name="Oval 48"/>
            <p:cNvSpPr/>
            <p:nvPr/>
          </p:nvSpPr>
          <p:spPr>
            <a:xfrm>
              <a:off x="1674720" y="6075360"/>
              <a:ext cx="303480" cy="32400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35" name="Rectangle 49"/>
            <p:cNvSpPr/>
            <p:nvPr/>
          </p:nvSpPr>
          <p:spPr>
            <a:xfrm>
              <a:off x="1238760" y="5200560"/>
              <a:ext cx="889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Delivery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36" name="Rectangle 50"/>
            <p:cNvSpPr/>
            <p:nvPr/>
          </p:nvSpPr>
          <p:spPr>
            <a:xfrm>
              <a:off x="1018080" y="5446800"/>
              <a:ext cx="1263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ucida Sans Typewriter"/>
                </a:rPr>
                <a:t>do/Post Mortem</a:t>
              </a:r>
              <a:endParaRPr b="1" lang="en-US" sz="13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cxnSp>
          <p:nvCxnSpPr>
            <p:cNvPr id="637" name="AutoShape 54"/>
            <p:cNvCxnSpPr>
              <a:stCxn id="613" idx="1"/>
              <a:endCxn id="628" idx="3"/>
            </p:cNvCxnSpPr>
            <p:nvPr/>
          </p:nvCxnSpPr>
          <p:spPr>
            <a:xfrm rot="10800000">
              <a:off x="3075840" y="5136480"/>
              <a:ext cx="2177280" cy="10080"/>
            </a:xfrm>
            <a:prstGeom prst="curvedConnector5">
              <a:avLst>
                <a:gd name="adj1" fmla="val 49958"/>
                <a:gd name="adj2" fmla="val 48148"/>
                <a:gd name="adj3" fmla="val 49958"/>
              </a:avLst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38" name="AutoShape 55"/>
          <p:cNvCxnSpPr/>
          <p:nvPr/>
        </p:nvCxnSpPr>
        <p:spPr>
          <a:xfrm rot="10800000">
            <a:off x="1634400" y="3166200"/>
            <a:ext cx="3623400" cy="186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639" name="Group 64"/>
          <p:cNvGrpSpPr/>
          <p:nvPr/>
        </p:nvGrpSpPr>
        <p:grpSpPr>
          <a:xfrm>
            <a:off x="6095880" y="3025800"/>
            <a:ext cx="2822760" cy="1379880"/>
            <a:chOff x="6095880" y="3025800"/>
            <a:chExt cx="2822760" cy="1379880"/>
          </a:xfrm>
        </p:grpSpPr>
        <p:sp>
          <p:nvSpPr>
            <p:cNvPr id="640" name="Rectangle 21"/>
            <p:cNvSpPr/>
            <p:nvPr/>
          </p:nvSpPr>
          <p:spPr>
            <a:xfrm>
              <a:off x="7149600" y="3505320"/>
              <a:ext cx="17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Teams assembled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043400" y="3718080"/>
              <a:ext cx="187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Infrastructure done</a:t>
              </a:r>
              <a:endParaRPr b="1" lang="en-US" sz="16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cxnSp>
          <p:nvCxnSpPr>
            <p:cNvPr id="642" name="AutoShape 56"/>
            <p:cNvCxnSpPr/>
            <p:nvPr/>
          </p:nvCxnSpPr>
          <p:spPr>
            <a:xfrm rot="5400000">
              <a:off x="5967000" y="3154320"/>
              <a:ext cx="1380240" cy="1122840"/>
            </a:xfrm>
            <a:prstGeom prst="curvedConnector5">
              <a:avLst>
                <a:gd name="adj1" fmla="val 50273"/>
                <a:gd name="adj2" fmla="val 50000"/>
                <a:gd name="adj3" fmla="val 50273"/>
              </a:avLst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ject Phases vs. Unified Process Phases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160" y="4343040"/>
            <a:ext cx="8111880" cy="1811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iteration in the unified process pha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eption, Elaboration, Construction, Tran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uld go through each of these 5 project phas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5" name="Group 63"/>
          <p:cNvGrpSpPr/>
          <p:nvPr/>
        </p:nvGrpSpPr>
        <p:grpSpPr>
          <a:xfrm>
            <a:off x="1600200" y="992160"/>
            <a:ext cx="5720400" cy="3579480"/>
            <a:chOff x="1600200" y="992160"/>
            <a:chExt cx="5720400" cy="3579480"/>
          </a:xfrm>
        </p:grpSpPr>
        <p:sp>
          <p:nvSpPr>
            <p:cNvPr id="646" name="Rectangle 4"/>
            <p:cNvSpPr/>
            <p:nvPr/>
          </p:nvSpPr>
          <p:spPr>
            <a:xfrm>
              <a:off x="3822480" y="3789000"/>
              <a:ext cx="78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Lucida Sans Typewriter"/>
                </a:rPr>
                <a:t>System Done</a:t>
              </a:r>
              <a:endParaRPr b="1" lang="en-US" sz="1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647" name="Rectangle 5"/>
            <p:cNvSpPr/>
            <p:nvPr/>
          </p:nvSpPr>
          <p:spPr>
            <a:xfrm>
              <a:off x="2508120" y="2943000"/>
              <a:ext cx="98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Lucida Sans Typewriter"/>
                </a:rPr>
                <a:t>New Technology</a:t>
              </a:r>
              <a:endParaRPr b="1" lang="en-US" sz="1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grpSp>
          <p:nvGrpSpPr>
            <p:cNvPr id="648" name="Group 6"/>
            <p:cNvGrpSpPr/>
            <p:nvPr/>
          </p:nvGrpSpPr>
          <p:grpSpPr>
            <a:xfrm>
              <a:off x="1600200" y="1051560"/>
              <a:ext cx="1825920" cy="1288080"/>
              <a:chOff x="1600200" y="1051560"/>
              <a:chExt cx="1825920" cy="1288080"/>
            </a:xfrm>
          </p:grpSpPr>
          <p:sp>
            <p:nvSpPr>
              <p:cNvPr id="649" name="AutoShape 7"/>
              <p:cNvSpPr/>
              <p:nvPr/>
            </p:nvSpPr>
            <p:spPr>
              <a:xfrm>
                <a:off x="1600200" y="1364400"/>
                <a:ext cx="1825920" cy="975240"/>
              </a:xfrm>
              <a:prstGeom prst="roundRect">
                <a:avLst>
                  <a:gd name="adj" fmla="val 33986"/>
                </a:avLst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50" name="Rectangle 8"/>
              <p:cNvSpPr/>
              <p:nvPr/>
            </p:nvSpPr>
            <p:spPr>
              <a:xfrm>
                <a:off x="2106720" y="1405800"/>
                <a:ext cx="93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Lucida Sans Typewriter"/>
                  </a:rPr>
                  <a:t>Conception</a:t>
                </a:r>
                <a:endParaRPr b="1" lang="en-US" sz="13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51" name="Line 9"/>
              <p:cNvSpPr/>
              <p:nvPr/>
            </p:nvSpPr>
            <p:spPr>
              <a:xfrm>
                <a:off x="1616400" y="1640520"/>
                <a:ext cx="1792440" cy="1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52" name="Rectangle 10"/>
              <p:cNvSpPr/>
              <p:nvPr/>
            </p:nvSpPr>
            <p:spPr>
              <a:xfrm>
                <a:off x="1963440" y="1686600"/>
                <a:ext cx="968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FormulateIdea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53" name="Oval 11"/>
              <p:cNvSpPr/>
              <p:nvPr/>
            </p:nvSpPr>
            <p:spPr>
              <a:xfrm>
                <a:off x="2213280" y="1051560"/>
                <a:ext cx="128160" cy="128160"/>
              </a:xfrm>
              <a:prstGeom prst="ellipse">
                <a:avLst/>
              </a:prstGeom>
              <a:solidFill>
                <a:srgbClr val="000000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54" name="Line 12"/>
              <p:cNvSpPr/>
              <p:nvPr/>
            </p:nvSpPr>
            <p:spPr>
              <a:xfrm>
                <a:off x="2280960" y="1148400"/>
                <a:ext cx="1800" cy="20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55" name="Rectangle 13"/>
              <p:cNvSpPr/>
              <p:nvPr/>
            </p:nvSpPr>
            <p:spPr>
              <a:xfrm>
                <a:off x="1782360" y="1834200"/>
                <a:ext cx="1270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Cost-BenefitAnalysis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56" name="Rectangle 14"/>
              <p:cNvSpPr/>
              <p:nvPr/>
            </p:nvSpPr>
            <p:spPr>
              <a:xfrm>
                <a:off x="1930680" y="1978920"/>
                <a:ext cx="1011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FeasibilityStudy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57" name="Rectangle 15"/>
              <p:cNvSpPr/>
              <p:nvPr/>
            </p:nvSpPr>
            <p:spPr>
              <a:xfrm>
                <a:off x="2198880" y="2127960"/>
                <a:ext cx="558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Review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grpSp>
          <p:nvGrpSpPr>
            <p:cNvPr id="658" name="Group 16"/>
            <p:cNvGrpSpPr/>
            <p:nvPr/>
          </p:nvGrpSpPr>
          <p:grpSpPr>
            <a:xfrm>
              <a:off x="3538440" y="1729440"/>
              <a:ext cx="1953360" cy="793800"/>
              <a:chOff x="3538440" y="1729440"/>
              <a:chExt cx="1953360" cy="793800"/>
            </a:xfrm>
          </p:grpSpPr>
          <p:sp>
            <p:nvSpPr>
              <p:cNvPr id="659" name="AutoShape 17"/>
              <p:cNvSpPr/>
              <p:nvPr/>
            </p:nvSpPr>
            <p:spPr>
              <a:xfrm>
                <a:off x="3538440" y="1729440"/>
                <a:ext cx="1953360" cy="793800"/>
              </a:xfrm>
              <a:prstGeom prst="roundRect">
                <a:avLst>
                  <a:gd name="adj" fmla="val 41801"/>
                </a:avLst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60" name="Rectangle 18"/>
              <p:cNvSpPr/>
              <p:nvPr/>
            </p:nvSpPr>
            <p:spPr>
              <a:xfrm>
                <a:off x="4058640" y="1806480"/>
                <a:ext cx="893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Typewriter"/>
                  </a:rPr>
                  <a:t>Defini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61" name="Line 19"/>
              <p:cNvSpPr/>
              <p:nvPr/>
            </p:nvSpPr>
            <p:spPr>
              <a:xfrm>
                <a:off x="3538440" y="2025000"/>
                <a:ext cx="19378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62" name="Rectangle 20"/>
              <p:cNvSpPr/>
              <p:nvPr/>
            </p:nvSpPr>
            <p:spPr>
              <a:xfrm>
                <a:off x="3842280" y="2051280"/>
                <a:ext cx="1221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Problem Statement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63" name="Rectangle 21"/>
              <p:cNvSpPr/>
              <p:nvPr/>
            </p:nvSpPr>
            <p:spPr>
              <a:xfrm>
                <a:off x="3762720" y="2217600"/>
                <a:ext cx="134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Software Architecture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64" name="Rectangle 22"/>
              <p:cNvSpPr/>
              <p:nvPr/>
            </p:nvSpPr>
            <p:spPr>
              <a:xfrm>
                <a:off x="3991320" y="2347920"/>
                <a:ext cx="921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Software Plan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grpSp>
          <p:nvGrpSpPr>
            <p:cNvPr id="665" name="Group 23"/>
            <p:cNvGrpSpPr/>
            <p:nvPr/>
          </p:nvGrpSpPr>
          <p:grpSpPr>
            <a:xfrm>
              <a:off x="5621400" y="1325880"/>
              <a:ext cx="1699200" cy="975240"/>
              <a:chOff x="5621400" y="1325880"/>
              <a:chExt cx="1699200" cy="975240"/>
            </a:xfrm>
          </p:grpSpPr>
          <p:sp>
            <p:nvSpPr>
              <p:cNvPr id="666" name="Rectangle 24"/>
              <p:cNvSpPr/>
              <p:nvPr/>
            </p:nvSpPr>
            <p:spPr>
              <a:xfrm>
                <a:off x="6346080" y="1388520"/>
                <a:ext cx="442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Typewriter"/>
                  </a:rPr>
                  <a:t>Start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grpSp>
            <p:nvGrpSpPr>
              <p:cNvPr id="667" name="Group 25"/>
              <p:cNvGrpSpPr/>
              <p:nvPr/>
            </p:nvGrpSpPr>
            <p:grpSpPr>
              <a:xfrm>
                <a:off x="5621400" y="1325880"/>
                <a:ext cx="1699200" cy="975240"/>
                <a:chOff x="5621400" y="1325880"/>
                <a:chExt cx="1699200" cy="975240"/>
              </a:xfrm>
            </p:grpSpPr>
            <p:sp>
              <p:nvSpPr>
                <p:cNvPr id="668" name="AutoShape 26"/>
                <p:cNvSpPr/>
                <p:nvPr/>
              </p:nvSpPr>
              <p:spPr>
                <a:xfrm>
                  <a:off x="5621400" y="1325880"/>
                  <a:ext cx="1699200" cy="975240"/>
                </a:xfrm>
                <a:prstGeom prst="roundRect">
                  <a:avLst>
                    <a:gd name="adj" fmla="val 33986"/>
                  </a:avLst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669" name="Line 27"/>
                <p:cNvSpPr/>
                <p:nvPr/>
              </p:nvSpPr>
              <p:spPr>
                <a:xfrm>
                  <a:off x="5635080" y="1636560"/>
                  <a:ext cx="1672560" cy="7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</p:grpSp>
          <p:sp>
            <p:nvSpPr>
              <p:cNvPr id="670" name="Rectangle 28"/>
              <p:cNvSpPr/>
              <p:nvPr/>
            </p:nvSpPr>
            <p:spPr>
              <a:xfrm>
                <a:off x="6032880" y="2125080"/>
                <a:ext cx="948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Project Kickoff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71" name="Rectangle 29"/>
              <p:cNvSpPr/>
              <p:nvPr/>
            </p:nvSpPr>
            <p:spPr>
              <a:xfrm>
                <a:off x="5830200" y="1720440"/>
                <a:ext cx="1300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Infrastructure Setup 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72" name="Rectangle 30"/>
              <p:cNvSpPr/>
              <p:nvPr/>
            </p:nvSpPr>
            <p:spPr>
              <a:xfrm>
                <a:off x="5920200" y="1868400"/>
                <a:ext cx="1131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Skill Identification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73" name="Rectangle 31"/>
              <p:cNvSpPr/>
              <p:nvPr/>
            </p:nvSpPr>
            <p:spPr>
              <a:xfrm>
                <a:off x="5978160" y="1998720"/>
                <a:ext cx="1065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Team Formation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grpSp>
          <p:nvGrpSpPr>
            <p:cNvPr id="674" name="Group 32"/>
            <p:cNvGrpSpPr/>
            <p:nvPr/>
          </p:nvGrpSpPr>
          <p:grpSpPr>
            <a:xfrm>
              <a:off x="4896000" y="3215880"/>
              <a:ext cx="1502280" cy="995040"/>
              <a:chOff x="4896000" y="3215880"/>
              <a:chExt cx="1502280" cy="995040"/>
            </a:xfrm>
          </p:grpSpPr>
          <p:sp>
            <p:nvSpPr>
              <p:cNvPr id="675" name="AutoShape 33"/>
              <p:cNvSpPr/>
              <p:nvPr/>
            </p:nvSpPr>
            <p:spPr>
              <a:xfrm>
                <a:off x="4896000" y="3215880"/>
                <a:ext cx="1502280" cy="995040"/>
              </a:xfrm>
              <a:prstGeom prst="roundRect">
                <a:avLst>
                  <a:gd name="adj" fmla="val 33310"/>
                </a:avLst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76" name="Rectangle 34"/>
              <p:cNvSpPr/>
              <p:nvPr/>
            </p:nvSpPr>
            <p:spPr>
              <a:xfrm>
                <a:off x="5164560" y="3321000"/>
                <a:ext cx="1116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Typewriter"/>
                  </a:rPr>
                  <a:t>Steady State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77" name="Line 35"/>
              <p:cNvSpPr/>
              <p:nvPr/>
            </p:nvSpPr>
            <p:spPr>
              <a:xfrm>
                <a:off x="4896000" y="3588480"/>
                <a:ext cx="1502280" cy="1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78" name="Rectangle 36"/>
              <p:cNvSpPr/>
              <p:nvPr/>
            </p:nvSpPr>
            <p:spPr>
              <a:xfrm>
                <a:off x="5116680" y="3593880"/>
                <a:ext cx="1037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Develop System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79" name="Rectangle 37"/>
              <p:cNvSpPr/>
              <p:nvPr/>
            </p:nvSpPr>
            <p:spPr>
              <a:xfrm>
                <a:off x="5260680" y="3742920"/>
                <a:ext cx="77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Controlling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80" name="Rectangle 38"/>
              <p:cNvSpPr/>
              <p:nvPr/>
            </p:nvSpPr>
            <p:spPr>
              <a:xfrm>
                <a:off x="5060520" y="3871440"/>
                <a:ext cx="1146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Risk Management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81" name="Rectangle 39"/>
              <p:cNvSpPr/>
              <p:nvPr/>
            </p:nvSpPr>
            <p:spPr>
              <a:xfrm>
                <a:off x="5255640" y="4019400"/>
                <a:ext cx="790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Replanning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sp>
          <p:nvSpPr>
            <p:cNvPr id="682" name="Rectangle 40"/>
            <p:cNvSpPr/>
            <p:nvPr/>
          </p:nvSpPr>
          <p:spPr>
            <a:xfrm>
              <a:off x="2500920" y="2745000"/>
              <a:ext cx="107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Lucida Sans Typewriter"/>
                </a:rPr>
                <a:t>New Requirement</a:t>
              </a:r>
              <a:endParaRPr b="1" lang="en-US" sz="1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grpSp>
          <p:nvGrpSpPr>
            <p:cNvPr id="683" name="Group 41"/>
            <p:cNvGrpSpPr/>
            <p:nvPr/>
          </p:nvGrpSpPr>
          <p:grpSpPr>
            <a:xfrm>
              <a:off x="3431880" y="1284480"/>
              <a:ext cx="1083600" cy="568440"/>
              <a:chOff x="3431880" y="1284480"/>
              <a:chExt cx="1083600" cy="568440"/>
            </a:xfrm>
          </p:grpSpPr>
          <p:sp>
            <p:nvSpPr>
              <p:cNvPr id="684" name="Rectangle 42"/>
              <p:cNvSpPr/>
              <p:nvPr/>
            </p:nvSpPr>
            <p:spPr>
              <a:xfrm>
                <a:off x="3646080" y="1284480"/>
                <a:ext cx="58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Lucida Sans Typewriter"/>
                  </a:rPr>
                  <a:t>GoAhead </a:t>
                </a:r>
                <a:endParaRPr b="1" lang="en-US" sz="10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cxnSp>
            <p:nvCxnSpPr>
              <p:cNvPr id="685" name="AutoShape 43"/>
              <p:cNvCxnSpPr>
                <a:stCxn id="649" idx="3"/>
                <a:endCxn id="659" idx="0"/>
              </p:cNvCxnSpPr>
              <p:nvPr/>
            </p:nvCxnSpPr>
            <p:spPr>
              <a:xfrm flipV="1">
                <a:off x="3431880" y="1722240"/>
                <a:ext cx="1083960" cy="131040"/>
              </a:xfrm>
              <a:prstGeom prst="curvedConnector5">
                <a:avLst>
                  <a:gd name="adj1" fmla="val 4551"/>
                  <a:gd name="adj2" fmla="val 107438"/>
                  <a:gd name="adj3" fmla="val 4551"/>
                </a:avLst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686" name="Group 44"/>
            <p:cNvGrpSpPr/>
            <p:nvPr/>
          </p:nvGrpSpPr>
          <p:grpSpPr>
            <a:xfrm>
              <a:off x="4515120" y="992160"/>
              <a:ext cx="1955520" cy="730080"/>
              <a:chOff x="4515120" y="992160"/>
              <a:chExt cx="1955520" cy="730080"/>
            </a:xfrm>
          </p:grpSpPr>
          <p:sp>
            <p:nvSpPr>
              <p:cNvPr id="687" name="Rectangle 45"/>
              <p:cNvSpPr/>
              <p:nvPr/>
            </p:nvSpPr>
            <p:spPr>
              <a:xfrm>
                <a:off x="5101560" y="992160"/>
                <a:ext cx="825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Lucida Sans Typewriter"/>
                  </a:rPr>
                  <a:t>ScopeDefined</a:t>
                </a:r>
                <a:endParaRPr b="1" lang="en-US" sz="10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cxnSp>
            <p:nvCxnSpPr>
              <p:cNvPr id="688" name="AutoShape 46"/>
              <p:cNvCxnSpPr>
                <a:stCxn id="659" idx="0"/>
                <a:endCxn id="668" idx="0"/>
              </p:cNvCxnSpPr>
              <p:nvPr/>
            </p:nvCxnSpPr>
            <p:spPr>
              <a:xfrm flipH="1" flipV="1" rot="5400000">
                <a:off x="5290920" y="542520"/>
                <a:ext cx="403920" cy="1955880"/>
              </a:xfrm>
              <a:prstGeom prst="curvedConnector5">
                <a:avLst>
                  <a:gd name="adj1" fmla="val 137198"/>
                  <a:gd name="adj2" fmla="val 50000"/>
                  <a:gd name="adj3" fmla="val 137198"/>
                </a:avLst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689" name="Group 47"/>
            <p:cNvGrpSpPr/>
            <p:nvPr/>
          </p:nvGrpSpPr>
          <p:grpSpPr>
            <a:xfrm>
              <a:off x="1882440" y="3320280"/>
              <a:ext cx="3007080" cy="1251360"/>
              <a:chOff x="1882440" y="3320280"/>
              <a:chExt cx="3007080" cy="1251360"/>
            </a:xfrm>
          </p:grpSpPr>
          <p:sp>
            <p:nvSpPr>
              <p:cNvPr id="690" name="AutoShape 48"/>
              <p:cNvSpPr/>
              <p:nvPr/>
            </p:nvSpPr>
            <p:spPr>
              <a:xfrm>
                <a:off x="1882440" y="3320280"/>
                <a:ext cx="1614240" cy="772920"/>
              </a:xfrm>
              <a:prstGeom prst="roundRect">
                <a:avLst>
                  <a:gd name="adj" fmla="val 42870"/>
                </a:avLst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91" name="Rectangle 49"/>
              <p:cNvSpPr/>
              <p:nvPr/>
            </p:nvSpPr>
            <p:spPr>
              <a:xfrm>
                <a:off x="2296440" y="3374280"/>
                <a:ext cx="1105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Typewriter"/>
                  </a:rPr>
                  <a:t>Termina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92" name="Line 50"/>
              <p:cNvSpPr/>
              <p:nvPr/>
            </p:nvSpPr>
            <p:spPr>
              <a:xfrm>
                <a:off x="1921680" y="3580200"/>
                <a:ext cx="1598040" cy="2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93" name="Rectangle 51"/>
              <p:cNvSpPr/>
              <p:nvPr/>
            </p:nvSpPr>
            <p:spPr>
              <a:xfrm>
                <a:off x="2045160" y="3623400"/>
                <a:ext cx="1128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Client Acceptance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94" name="Oval 52"/>
              <p:cNvSpPr/>
              <p:nvPr/>
            </p:nvSpPr>
            <p:spPr>
              <a:xfrm>
                <a:off x="2641680" y="4406400"/>
                <a:ext cx="112320" cy="128160"/>
              </a:xfrm>
              <a:prstGeom prst="ellipse">
                <a:avLst/>
              </a:prstGeom>
              <a:solidFill>
                <a:srgbClr val="000000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95" name="Line 53"/>
              <p:cNvSpPr/>
              <p:nvPr/>
            </p:nvSpPr>
            <p:spPr>
              <a:xfrm flipV="1">
                <a:off x="2703600" y="4092840"/>
                <a:ext cx="3960" cy="256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96" name="Oval 54"/>
              <p:cNvSpPr/>
              <p:nvPr/>
            </p:nvSpPr>
            <p:spPr>
              <a:xfrm>
                <a:off x="2609640" y="4349880"/>
                <a:ext cx="193320" cy="22176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97" name="Rectangle 55"/>
              <p:cNvSpPr/>
              <p:nvPr/>
            </p:nvSpPr>
            <p:spPr>
              <a:xfrm>
                <a:off x="2337840" y="3750840"/>
                <a:ext cx="614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Delivery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698" name="Rectangle 56"/>
              <p:cNvSpPr/>
              <p:nvPr/>
            </p:nvSpPr>
            <p:spPr>
              <a:xfrm>
                <a:off x="2196000" y="3919320"/>
                <a:ext cx="876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Post Mortem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cxnSp>
            <p:nvCxnSpPr>
              <p:cNvPr id="699" name="AutoShape 57"/>
              <p:cNvCxnSpPr>
                <a:stCxn id="675" idx="1"/>
                <a:endCxn id="690" idx="3"/>
              </p:cNvCxnSpPr>
              <p:nvPr/>
            </p:nvCxnSpPr>
            <p:spPr>
              <a:xfrm rot="10800000">
                <a:off x="3502080" y="3706560"/>
                <a:ext cx="1387440" cy="6840"/>
              </a:xfrm>
              <a:prstGeom prst="curvedConnector5">
                <a:avLst>
                  <a:gd name="adj1" fmla="val 49961"/>
                  <a:gd name="adj2" fmla="val 50000"/>
                  <a:gd name="adj3" fmla="val 49961"/>
                </a:avLst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cxnSp>
          <p:nvCxnSpPr>
            <p:cNvPr id="700" name="AutoShape 58"/>
            <p:cNvCxnSpPr/>
            <p:nvPr/>
          </p:nvCxnSpPr>
          <p:spPr>
            <a:xfrm rot="10800000">
              <a:off x="2583720" y="2356920"/>
              <a:ext cx="2309040" cy="1276200"/>
            </a:xfrm>
            <a:prstGeom prst="curvedConnector5">
              <a:avLst>
                <a:gd name="adj1" fmla="val 49992"/>
                <a:gd name="adj2" fmla="val 50000"/>
                <a:gd name="adj3" fmla="val 49992"/>
              </a:avLst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701" name="Group 59"/>
            <p:cNvGrpSpPr/>
            <p:nvPr/>
          </p:nvGrpSpPr>
          <p:grpSpPr>
            <a:xfrm>
              <a:off x="5427000" y="2261160"/>
              <a:ext cx="1771920" cy="945000"/>
              <a:chOff x="5427000" y="2261160"/>
              <a:chExt cx="1771920" cy="945000"/>
            </a:xfrm>
          </p:grpSpPr>
          <p:sp>
            <p:nvSpPr>
              <p:cNvPr id="702" name="Rectangle 60"/>
              <p:cNvSpPr/>
              <p:nvPr/>
            </p:nvSpPr>
            <p:spPr>
              <a:xfrm>
                <a:off x="6097320" y="2589480"/>
                <a:ext cx="1070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Lucida Sans Typewriter"/>
                  </a:rPr>
                  <a:t>Teams assembled</a:t>
                </a:r>
                <a:endParaRPr b="1" lang="en-US" sz="10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03" name="Rectangle 61"/>
              <p:cNvSpPr/>
              <p:nvPr/>
            </p:nvSpPr>
            <p:spPr>
              <a:xfrm>
                <a:off x="6029280" y="2734920"/>
                <a:ext cx="1169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Lucida Sans Typewriter"/>
                  </a:rPr>
                  <a:t>Infrastructure done</a:t>
                </a:r>
                <a:endParaRPr b="1" lang="en-US" sz="10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cxnSp>
            <p:nvCxnSpPr>
              <p:cNvPr id="704" name="AutoShape 62"/>
              <p:cNvCxnSpPr/>
              <p:nvPr/>
            </p:nvCxnSpPr>
            <p:spPr>
              <a:xfrm rot="5400000">
                <a:off x="5311800" y="2376000"/>
                <a:ext cx="945360" cy="715320"/>
              </a:xfrm>
              <a:prstGeom prst="curvedConnector5">
                <a:avLst>
                  <a:gd name="adj1" fmla="val 50285"/>
                  <a:gd name="adj2" fmla="val 50000"/>
                  <a:gd name="adj3" fmla="val 50285"/>
                </a:avLst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4589640"/>
            <a:ext cx="8305920" cy="2116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manager skips the start pha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manager skips the definition and start 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manager jumps straight to the steady state phase after joining the project l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manager cancels the termination phas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nified Process Management Mistak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07" name="Group 8"/>
          <p:cNvGrpSpPr/>
          <p:nvPr/>
        </p:nvGrpSpPr>
        <p:grpSpPr>
          <a:xfrm>
            <a:off x="1523880" y="762120"/>
            <a:ext cx="5720400" cy="3579480"/>
            <a:chOff x="1523880" y="762120"/>
            <a:chExt cx="5720400" cy="3579480"/>
          </a:xfrm>
        </p:grpSpPr>
        <p:sp>
          <p:nvSpPr>
            <p:cNvPr id="708" name="Rectangle 9"/>
            <p:cNvSpPr/>
            <p:nvPr/>
          </p:nvSpPr>
          <p:spPr>
            <a:xfrm>
              <a:off x="3746160" y="3558960"/>
              <a:ext cx="78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Lucida Sans Typewriter"/>
                </a:rPr>
                <a:t>System Done</a:t>
              </a:r>
              <a:endParaRPr b="1" lang="en-US" sz="1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709" name="Rectangle 10"/>
            <p:cNvSpPr/>
            <p:nvPr/>
          </p:nvSpPr>
          <p:spPr>
            <a:xfrm>
              <a:off x="2431800" y="2712960"/>
              <a:ext cx="98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Lucida Sans Typewriter"/>
                </a:rPr>
                <a:t>New Technology</a:t>
              </a:r>
              <a:endParaRPr b="1" lang="en-US" sz="1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grpSp>
          <p:nvGrpSpPr>
            <p:cNvPr id="710" name="Group 11"/>
            <p:cNvGrpSpPr/>
            <p:nvPr/>
          </p:nvGrpSpPr>
          <p:grpSpPr>
            <a:xfrm>
              <a:off x="1523880" y="821520"/>
              <a:ext cx="1825920" cy="1288080"/>
              <a:chOff x="1523880" y="821520"/>
              <a:chExt cx="1825920" cy="1288080"/>
            </a:xfrm>
          </p:grpSpPr>
          <p:sp>
            <p:nvSpPr>
              <p:cNvPr id="711" name="AutoShape 12"/>
              <p:cNvSpPr/>
              <p:nvPr/>
            </p:nvSpPr>
            <p:spPr>
              <a:xfrm>
                <a:off x="1523880" y="1134360"/>
                <a:ext cx="1825920" cy="975240"/>
              </a:xfrm>
              <a:prstGeom prst="roundRect">
                <a:avLst>
                  <a:gd name="adj" fmla="val 33986"/>
                </a:avLst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12" name="Rectangle 13"/>
              <p:cNvSpPr/>
              <p:nvPr/>
            </p:nvSpPr>
            <p:spPr>
              <a:xfrm>
                <a:off x="2030400" y="1175760"/>
                <a:ext cx="93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Lucida Sans Typewriter"/>
                  </a:rPr>
                  <a:t>Conception</a:t>
                </a:r>
                <a:endParaRPr b="1" lang="en-US" sz="13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13" name="Line 14"/>
              <p:cNvSpPr/>
              <p:nvPr/>
            </p:nvSpPr>
            <p:spPr>
              <a:xfrm>
                <a:off x="1540080" y="1410480"/>
                <a:ext cx="1792440" cy="1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14" name="Rectangle 15"/>
              <p:cNvSpPr/>
              <p:nvPr/>
            </p:nvSpPr>
            <p:spPr>
              <a:xfrm>
                <a:off x="1887120" y="1456560"/>
                <a:ext cx="968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FormulateIdea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15" name="Oval 16"/>
              <p:cNvSpPr/>
              <p:nvPr/>
            </p:nvSpPr>
            <p:spPr>
              <a:xfrm>
                <a:off x="2136960" y="821520"/>
                <a:ext cx="128160" cy="128160"/>
              </a:xfrm>
              <a:prstGeom prst="ellipse">
                <a:avLst/>
              </a:prstGeom>
              <a:solidFill>
                <a:srgbClr val="000000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16" name="Line 17"/>
              <p:cNvSpPr/>
              <p:nvPr/>
            </p:nvSpPr>
            <p:spPr>
              <a:xfrm>
                <a:off x="2204640" y="918360"/>
                <a:ext cx="1800" cy="20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17" name="Rectangle 18"/>
              <p:cNvSpPr/>
              <p:nvPr/>
            </p:nvSpPr>
            <p:spPr>
              <a:xfrm>
                <a:off x="1706040" y="1604160"/>
                <a:ext cx="1270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Cost-BenefitAnalysis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18" name="Rectangle 19"/>
              <p:cNvSpPr/>
              <p:nvPr/>
            </p:nvSpPr>
            <p:spPr>
              <a:xfrm>
                <a:off x="1854360" y="1748880"/>
                <a:ext cx="1011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FeasibilityStudy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19" name="Rectangle 20"/>
              <p:cNvSpPr/>
              <p:nvPr/>
            </p:nvSpPr>
            <p:spPr>
              <a:xfrm>
                <a:off x="2122560" y="1897920"/>
                <a:ext cx="558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Review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grpSp>
          <p:nvGrpSpPr>
            <p:cNvPr id="720" name="Group 21"/>
            <p:cNvGrpSpPr/>
            <p:nvPr/>
          </p:nvGrpSpPr>
          <p:grpSpPr>
            <a:xfrm>
              <a:off x="3462120" y="1499400"/>
              <a:ext cx="1953360" cy="793800"/>
              <a:chOff x="3462120" y="1499400"/>
              <a:chExt cx="1953360" cy="793800"/>
            </a:xfrm>
          </p:grpSpPr>
          <p:sp>
            <p:nvSpPr>
              <p:cNvPr id="721" name="AutoShape 22"/>
              <p:cNvSpPr/>
              <p:nvPr/>
            </p:nvSpPr>
            <p:spPr>
              <a:xfrm>
                <a:off x="3462120" y="1499400"/>
                <a:ext cx="1953360" cy="793800"/>
              </a:xfrm>
              <a:prstGeom prst="roundRect">
                <a:avLst>
                  <a:gd name="adj" fmla="val 41801"/>
                </a:avLst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22" name="Rectangle 23"/>
              <p:cNvSpPr/>
              <p:nvPr/>
            </p:nvSpPr>
            <p:spPr>
              <a:xfrm>
                <a:off x="3982320" y="1576440"/>
                <a:ext cx="893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Typewriter"/>
                  </a:rPr>
                  <a:t>Defini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23" name="Line 24"/>
              <p:cNvSpPr/>
              <p:nvPr/>
            </p:nvSpPr>
            <p:spPr>
              <a:xfrm>
                <a:off x="3462120" y="1794960"/>
                <a:ext cx="1937880" cy="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24" name="Rectangle 25"/>
              <p:cNvSpPr/>
              <p:nvPr/>
            </p:nvSpPr>
            <p:spPr>
              <a:xfrm>
                <a:off x="3765960" y="1821240"/>
                <a:ext cx="1221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Problem Statement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25" name="Rectangle 26"/>
              <p:cNvSpPr/>
              <p:nvPr/>
            </p:nvSpPr>
            <p:spPr>
              <a:xfrm>
                <a:off x="3686400" y="1987560"/>
                <a:ext cx="134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Software Architecture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26" name="Rectangle 27"/>
              <p:cNvSpPr/>
              <p:nvPr/>
            </p:nvSpPr>
            <p:spPr>
              <a:xfrm>
                <a:off x="3915000" y="2117880"/>
                <a:ext cx="921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Software Plan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grpSp>
          <p:nvGrpSpPr>
            <p:cNvPr id="727" name="Group 28"/>
            <p:cNvGrpSpPr/>
            <p:nvPr/>
          </p:nvGrpSpPr>
          <p:grpSpPr>
            <a:xfrm>
              <a:off x="5545080" y="1095840"/>
              <a:ext cx="1699200" cy="975240"/>
              <a:chOff x="5545080" y="1095840"/>
              <a:chExt cx="1699200" cy="975240"/>
            </a:xfrm>
          </p:grpSpPr>
          <p:sp>
            <p:nvSpPr>
              <p:cNvPr id="728" name="Rectangle 29"/>
              <p:cNvSpPr/>
              <p:nvPr/>
            </p:nvSpPr>
            <p:spPr>
              <a:xfrm>
                <a:off x="6269760" y="1158480"/>
                <a:ext cx="442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Typewriter"/>
                  </a:rPr>
                  <a:t>Start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grpSp>
            <p:nvGrpSpPr>
              <p:cNvPr id="729" name="Group 30"/>
              <p:cNvGrpSpPr/>
              <p:nvPr/>
            </p:nvGrpSpPr>
            <p:grpSpPr>
              <a:xfrm>
                <a:off x="5545080" y="1095840"/>
                <a:ext cx="1699200" cy="975240"/>
                <a:chOff x="5545080" y="1095840"/>
                <a:chExt cx="1699200" cy="975240"/>
              </a:xfrm>
            </p:grpSpPr>
            <p:sp>
              <p:nvSpPr>
                <p:cNvPr id="730" name="AutoShape 31"/>
                <p:cNvSpPr/>
                <p:nvPr/>
              </p:nvSpPr>
              <p:spPr>
                <a:xfrm>
                  <a:off x="5545080" y="1095840"/>
                  <a:ext cx="1699200" cy="975240"/>
                </a:xfrm>
                <a:prstGeom prst="roundRect">
                  <a:avLst>
                    <a:gd name="adj" fmla="val 33986"/>
                  </a:avLst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731" name="Line 32"/>
                <p:cNvSpPr/>
                <p:nvPr/>
              </p:nvSpPr>
              <p:spPr>
                <a:xfrm>
                  <a:off x="5558760" y="1406520"/>
                  <a:ext cx="1672560" cy="7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</p:grpSp>
          <p:sp>
            <p:nvSpPr>
              <p:cNvPr id="732" name="Rectangle 33"/>
              <p:cNvSpPr/>
              <p:nvPr/>
            </p:nvSpPr>
            <p:spPr>
              <a:xfrm>
                <a:off x="5956560" y="1895040"/>
                <a:ext cx="948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Project Kickoff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33" name="Rectangle 34"/>
              <p:cNvSpPr/>
              <p:nvPr/>
            </p:nvSpPr>
            <p:spPr>
              <a:xfrm>
                <a:off x="5753880" y="1490400"/>
                <a:ext cx="1300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Infrastructure Setup 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34" name="Rectangle 35"/>
              <p:cNvSpPr/>
              <p:nvPr/>
            </p:nvSpPr>
            <p:spPr>
              <a:xfrm>
                <a:off x="5843880" y="1638360"/>
                <a:ext cx="1131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Skill Identification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35" name="Rectangle 36"/>
              <p:cNvSpPr/>
              <p:nvPr/>
            </p:nvSpPr>
            <p:spPr>
              <a:xfrm>
                <a:off x="5901840" y="1768680"/>
                <a:ext cx="1065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Team Formation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grpSp>
          <p:nvGrpSpPr>
            <p:cNvPr id="736" name="Group 37"/>
            <p:cNvGrpSpPr/>
            <p:nvPr/>
          </p:nvGrpSpPr>
          <p:grpSpPr>
            <a:xfrm>
              <a:off x="4819680" y="2985840"/>
              <a:ext cx="1502280" cy="995040"/>
              <a:chOff x="4819680" y="2985840"/>
              <a:chExt cx="1502280" cy="99504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819680" y="2985840"/>
                <a:ext cx="1502280" cy="995040"/>
              </a:xfrm>
              <a:prstGeom prst="roundRect">
                <a:avLst>
                  <a:gd name="adj" fmla="val 33310"/>
                </a:avLst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38" name="Rectangle 39"/>
              <p:cNvSpPr/>
              <p:nvPr/>
            </p:nvSpPr>
            <p:spPr>
              <a:xfrm>
                <a:off x="5088240" y="3090960"/>
                <a:ext cx="1116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Typewriter"/>
                  </a:rPr>
                  <a:t>Steady State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39" name="Line 40"/>
              <p:cNvSpPr/>
              <p:nvPr/>
            </p:nvSpPr>
            <p:spPr>
              <a:xfrm>
                <a:off x="4819680" y="3358440"/>
                <a:ext cx="1502280" cy="1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40" name="Rectangle 41"/>
              <p:cNvSpPr/>
              <p:nvPr/>
            </p:nvSpPr>
            <p:spPr>
              <a:xfrm>
                <a:off x="5040360" y="3363840"/>
                <a:ext cx="1037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Develop System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41" name="Rectangle 42"/>
              <p:cNvSpPr/>
              <p:nvPr/>
            </p:nvSpPr>
            <p:spPr>
              <a:xfrm>
                <a:off x="5184360" y="3512880"/>
                <a:ext cx="77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Controlling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42" name="Rectangle 43"/>
              <p:cNvSpPr/>
              <p:nvPr/>
            </p:nvSpPr>
            <p:spPr>
              <a:xfrm>
                <a:off x="4984200" y="3641400"/>
                <a:ext cx="1146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Risk Management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43" name="Rectangle 44"/>
              <p:cNvSpPr/>
              <p:nvPr/>
            </p:nvSpPr>
            <p:spPr>
              <a:xfrm>
                <a:off x="5179320" y="3789360"/>
                <a:ext cx="790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Replanning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sp>
          <p:nvSpPr>
            <p:cNvPr id="744" name="Rectangle 45"/>
            <p:cNvSpPr/>
            <p:nvPr/>
          </p:nvSpPr>
          <p:spPr>
            <a:xfrm>
              <a:off x="2424600" y="2514960"/>
              <a:ext cx="107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Lucida Sans Typewriter"/>
                </a:rPr>
                <a:t>New Requirement</a:t>
              </a:r>
              <a:endParaRPr b="1" lang="en-US" sz="1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grpSp>
          <p:nvGrpSpPr>
            <p:cNvPr id="745" name="Group 46"/>
            <p:cNvGrpSpPr/>
            <p:nvPr/>
          </p:nvGrpSpPr>
          <p:grpSpPr>
            <a:xfrm>
              <a:off x="3355560" y="1054440"/>
              <a:ext cx="1083600" cy="568440"/>
              <a:chOff x="3355560" y="1054440"/>
              <a:chExt cx="1083600" cy="568440"/>
            </a:xfrm>
          </p:grpSpPr>
          <p:sp>
            <p:nvSpPr>
              <p:cNvPr id="746" name="Rectangle 47"/>
              <p:cNvSpPr/>
              <p:nvPr/>
            </p:nvSpPr>
            <p:spPr>
              <a:xfrm>
                <a:off x="3569760" y="1054440"/>
                <a:ext cx="58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Lucida Sans Typewriter"/>
                  </a:rPr>
                  <a:t>GoAhead </a:t>
                </a:r>
                <a:endParaRPr b="1" lang="en-US" sz="10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cxnSp>
            <p:nvCxnSpPr>
              <p:cNvPr id="747" name="AutoShape 48"/>
              <p:cNvCxnSpPr>
                <a:stCxn id="711" idx="3"/>
                <a:endCxn id="721" idx="0"/>
              </p:cNvCxnSpPr>
              <p:nvPr/>
            </p:nvCxnSpPr>
            <p:spPr>
              <a:xfrm flipV="1">
                <a:off x="3355560" y="1492200"/>
                <a:ext cx="1083960" cy="131040"/>
              </a:xfrm>
              <a:prstGeom prst="curvedConnector5">
                <a:avLst>
                  <a:gd name="adj1" fmla="val 4551"/>
                  <a:gd name="adj2" fmla="val 107438"/>
                  <a:gd name="adj3" fmla="val 4551"/>
                </a:avLst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748" name="Group 49"/>
            <p:cNvGrpSpPr/>
            <p:nvPr/>
          </p:nvGrpSpPr>
          <p:grpSpPr>
            <a:xfrm>
              <a:off x="4438800" y="762120"/>
              <a:ext cx="1955520" cy="730080"/>
              <a:chOff x="4438800" y="762120"/>
              <a:chExt cx="1955520" cy="730080"/>
            </a:xfrm>
          </p:grpSpPr>
          <p:sp>
            <p:nvSpPr>
              <p:cNvPr id="749" name="Rectangle 50"/>
              <p:cNvSpPr/>
              <p:nvPr/>
            </p:nvSpPr>
            <p:spPr>
              <a:xfrm>
                <a:off x="5025240" y="762120"/>
                <a:ext cx="825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Lucida Sans Typewriter"/>
                  </a:rPr>
                  <a:t>ScopeDefined</a:t>
                </a:r>
                <a:endParaRPr b="1" lang="en-US" sz="10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cxnSp>
            <p:nvCxnSpPr>
              <p:cNvPr id="750" name="AutoShape 51"/>
              <p:cNvCxnSpPr>
                <a:stCxn id="721" idx="0"/>
                <a:endCxn id="730" idx="0"/>
              </p:cNvCxnSpPr>
              <p:nvPr/>
            </p:nvCxnSpPr>
            <p:spPr>
              <a:xfrm flipH="1" flipV="1" rot="5400000">
                <a:off x="5214600" y="312480"/>
                <a:ext cx="403920" cy="1955880"/>
              </a:xfrm>
              <a:prstGeom prst="curvedConnector5">
                <a:avLst>
                  <a:gd name="adj1" fmla="val 137198"/>
                  <a:gd name="adj2" fmla="val 50000"/>
                  <a:gd name="adj3" fmla="val 137198"/>
                </a:avLst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751" name="Group 52"/>
            <p:cNvGrpSpPr/>
            <p:nvPr/>
          </p:nvGrpSpPr>
          <p:grpSpPr>
            <a:xfrm>
              <a:off x="1806120" y="3090240"/>
              <a:ext cx="3007080" cy="1251360"/>
              <a:chOff x="1806120" y="3090240"/>
              <a:chExt cx="3007080" cy="1251360"/>
            </a:xfrm>
          </p:grpSpPr>
          <p:sp>
            <p:nvSpPr>
              <p:cNvPr id="752" name="AutoShape 53"/>
              <p:cNvSpPr/>
              <p:nvPr/>
            </p:nvSpPr>
            <p:spPr>
              <a:xfrm>
                <a:off x="1806120" y="3090240"/>
                <a:ext cx="1614240" cy="772920"/>
              </a:xfrm>
              <a:prstGeom prst="roundRect">
                <a:avLst>
                  <a:gd name="adj" fmla="val 42870"/>
                </a:avLst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53" name="Rectangle 54"/>
              <p:cNvSpPr/>
              <p:nvPr/>
            </p:nvSpPr>
            <p:spPr>
              <a:xfrm>
                <a:off x="2220120" y="3144240"/>
                <a:ext cx="1105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Typewriter"/>
                  </a:rPr>
                  <a:t>Termination</a:t>
                </a:r>
                <a:endParaRPr b="1" lang="en-US" sz="1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54" name="Line 55"/>
              <p:cNvSpPr/>
              <p:nvPr/>
            </p:nvSpPr>
            <p:spPr>
              <a:xfrm>
                <a:off x="1845360" y="3350160"/>
                <a:ext cx="1598040" cy="2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55" name="Rectangle 56"/>
              <p:cNvSpPr/>
              <p:nvPr/>
            </p:nvSpPr>
            <p:spPr>
              <a:xfrm>
                <a:off x="1968840" y="3393360"/>
                <a:ext cx="1128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Client Acceptance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56" name="Oval 57"/>
              <p:cNvSpPr/>
              <p:nvPr/>
            </p:nvSpPr>
            <p:spPr>
              <a:xfrm>
                <a:off x="2565360" y="4176360"/>
                <a:ext cx="112320" cy="128160"/>
              </a:xfrm>
              <a:prstGeom prst="ellipse">
                <a:avLst/>
              </a:prstGeom>
              <a:solidFill>
                <a:srgbClr val="000000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57" name="Line 58"/>
              <p:cNvSpPr/>
              <p:nvPr/>
            </p:nvSpPr>
            <p:spPr>
              <a:xfrm flipV="1">
                <a:off x="2627280" y="3862800"/>
                <a:ext cx="3960" cy="256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58" name="Oval 59"/>
              <p:cNvSpPr/>
              <p:nvPr/>
            </p:nvSpPr>
            <p:spPr>
              <a:xfrm>
                <a:off x="2533320" y="4119840"/>
                <a:ext cx="193320" cy="22176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59" name="Rectangle 60"/>
              <p:cNvSpPr/>
              <p:nvPr/>
            </p:nvSpPr>
            <p:spPr>
              <a:xfrm>
                <a:off x="2261520" y="3520800"/>
                <a:ext cx="614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Delivery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60" name="Rectangle 61"/>
              <p:cNvSpPr/>
              <p:nvPr/>
            </p:nvSpPr>
            <p:spPr>
              <a:xfrm>
                <a:off x="2119680" y="3689280"/>
                <a:ext cx="876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Lucida Sans Typewriter"/>
                  </a:rPr>
                  <a:t>do/Post Mortem</a:t>
                </a:r>
                <a:endParaRPr b="1" lang="en-US" sz="9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cxnSp>
            <p:nvCxnSpPr>
              <p:cNvPr id="761" name="AutoShape 62"/>
              <p:cNvCxnSpPr>
                <a:stCxn id="737" idx="1"/>
                <a:endCxn id="752" idx="3"/>
              </p:cNvCxnSpPr>
              <p:nvPr/>
            </p:nvCxnSpPr>
            <p:spPr>
              <a:xfrm rot="10800000">
                <a:off x="3425760" y="3476520"/>
                <a:ext cx="1387440" cy="6840"/>
              </a:xfrm>
              <a:prstGeom prst="curvedConnector5">
                <a:avLst>
                  <a:gd name="adj1" fmla="val 49961"/>
                  <a:gd name="adj2" fmla="val 50000"/>
                  <a:gd name="adj3" fmla="val 49961"/>
                </a:avLst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cxnSp>
          <p:nvCxnSpPr>
            <p:cNvPr id="762" name="AutoShape 63"/>
            <p:cNvCxnSpPr/>
            <p:nvPr/>
          </p:nvCxnSpPr>
          <p:spPr>
            <a:xfrm rot="10800000">
              <a:off x="2507400" y="2126880"/>
              <a:ext cx="2309040" cy="1276200"/>
            </a:xfrm>
            <a:prstGeom prst="curvedConnector5">
              <a:avLst>
                <a:gd name="adj1" fmla="val 49992"/>
                <a:gd name="adj2" fmla="val 50000"/>
                <a:gd name="adj3" fmla="val 49992"/>
              </a:avLst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763" name="Group 64"/>
            <p:cNvGrpSpPr/>
            <p:nvPr/>
          </p:nvGrpSpPr>
          <p:grpSpPr>
            <a:xfrm>
              <a:off x="5350680" y="2031120"/>
              <a:ext cx="1771920" cy="945000"/>
              <a:chOff x="5350680" y="2031120"/>
              <a:chExt cx="1771920" cy="945000"/>
            </a:xfrm>
          </p:grpSpPr>
          <p:sp>
            <p:nvSpPr>
              <p:cNvPr id="764" name="Rectangle 65"/>
              <p:cNvSpPr/>
              <p:nvPr/>
            </p:nvSpPr>
            <p:spPr>
              <a:xfrm>
                <a:off x="6021000" y="2359440"/>
                <a:ext cx="1070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Lucida Sans Typewriter"/>
                  </a:rPr>
                  <a:t>Teams assembled</a:t>
                </a:r>
                <a:endParaRPr b="1" lang="en-US" sz="10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65" name="Rectangle 66"/>
              <p:cNvSpPr/>
              <p:nvPr/>
            </p:nvSpPr>
            <p:spPr>
              <a:xfrm>
                <a:off x="5952960" y="2504880"/>
                <a:ext cx="1169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Lucida Sans Typewriter"/>
                  </a:rPr>
                  <a:t>Infrastructure done</a:t>
                </a:r>
                <a:endParaRPr b="1" lang="en-US" sz="10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cxnSp>
            <p:nvCxnSpPr>
              <p:cNvPr id="766" name="AutoShape 67"/>
              <p:cNvCxnSpPr/>
              <p:nvPr/>
            </p:nvCxnSpPr>
            <p:spPr>
              <a:xfrm rot="5400000">
                <a:off x="5235480" y="2145960"/>
                <a:ext cx="945360" cy="715320"/>
              </a:xfrm>
              <a:prstGeom prst="curvedConnector5">
                <a:avLst>
                  <a:gd name="adj1" fmla="val 50285"/>
                  <a:gd name="adj2" fmla="val 50000"/>
                  <a:gd name="adj3" fmla="val 50285"/>
                </a:avLst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67" name="Group 70"/>
          <p:cNvGrpSpPr/>
          <p:nvPr/>
        </p:nvGrpSpPr>
        <p:grpSpPr>
          <a:xfrm>
            <a:off x="3679920" y="762120"/>
            <a:ext cx="3483000" cy="2181600"/>
            <a:chOff x="3679920" y="762120"/>
            <a:chExt cx="3483000" cy="2181600"/>
          </a:xfrm>
        </p:grpSpPr>
        <p:sp>
          <p:nvSpPr>
            <p:cNvPr id="768" name="Text Box 68"/>
            <p:cNvSpPr/>
            <p:nvPr/>
          </p:nvSpPr>
          <p:spPr>
            <a:xfrm>
              <a:off x="3679920" y="1066680"/>
              <a:ext cx="1425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endParaRPr b="1" lang="en-US" sz="117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  <p:sp>
          <p:nvSpPr>
            <p:cNvPr id="769" name="Text Box 69"/>
            <p:cNvSpPr/>
            <p:nvPr/>
          </p:nvSpPr>
          <p:spPr>
            <a:xfrm>
              <a:off x="5737320" y="762120"/>
              <a:ext cx="1425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endParaRPr b="1" lang="en-US" sz="117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sp>
        <p:nvSpPr>
          <p:cNvPr id="770" name="Text Box 76"/>
          <p:cNvSpPr/>
          <p:nvPr/>
        </p:nvSpPr>
        <p:spPr>
          <a:xfrm>
            <a:off x="5715000" y="838080"/>
            <a:ext cx="1425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Palatino"/>
              </a:rPr>
              <a:t>X</a:t>
            </a:r>
            <a:endParaRPr b="1" lang="en-US" sz="117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771" name="Text Box 78"/>
          <p:cNvSpPr/>
          <p:nvPr/>
        </p:nvSpPr>
        <p:spPr>
          <a:xfrm>
            <a:off x="2057400" y="2514600"/>
            <a:ext cx="1425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Palatino"/>
              </a:rPr>
              <a:t>X</a:t>
            </a:r>
            <a:endParaRPr b="1" lang="en-US" sz="117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grpSp>
        <p:nvGrpSpPr>
          <p:cNvPr id="772" name="Group 80"/>
          <p:cNvGrpSpPr/>
          <p:nvPr/>
        </p:nvGrpSpPr>
        <p:grpSpPr>
          <a:xfrm>
            <a:off x="1774800" y="716040"/>
            <a:ext cx="5311800" cy="2181600"/>
            <a:chOff x="1774800" y="716040"/>
            <a:chExt cx="5311800" cy="2181600"/>
          </a:xfrm>
        </p:grpSpPr>
        <p:grpSp>
          <p:nvGrpSpPr>
            <p:cNvPr id="773" name="Group 74"/>
            <p:cNvGrpSpPr/>
            <p:nvPr/>
          </p:nvGrpSpPr>
          <p:grpSpPr>
            <a:xfrm>
              <a:off x="1774800" y="716040"/>
              <a:ext cx="3483000" cy="2181600"/>
              <a:chOff x="1774800" y="716040"/>
              <a:chExt cx="3483000" cy="2181600"/>
            </a:xfrm>
          </p:grpSpPr>
          <p:sp>
            <p:nvSpPr>
              <p:cNvPr id="774" name="Text Box 72"/>
              <p:cNvSpPr/>
              <p:nvPr/>
            </p:nvSpPr>
            <p:spPr>
              <a:xfrm>
                <a:off x="1774800" y="716040"/>
                <a:ext cx="142560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3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700" spc="-1" strike="noStrike">
                    <a:solidFill>
                      <a:srgbClr val="000000"/>
                    </a:solidFill>
                    <a:latin typeface="Palatino"/>
                  </a:rPr>
                  <a:t>X</a:t>
                </a:r>
                <a:endParaRPr b="1" lang="en-US" sz="117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75" name="Text Box 73"/>
              <p:cNvSpPr/>
              <p:nvPr/>
            </p:nvSpPr>
            <p:spPr>
              <a:xfrm>
                <a:off x="3832200" y="1020600"/>
                <a:ext cx="142560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3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700" spc="-1" strike="noStrike">
                    <a:solidFill>
                      <a:srgbClr val="000000"/>
                    </a:solidFill>
                    <a:latin typeface="Palatino"/>
                  </a:rPr>
                  <a:t>X</a:t>
                </a:r>
                <a:endParaRPr b="1" lang="en-US" sz="117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  <p:sp>
          <p:nvSpPr>
            <p:cNvPr id="776" name="Text Box 79"/>
            <p:cNvSpPr/>
            <p:nvPr/>
          </p:nvSpPr>
          <p:spPr>
            <a:xfrm>
              <a:off x="5661000" y="838080"/>
              <a:ext cx="1425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endParaRPr b="1" lang="en-US" sz="117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5" dur="1" fill="hold"/>
                                  <p:tgtEl>
                                    <p:spTgt spid="7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istake: Skipping the Start Phas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51920" y="3141360"/>
            <a:ext cx="8602920" cy="36399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 reason: Time pres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s for start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 stakeholders that the project has been approved and when work will st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rm that stakeholders are able to support the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evaluate and reconfirm work packages with develo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ain your role as manager to stakeholders and develop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9" name="Group 68"/>
          <p:cNvGrpSpPr/>
          <p:nvPr/>
        </p:nvGrpSpPr>
        <p:grpSpPr>
          <a:xfrm>
            <a:off x="5230800" y="1068480"/>
            <a:ext cx="3143520" cy="2208240"/>
            <a:chOff x="5230800" y="1068480"/>
            <a:chExt cx="3143520" cy="2208240"/>
          </a:xfrm>
        </p:grpSpPr>
        <p:grpSp>
          <p:nvGrpSpPr>
            <p:cNvPr id="780" name="Group 5"/>
            <p:cNvGrpSpPr/>
            <p:nvPr/>
          </p:nvGrpSpPr>
          <p:grpSpPr>
            <a:xfrm>
              <a:off x="5230800" y="1068480"/>
              <a:ext cx="3143520" cy="2208240"/>
              <a:chOff x="5230800" y="1068480"/>
              <a:chExt cx="3143520" cy="2208240"/>
            </a:xfrm>
          </p:grpSpPr>
          <p:sp>
            <p:nvSpPr>
              <p:cNvPr id="781" name="Rectangle 6"/>
              <p:cNvSpPr/>
              <p:nvPr/>
            </p:nvSpPr>
            <p:spPr>
              <a:xfrm>
                <a:off x="6450480" y="2793600"/>
                <a:ext cx="471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Lucida Sans Typewriter"/>
                  </a:rPr>
                  <a:t>System Done</a:t>
                </a:r>
                <a:endParaRPr b="1" lang="en-US" sz="6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782" name="Rectangle 7"/>
              <p:cNvSpPr/>
              <p:nvPr/>
            </p:nvSpPr>
            <p:spPr>
              <a:xfrm>
                <a:off x="5729040" y="2271960"/>
                <a:ext cx="595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Lucida Sans Typewriter"/>
                  </a:rPr>
                  <a:t>New Technology</a:t>
                </a:r>
                <a:endParaRPr b="1" lang="en-US" sz="6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grpSp>
            <p:nvGrpSpPr>
              <p:cNvPr id="783" name="Group 8"/>
              <p:cNvGrpSpPr/>
              <p:nvPr/>
            </p:nvGrpSpPr>
            <p:grpSpPr>
              <a:xfrm>
                <a:off x="5230800" y="1105200"/>
                <a:ext cx="1001880" cy="794520"/>
                <a:chOff x="5230800" y="1105200"/>
                <a:chExt cx="1001880" cy="794520"/>
              </a:xfrm>
            </p:grpSpPr>
            <p:sp>
              <p:nvSpPr>
                <p:cNvPr id="784" name="AutoShape 9"/>
                <p:cNvSpPr/>
                <p:nvPr/>
              </p:nvSpPr>
              <p:spPr>
                <a:xfrm>
                  <a:off x="5230800" y="1298160"/>
                  <a:ext cx="1001880" cy="601560"/>
                </a:xfrm>
                <a:prstGeom prst="roundRect">
                  <a:avLst>
                    <a:gd name="adj" fmla="val 33986"/>
                  </a:avLst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785" name="Rectangle 10"/>
                <p:cNvSpPr/>
                <p:nvPr/>
              </p:nvSpPr>
              <p:spPr>
                <a:xfrm>
                  <a:off x="5510880" y="1323720"/>
                  <a:ext cx="576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Lucida Sans Typewriter"/>
                    </a:rPr>
                    <a:t>Conception</a:t>
                  </a:r>
                  <a:endParaRPr b="1" lang="en-US" sz="8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786" name="Line 11"/>
                <p:cNvSpPr/>
                <p:nvPr/>
              </p:nvSpPr>
              <p:spPr>
                <a:xfrm>
                  <a:off x="5239440" y="1468800"/>
                  <a:ext cx="983520" cy="7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787" name="Rectangle 12"/>
                <p:cNvSpPr/>
                <p:nvPr/>
              </p:nvSpPr>
              <p:spPr>
                <a:xfrm>
                  <a:off x="5425560" y="1496880"/>
                  <a:ext cx="5464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FormulateIdea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788" name="Oval 13"/>
                <p:cNvSpPr/>
                <p:nvPr/>
              </p:nvSpPr>
              <p:spPr>
                <a:xfrm>
                  <a:off x="5567040" y="1105200"/>
                  <a:ext cx="70200" cy="79200"/>
                </a:xfrm>
                <a:prstGeom prst="ellipse">
                  <a:avLst/>
                </a:prstGeom>
                <a:solidFill>
                  <a:srgbClr val="000000"/>
                </a:solidFill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789" name="Line 14"/>
                <p:cNvSpPr/>
                <p:nvPr/>
              </p:nvSpPr>
              <p:spPr>
                <a:xfrm>
                  <a:off x="5604120" y="1164960"/>
                  <a:ext cx="1080" cy="126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790" name="Rectangle 15"/>
                <p:cNvSpPr/>
                <p:nvPr/>
              </p:nvSpPr>
              <p:spPr>
                <a:xfrm>
                  <a:off x="5326560" y="1587600"/>
                  <a:ext cx="7153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Cost-BenefitAnalysis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791" name="Rectangle 16"/>
                <p:cNvSpPr/>
                <p:nvPr/>
              </p:nvSpPr>
              <p:spPr>
                <a:xfrm>
                  <a:off x="5409000" y="1676520"/>
                  <a:ext cx="57060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FeasibilityStudy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792" name="Rectangle 17"/>
                <p:cNvSpPr/>
                <p:nvPr/>
              </p:nvSpPr>
              <p:spPr>
                <a:xfrm>
                  <a:off x="5556600" y="1770480"/>
                  <a:ext cx="314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Review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</p:grpSp>
          <p:grpSp>
            <p:nvGrpSpPr>
              <p:cNvPr id="793" name="Group 18"/>
              <p:cNvGrpSpPr/>
              <p:nvPr/>
            </p:nvGrpSpPr>
            <p:grpSpPr>
              <a:xfrm>
                <a:off x="6294240" y="1523160"/>
                <a:ext cx="1071720" cy="489600"/>
                <a:chOff x="6294240" y="1523160"/>
                <a:chExt cx="1071720" cy="489600"/>
              </a:xfrm>
            </p:grpSpPr>
            <p:sp>
              <p:nvSpPr>
                <p:cNvPr id="794" name="AutoShape 19"/>
                <p:cNvSpPr/>
                <p:nvPr/>
              </p:nvSpPr>
              <p:spPr>
                <a:xfrm>
                  <a:off x="6294240" y="1523160"/>
                  <a:ext cx="1071720" cy="489600"/>
                </a:xfrm>
                <a:prstGeom prst="roundRect">
                  <a:avLst>
                    <a:gd name="adj" fmla="val 41801"/>
                  </a:avLst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795" name="Rectangle 20"/>
                <p:cNvSpPr/>
                <p:nvPr/>
              </p:nvSpPr>
              <p:spPr>
                <a:xfrm>
                  <a:off x="6582600" y="1566360"/>
                  <a:ext cx="5097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Lucida Sans Typewriter"/>
                    </a:rPr>
                    <a:t>Definition</a:t>
                  </a:r>
                  <a:endParaRPr b="1" lang="en-US" sz="8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796" name="Line 21"/>
                <p:cNvSpPr/>
                <p:nvPr/>
              </p:nvSpPr>
              <p:spPr>
                <a:xfrm>
                  <a:off x="6294240" y="1705320"/>
                  <a:ext cx="1063440" cy="36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797" name="Rectangle 22"/>
                <p:cNvSpPr/>
                <p:nvPr/>
              </p:nvSpPr>
              <p:spPr>
                <a:xfrm>
                  <a:off x="6457320" y="1718640"/>
                  <a:ext cx="6865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Problem Statement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798" name="Rectangle 23"/>
                <p:cNvSpPr/>
                <p:nvPr/>
              </p:nvSpPr>
              <p:spPr>
                <a:xfrm>
                  <a:off x="6416640" y="1824120"/>
                  <a:ext cx="7552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Software Architecture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799" name="Rectangle 24"/>
                <p:cNvSpPr/>
                <p:nvPr/>
              </p:nvSpPr>
              <p:spPr>
                <a:xfrm>
                  <a:off x="6540480" y="1904760"/>
                  <a:ext cx="5173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Software Plan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</p:grpSp>
          <p:grpSp>
            <p:nvGrpSpPr>
              <p:cNvPr id="800" name="Group 25"/>
              <p:cNvGrpSpPr/>
              <p:nvPr/>
            </p:nvGrpSpPr>
            <p:grpSpPr>
              <a:xfrm>
                <a:off x="7436880" y="1274400"/>
                <a:ext cx="932400" cy="601560"/>
                <a:chOff x="7436880" y="1274400"/>
                <a:chExt cx="932400" cy="601560"/>
              </a:xfrm>
            </p:grpSpPr>
            <p:sp>
              <p:nvSpPr>
                <p:cNvPr id="801" name="Rectangle 26"/>
                <p:cNvSpPr/>
                <p:nvPr/>
              </p:nvSpPr>
              <p:spPr>
                <a:xfrm>
                  <a:off x="7836480" y="1313640"/>
                  <a:ext cx="2523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Lucida Sans Typewriter"/>
                    </a:rPr>
                    <a:t>Start</a:t>
                  </a:r>
                  <a:endParaRPr b="1" lang="en-US" sz="8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grpSp>
              <p:nvGrpSpPr>
                <p:cNvPr id="802" name="Group 27"/>
                <p:cNvGrpSpPr/>
                <p:nvPr/>
              </p:nvGrpSpPr>
              <p:grpSpPr>
                <a:xfrm>
                  <a:off x="7436880" y="1274400"/>
                  <a:ext cx="932400" cy="601560"/>
                  <a:chOff x="7436880" y="1274400"/>
                  <a:chExt cx="932400" cy="601560"/>
                </a:xfrm>
              </p:grpSpPr>
              <p:sp>
                <p:nvSpPr>
                  <p:cNvPr id="803" name="AutoShape 28"/>
                  <p:cNvSpPr/>
                  <p:nvPr/>
                </p:nvSpPr>
                <p:spPr>
                  <a:xfrm>
                    <a:off x="7436880" y="1274400"/>
                    <a:ext cx="932400" cy="601560"/>
                  </a:xfrm>
                  <a:prstGeom prst="roundRect">
                    <a:avLst>
                      <a:gd name="adj" fmla="val 33986"/>
                    </a:avLst>
                  </a:prstGeom>
                  <a:noFill/>
                  <a:ln w="20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 u="sng">
                      <a:solidFill>
                        <a:srgbClr val="000000"/>
                      </a:solidFill>
                      <a:uFillTx/>
                      <a:latin typeface="Palatino"/>
                    </a:endParaRPr>
                  </a:p>
                </p:txBody>
              </p:sp>
              <p:sp>
                <p:nvSpPr>
                  <p:cNvPr id="804" name="Line 29"/>
                  <p:cNvSpPr/>
                  <p:nvPr/>
                </p:nvSpPr>
                <p:spPr>
                  <a:xfrm>
                    <a:off x="7444080" y="1465920"/>
                    <a:ext cx="918000" cy="360"/>
                  </a:xfrm>
                  <a:prstGeom prst="line">
                    <a:avLst/>
                  </a:prstGeom>
                  <a:ln w="20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1" lang="en-US" sz="2400" spc="-1" strike="noStrike" u="sng">
                      <a:solidFill>
                        <a:srgbClr val="000000"/>
                      </a:solidFill>
                      <a:uFillTx/>
                      <a:latin typeface="Palatino"/>
                    </a:endParaRPr>
                  </a:p>
                </p:txBody>
              </p:sp>
            </p:grpSp>
            <p:sp>
              <p:nvSpPr>
                <p:cNvPr id="805" name="Rectangle 30"/>
                <p:cNvSpPr/>
                <p:nvPr/>
              </p:nvSpPr>
              <p:spPr>
                <a:xfrm>
                  <a:off x="7663680" y="1768680"/>
                  <a:ext cx="53100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Project Kickoff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06" name="Rectangle 31"/>
                <p:cNvSpPr/>
                <p:nvPr/>
              </p:nvSpPr>
              <p:spPr>
                <a:xfrm>
                  <a:off x="7549920" y="1517760"/>
                  <a:ext cx="7293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Infrastructure Setup 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07" name="Rectangle 32"/>
                <p:cNvSpPr/>
                <p:nvPr/>
              </p:nvSpPr>
              <p:spPr>
                <a:xfrm>
                  <a:off x="7600320" y="1609560"/>
                  <a:ext cx="637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Skill Identification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08" name="Rectangle 33"/>
                <p:cNvSpPr/>
                <p:nvPr/>
              </p:nvSpPr>
              <p:spPr>
                <a:xfrm>
                  <a:off x="7630560" y="1690200"/>
                  <a:ext cx="5979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Team Formation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</p:grpSp>
          <p:grpSp>
            <p:nvGrpSpPr>
              <p:cNvPr id="809" name="Group 34"/>
              <p:cNvGrpSpPr/>
              <p:nvPr/>
            </p:nvGrpSpPr>
            <p:grpSpPr>
              <a:xfrm>
                <a:off x="7039080" y="2440080"/>
                <a:ext cx="824040" cy="613800"/>
                <a:chOff x="7039080" y="2440080"/>
                <a:chExt cx="824040" cy="613800"/>
              </a:xfrm>
            </p:grpSpPr>
            <p:sp>
              <p:nvSpPr>
                <p:cNvPr id="810" name="AutoShape 35"/>
                <p:cNvSpPr/>
                <p:nvPr/>
              </p:nvSpPr>
              <p:spPr>
                <a:xfrm>
                  <a:off x="7039080" y="2440080"/>
                  <a:ext cx="824040" cy="613800"/>
                </a:xfrm>
                <a:prstGeom prst="roundRect">
                  <a:avLst>
                    <a:gd name="adj" fmla="val 33310"/>
                  </a:avLst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11" name="Rectangle 36"/>
                <p:cNvSpPr/>
                <p:nvPr/>
              </p:nvSpPr>
              <p:spPr>
                <a:xfrm>
                  <a:off x="7188840" y="2504880"/>
                  <a:ext cx="637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Lucida Sans Typewriter"/>
                    </a:rPr>
                    <a:t>Steady State</a:t>
                  </a:r>
                  <a:endParaRPr b="1" lang="en-US" sz="8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12" name="Line 37"/>
                <p:cNvSpPr/>
                <p:nvPr/>
              </p:nvSpPr>
              <p:spPr>
                <a:xfrm>
                  <a:off x="7039080" y="2670120"/>
                  <a:ext cx="824040" cy="7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13" name="Rectangle 38"/>
                <p:cNvSpPr/>
                <p:nvPr/>
              </p:nvSpPr>
              <p:spPr>
                <a:xfrm>
                  <a:off x="7156800" y="2673360"/>
                  <a:ext cx="5828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Develop System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14" name="Rectangle 39"/>
                <p:cNvSpPr/>
                <p:nvPr/>
              </p:nvSpPr>
              <p:spPr>
                <a:xfrm>
                  <a:off x="7236360" y="2765160"/>
                  <a:ext cx="4381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Controlling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15" name="Rectangle 40"/>
                <p:cNvSpPr/>
                <p:nvPr/>
              </p:nvSpPr>
              <p:spPr>
                <a:xfrm>
                  <a:off x="7125480" y="2844360"/>
                  <a:ext cx="6454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Risk Management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16" name="Rectangle 41"/>
                <p:cNvSpPr/>
                <p:nvPr/>
              </p:nvSpPr>
              <p:spPr>
                <a:xfrm>
                  <a:off x="7232040" y="2936520"/>
                  <a:ext cx="4471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Replanning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</p:grpSp>
          <p:sp>
            <p:nvSpPr>
              <p:cNvPr id="817" name="Rectangle 42"/>
              <p:cNvSpPr/>
              <p:nvPr/>
            </p:nvSpPr>
            <p:spPr>
              <a:xfrm>
                <a:off x="5725440" y="2149560"/>
                <a:ext cx="648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Lucida Sans Typewriter"/>
                  </a:rPr>
                  <a:t>New Requirement</a:t>
                </a:r>
                <a:endParaRPr b="1" lang="en-US" sz="6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grpSp>
            <p:nvGrpSpPr>
              <p:cNvPr id="818" name="Group 43"/>
              <p:cNvGrpSpPr/>
              <p:nvPr/>
            </p:nvGrpSpPr>
            <p:grpSpPr>
              <a:xfrm>
                <a:off x="6235560" y="1249200"/>
                <a:ext cx="594720" cy="349560"/>
                <a:chOff x="6235560" y="1249200"/>
                <a:chExt cx="594720" cy="349560"/>
              </a:xfrm>
            </p:grpSpPr>
            <p:sp>
              <p:nvSpPr>
                <p:cNvPr id="819" name="Rectangle 44"/>
                <p:cNvSpPr/>
                <p:nvPr/>
              </p:nvSpPr>
              <p:spPr>
                <a:xfrm>
                  <a:off x="6353280" y="1249200"/>
                  <a:ext cx="34956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Lucida Sans Typewriter"/>
                    </a:rPr>
                    <a:t>GoAhead </a:t>
                  </a:r>
                  <a:endParaRPr b="1" lang="en-US" sz="6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cxnSp>
              <p:nvCxnSpPr>
                <p:cNvPr id="820" name="AutoShape 45"/>
                <p:cNvCxnSpPr>
                  <a:stCxn id="784" idx="3"/>
                  <a:endCxn id="794" idx="0"/>
                </p:cNvCxnSpPr>
                <p:nvPr/>
              </p:nvCxnSpPr>
              <p:spPr>
                <a:xfrm flipV="1">
                  <a:off x="6235560" y="1518120"/>
                  <a:ext cx="595080" cy="81000"/>
                </a:xfrm>
                <a:prstGeom prst="curvedConnector5">
                  <a:avLst>
                    <a:gd name="adj1" fmla="val 4539"/>
                    <a:gd name="adj2" fmla="val 107142"/>
                    <a:gd name="adj3" fmla="val 4539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grpSp>
            <p:nvGrpSpPr>
              <p:cNvPr id="821" name="Group 46"/>
              <p:cNvGrpSpPr/>
              <p:nvPr/>
            </p:nvGrpSpPr>
            <p:grpSpPr>
              <a:xfrm>
                <a:off x="6830280" y="1068480"/>
                <a:ext cx="1072800" cy="450000"/>
                <a:chOff x="6830280" y="1068480"/>
                <a:chExt cx="1072800" cy="450000"/>
              </a:xfrm>
            </p:grpSpPr>
            <p:sp>
              <p:nvSpPr>
                <p:cNvPr id="822" name="Rectangle 47"/>
                <p:cNvSpPr/>
                <p:nvPr/>
              </p:nvSpPr>
              <p:spPr>
                <a:xfrm>
                  <a:off x="7158240" y="1068480"/>
                  <a:ext cx="4960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Lucida Sans Typewriter"/>
                    </a:rPr>
                    <a:t>ScopeDefined</a:t>
                  </a:r>
                  <a:endParaRPr b="1" lang="en-US" sz="6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cxnSp>
              <p:nvCxnSpPr>
                <p:cNvPr id="823" name="AutoShape 48"/>
                <p:cNvCxnSpPr>
                  <a:stCxn id="794" idx="0"/>
                  <a:endCxn id="803" idx="0"/>
                </p:cNvCxnSpPr>
                <p:nvPr/>
              </p:nvCxnSpPr>
              <p:spPr>
                <a:xfrm flipH="1" flipV="1" rot="5400000">
                  <a:off x="7242120" y="857520"/>
                  <a:ext cx="249480" cy="1073160"/>
                </a:xfrm>
                <a:prstGeom prst="curvedConnector5">
                  <a:avLst>
                    <a:gd name="adj1" fmla="val 137138"/>
                    <a:gd name="adj2" fmla="val 50000"/>
                    <a:gd name="adj3" fmla="val 137138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grpSp>
            <p:nvGrpSpPr>
              <p:cNvPr id="824" name="Group 49"/>
              <p:cNvGrpSpPr/>
              <p:nvPr/>
            </p:nvGrpSpPr>
            <p:grpSpPr>
              <a:xfrm>
                <a:off x="5385600" y="2504520"/>
                <a:ext cx="1649160" cy="772200"/>
                <a:chOff x="5385600" y="2504520"/>
                <a:chExt cx="1649160" cy="772200"/>
              </a:xfrm>
            </p:grpSpPr>
            <p:sp>
              <p:nvSpPr>
                <p:cNvPr id="825" name="AutoShape 50"/>
                <p:cNvSpPr/>
                <p:nvPr/>
              </p:nvSpPr>
              <p:spPr>
                <a:xfrm>
                  <a:off x="5385600" y="2504520"/>
                  <a:ext cx="885600" cy="477000"/>
                </a:xfrm>
                <a:prstGeom prst="roundRect">
                  <a:avLst>
                    <a:gd name="adj" fmla="val 42870"/>
                  </a:avLst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26" name="Rectangle 51"/>
                <p:cNvSpPr/>
                <p:nvPr/>
              </p:nvSpPr>
              <p:spPr>
                <a:xfrm>
                  <a:off x="5615640" y="2537640"/>
                  <a:ext cx="6300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Lucida Sans Typewriter"/>
                    </a:rPr>
                    <a:t>Termination</a:t>
                  </a:r>
                  <a:endParaRPr b="1" lang="en-US" sz="8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27" name="Line 52"/>
                <p:cNvSpPr/>
                <p:nvPr/>
              </p:nvSpPr>
              <p:spPr>
                <a:xfrm>
                  <a:off x="5407200" y="2664720"/>
                  <a:ext cx="876600" cy="10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28" name="Rectangle 53"/>
                <p:cNvSpPr/>
                <p:nvPr/>
              </p:nvSpPr>
              <p:spPr>
                <a:xfrm>
                  <a:off x="5470200" y="2692440"/>
                  <a:ext cx="637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Client Acceptance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29" name="Oval 54"/>
                <p:cNvSpPr/>
                <p:nvPr/>
              </p:nvSpPr>
              <p:spPr>
                <a:xfrm>
                  <a:off x="5802120" y="3174480"/>
                  <a:ext cx="61560" cy="79200"/>
                </a:xfrm>
                <a:prstGeom prst="ellipse">
                  <a:avLst/>
                </a:prstGeom>
                <a:solidFill>
                  <a:srgbClr val="000000"/>
                </a:solidFill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30" name="Line 55"/>
                <p:cNvSpPr/>
                <p:nvPr/>
              </p:nvSpPr>
              <p:spPr>
                <a:xfrm flipV="1">
                  <a:off x="5835960" y="2981520"/>
                  <a:ext cx="2160" cy="1584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31" name="Oval 56"/>
                <p:cNvSpPr/>
                <p:nvPr/>
              </p:nvSpPr>
              <p:spPr>
                <a:xfrm>
                  <a:off x="5784480" y="3139920"/>
                  <a:ext cx="105840" cy="136800"/>
                </a:xfrm>
                <a:prstGeom prst="ellipse">
                  <a:avLst/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32" name="Rectangle 57"/>
                <p:cNvSpPr/>
                <p:nvPr/>
              </p:nvSpPr>
              <p:spPr>
                <a:xfrm>
                  <a:off x="5637600" y="2770200"/>
                  <a:ext cx="3466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Delivery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33" name="Rectangle 58"/>
                <p:cNvSpPr/>
                <p:nvPr/>
              </p:nvSpPr>
              <p:spPr>
                <a:xfrm>
                  <a:off x="5555880" y="2874600"/>
                  <a:ext cx="4899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Post Mortem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cxnSp>
              <p:nvCxnSpPr>
                <p:cNvPr id="834" name="AutoShape 59"/>
                <p:cNvCxnSpPr>
                  <a:stCxn id="810" idx="1"/>
                  <a:endCxn id="825" idx="3"/>
                </p:cNvCxnSpPr>
                <p:nvPr/>
              </p:nvCxnSpPr>
              <p:spPr>
                <a:xfrm rot="10800000">
                  <a:off x="6273720" y="2743200"/>
                  <a:ext cx="761400" cy="3960"/>
                </a:xfrm>
                <a:prstGeom prst="curvedConnector5">
                  <a:avLst>
                    <a:gd name="adj1" fmla="val 49952"/>
                    <a:gd name="adj2" fmla="val 50000"/>
                    <a:gd name="adj3" fmla="val 49952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cxnSp>
            <p:nvCxnSpPr>
              <p:cNvPr id="835" name="AutoShape 60"/>
              <p:cNvCxnSpPr/>
              <p:nvPr/>
            </p:nvCxnSpPr>
            <p:spPr>
              <a:xfrm rot="10800000">
                <a:off x="5770800" y="1910160"/>
                <a:ext cx="1266840" cy="787680"/>
              </a:xfrm>
              <a:prstGeom prst="curvedConnector5">
                <a:avLst>
                  <a:gd name="adj1" fmla="val 50000"/>
                  <a:gd name="adj2" fmla="val 49977"/>
                  <a:gd name="adj3" fmla="val 50000"/>
                </a:avLst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  <p:grpSp>
            <p:nvGrpSpPr>
              <p:cNvPr id="836" name="Group 61"/>
              <p:cNvGrpSpPr/>
              <p:nvPr/>
            </p:nvGrpSpPr>
            <p:grpSpPr>
              <a:xfrm>
                <a:off x="7329960" y="1850760"/>
                <a:ext cx="1044360" cy="583200"/>
                <a:chOff x="7329960" y="1850760"/>
                <a:chExt cx="1044360" cy="583200"/>
              </a:xfrm>
            </p:grpSpPr>
            <p:sp>
              <p:nvSpPr>
                <p:cNvPr id="837" name="Rectangle 62"/>
                <p:cNvSpPr/>
                <p:nvPr/>
              </p:nvSpPr>
              <p:spPr>
                <a:xfrm>
                  <a:off x="7699320" y="2054160"/>
                  <a:ext cx="6436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Lucida Sans Typewriter"/>
                    </a:rPr>
                    <a:t>Teams assembled</a:t>
                  </a:r>
                  <a:endParaRPr b="1" lang="en-US" sz="6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38" name="Rectangle 63"/>
                <p:cNvSpPr/>
                <p:nvPr/>
              </p:nvSpPr>
              <p:spPr>
                <a:xfrm>
                  <a:off x="7668000" y="2143440"/>
                  <a:ext cx="7063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Lucida Sans Typewriter"/>
                    </a:rPr>
                    <a:t>Infrastructure done</a:t>
                  </a:r>
                  <a:endParaRPr b="1" lang="en-US" sz="6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cxnSp>
              <p:nvCxnSpPr>
                <p:cNvPr id="839" name="AutoShape 64"/>
                <p:cNvCxnSpPr/>
                <p:nvPr/>
              </p:nvCxnSpPr>
              <p:spPr>
                <a:xfrm rot="5400000">
                  <a:off x="7234560" y="1946160"/>
                  <a:ext cx="583560" cy="393120"/>
                </a:xfrm>
                <a:prstGeom prst="curvedConnector5">
                  <a:avLst>
                    <a:gd name="adj1" fmla="val 50246"/>
                    <a:gd name="adj2" fmla="val 49954"/>
                    <a:gd name="adj3" fmla="val 50246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</p:grpSp>
        <p:sp>
          <p:nvSpPr>
            <p:cNvPr id="840" name="Text Box 67"/>
            <p:cNvSpPr/>
            <p:nvPr/>
          </p:nvSpPr>
          <p:spPr>
            <a:xfrm>
              <a:off x="7542360" y="1068480"/>
              <a:ext cx="782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endParaRPr b="1" lang="en-US" sz="8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istake: Skipping Definition and Start Phas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80880" y="3065040"/>
            <a:ext cx="8112240" cy="3259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Known territory argu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have done this before, no need  to waste tim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n though a project may be similar to an earlier one, some things are always differ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Unknown territory argu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y project is different from anything I have ever done before, so what good is it to plan?”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better to create a map if you are attempting to travel into unknown territ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3" name="Group 74"/>
          <p:cNvGrpSpPr/>
          <p:nvPr/>
        </p:nvGrpSpPr>
        <p:grpSpPr>
          <a:xfrm>
            <a:off x="5230800" y="1068480"/>
            <a:ext cx="3143520" cy="2208240"/>
            <a:chOff x="5230800" y="1068480"/>
            <a:chExt cx="3143520" cy="2208240"/>
          </a:xfrm>
        </p:grpSpPr>
        <p:grpSp>
          <p:nvGrpSpPr>
            <p:cNvPr id="844" name="Group 4"/>
            <p:cNvGrpSpPr/>
            <p:nvPr/>
          </p:nvGrpSpPr>
          <p:grpSpPr>
            <a:xfrm>
              <a:off x="5230800" y="1068480"/>
              <a:ext cx="3143520" cy="2208240"/>
              <a:chOff x="5230800" y="1068480"/>
              <a:chExt cx="3143520" cy="2208240"/>
            </a:xfrm>
          </p:grpSpPr>
          <p:sp>
            <p:nvSpPr>
              <p:cNvPr id="845" name="Rectangle 5"/>
              <p:cNvSpPr/>
              <p:nvPr/>
            </p:nvSpPr>
            <p:spPr>
              <a:xfrm>
                <a:off x="6450480" y="2793600"/>
                <a:ext cx="471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Lucida Sans Typewriter"/>
                  </a:rPr>
                  <a:t>System Done</a:t>
                </a:r>
                <a:endParaRPr b="1" lang="en-US" sz="6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846" name="Rectangle 6"/>
              <p:cNvSpPr/>
              <p:nvPr/>
            </p:nvSpPr>
            <p:spPr>
              <a:xfrm>
                <a:off x="5729040" y="2271960"/>
                <a:ext cx="595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Lucida Sans Typewriter"/>
                  </a:rPr>
                  <a:t>New Technology</a:t>
                </a:r>
                <a:endParaRPr b="1" lang="en-US" sz="6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grpSp>
            <p:nvGrpSpPr>
              <p:cNvPr id="847" name="Group 7"/>
              <p:cNvGrpSpPr/>
              <p:nvPr/>
            </p:nvGrpSpPr>
            <p:grpSpPr>
              <a:xfrm>
                <a:off x="5230800" y="1105200"/>
                <a:ext cx="1001880" cy="794520"/>
                <a:chOff x="5230800" y="1105200"/>
                <a:chExt cx="1001880" cy="794520"/>
              </a:xfrm>
            </p:grpSpPr>
            <p:sp>
              <p:nvSpPr>
                <p:cNvPr id="848" name="AutoShape 8"/>
                <p:cNvSpPr/>
                <p:nvPr/>
              </p:nvSpPr>
              <p:spPr>
                <a:xfrm>
                  <a:off x="5230800" y="1298160"/>
                  <a:ext cx="1001880" cy="601560"/>
                </a:xfrm>
                <a:prstGeom prst="roundRect">
                  <a:avLst>
                    <a:gd name="adj" fmla="val 33986"/>
                  </a:avLst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49" name="Rectangle 9"/>
                <p:cNvSpPr/>
                <p:nvPr/>
              </p:nvSpPr>
              <p:spPr>
                <a:xfrm>
                  <a:off x="5510880" y="1323720"/>
                  <a:ext cx="576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Lucida Sans Typewriter"/>
                    </a:rPr>
                    <a:t>Conception</a:t>
                  </a:r>
                  <a:endParaRPr b="1" lang="en-US" sz="8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50" name="Line 10"/>
                <p:cNvSpPr/>
                <p:nvPr/>
              </p:nvSpPr>
              <p:spPr>
                <a:xfrm>
                  <a:off x="5239440" y="1468800"/>
                  <a:ext cx="983520" cy="7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51" name="Rectangle 11"/>
                <p:cNvSpPr/>
                <p:nvPr/>
              </p:nvSpPr>
              <p:spPr>
                <a:xfrm>
                  <a:off x="5425560" y="1496880"/>
                  <a:ext cx="5464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FormulateIdea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52" name="Oval 12"/>
                <p:cNvSpPr/>
                <p:nvPr/>
              </p:nvSpPr>
              <p:spPr>
                <a:xfrm>
                  <a:off x="5567040" y="1105200"/>
                  <a:ext cx="70200" cy="79200"/>
                </a:xfrm>
                <a:prstGeom prst="ellipse">
                  <a:avLst/>
                </a:prstGeom>
                <a:solidFill>
                  <a:srgbClr val="000000"/>
                </a:solidFill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53" name="Line 13"/>
                <p:cNvSpPr/>
                <p:nvPr/>
              </p:nvSpPr>
              <p:spPr>
                <a:xfrm>
                  <a:off x="5604120" y="1164960"/>
                  <a:ext cx="1080" cy="126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54" name="Rectangle 14"/>
                <p:cNvSpPr/>
                <p:nvPr/>
              </p:nvSpPr>
              <p:spPr>
                <a:xfrm>
                  <a:off x="5326560" y="1587600"/>
                  <a:ext cx="7153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Cost-BenefitAnalysis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55" name="Rectangle 15"/>
                <p:cNvSpPr/>
                <p:nvPr/>
              </p:nvSpPr>
              <p:spPr>
                <a:xfrm>
                  <a:off x="5409000" y="1676520"/>
                  <a:ext cx="57060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FeasibilityStudy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56" name="Rectangle 16"/>
                <p:cNvSpPr/>
                <p:nvPr/>
              </p:nvSpPr>
              <p:spPr>
                <a:xfrm>
                  <a:off x="5556600" y="1770480"/>
                  <a:ext cx="314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Review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</p:grpSp>
          <p:grpSp>
            <p:nvGrpSpPr>
              <p:cNvPr id="857" name="Group 17"/>
              <p:cNvGrpSpPr/>
              <p:nvPr/>
            </p:nvGrpSpPr>
            <p:grpSpPr>
              <a:xfrm>
                <a:off x="6294240" y="1523160"/>
                <a:ext cx="1071720" cy="489600"/>
                <a:chOff x="6294240" y="1523160"/>
                <a:chExt cx="1071720" cy="489600"/>
              </a:xfrm>
            </p:grpSpPr>
            <p:sp>
              <p:nvSpPr>
                <p:cNvPr id="858" name="AutoShape 18"/>
                <p:cNvSpPr/>
                <p:nvPr/>
              </p:nvSpPr>
              <p:spPr>
                <a:xfrm>
                  <a:off x="6294240" y="1523160"/>
                  <a:ext cx="1071720" cy="489600"/>
                </a:xfrm>
                <a:prstGeom prst="roundRect">
                  <a:avLst>
                    <a:gd name="adj" fmla="val 41801"/>
                  </a:avLst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59" name="Rectangle 19"/>
                <p:cNvSpPr/>
                <p:nvPr/>
              </p:nvSpPr>
              <p:spPr>
                <a:xfrm>
                  <a:off x="6582600" y="1568520"/>
                  <a:ext cx="5097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Lucida Sans Typewriter"/>
                    </a:rPr>
                    <a:t>Definition</a:t>
                  </a:r>
                  <a:endParaRPr b="1" lang="en-US" sz="8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60" name="Line 20"/>
                <p:cNvSpPr/>
                <p:nvPr/>
              </p:nvSpPr>
              <p:spPr>
                <a:xfrm>
                  <a:off x="6294240" y="1705320"/>
                  <a:ext cx="1063440" cy="36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61" name="Rectangle 21"/>
                <p:cNvSpPr/>
                <p:nvPr/>
              </p:nvSpPr>
              <p:spPr>
                <a:xfrm>
                  <a:off x="6457680" y="1719720"/>
                  <a:ext cx="6865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Problem Statement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62" name="Rectangle 22"/>
                <p:cNvSpPr/>
                <p:nvPr/>
              </p:nvSpPr>
              <p:spPr>
                <a:xfrm>
                  <a:off x="6416640" y="1824120"/>
                  <a:ext cx="7552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Software Architecture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63" name="Rectangle 23"/>
                <p:cNvSpPr/>
                <p:nvPr/>
              </p:nvSpPr>
              <p:spPr>
                <a:xfrm>
                  <a:off x="6540480" y="1904760"/>
                  <a:ext cx="5173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Software Plan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</p:grpSp>
          <p:grpSp>
            <p:nvGrpSpPr>
              <p:cNvPr id="864" name="Group 24"/>
              <p:cNvGrpSpPr/>
              <p:nvPr/>
            </p:nvGrpSpPr>
            <p:grpSpPr>
              <a:xfrm>
                <a:off x="7436880" y="1274400"/>
                <a:ext cx="932400" cy="601560"/>
                <a:chOff x="7436880" y="1274400"/>
                <a:chExt cx="932400" cy="601560"/>
              </a:xfrm>
            </p:grpSpPr>
            <p:sp>
              <p:nvSpPr>
                <p:cNvPr id="865" name="Rectangle 25"/>
                <p:cNvSpPr/>
                <p:nvPr/>
              </p:nvSpPr>
              <p:spPr>
                <a:xfrm>
                  <a:off x="7836480" y="1313640"/>
                  <a:ext cx="2523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Lucida Sans Typewriter"/>
                    </a:rPr>
                    <a:t>Start</a:t>
                  </a:r>
                  <a:endParaRPr b="1" lang="en-US" sz="8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grpSp>
              <p:nvGrpSpPr>
                <p:cNvPr id="866" name="Group 26"/>
                <p:cNvGrpSpPr/>
                <p:nvPr/>
              </p:nvGrpSpPr>
              <p:grpSpPr>
                <a:xfrm>
                  <a:off x="7436880" y="1274400"/>
                  <a:ext cx="932400" cy="601560"/>
                  <a:chOff x="7436880" y="1274400"/>
                  <a:chExt cx="932400" cy="601560"/>
                </a:xfrm>
              </p:grpSpPr>
              <p:sp>
                <p:nvSpPr>
                  <p:cNvPr id="867" name="AutoShape 27"/>
                  <p:cNvSpPr/>
                  <p:nvPr/>
                </p:nvSpPr>
                <p:spPr>
                  <a:xfrm>
                    <a:off x="7436880" y="1274400"/>
                    <a:ext cx="932400" cy="601560"/>
                  </a:xfrm>
                  <a:prstGeom prst="roundRect">
                    <a:avLst>
                      <a:gd name="adj" fmla="val 33986"/>
                    </a:avLst>
                  </a:prstGeom>
                  <a:noFill/>
                  <a:ln w="20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 u="sng">
                      <a:solidFill>
                        <a:srgbClr val="000000"/>
                      </a:solidFill>
                      <a:uFillTx/>
                      <a:latin typeface="Palatino"/>
                    </a:endParaRPr>
                  </a:p>
                </p:txBody>
              </p:sp>
              <p:sp>
                <p:nvSpPr>
                  <p:cNvPr id="868" name="Line 28"/>
                  <p:cNvSpPr/>
                  <p:nvPr/>
                </p:nvSpPr>
                <p:spPr>
                  <a:xfrm>
                    <a:off x="7444080" y="1465920"/>
                    <a:ext cx="918000" cy="360"/>
                  </a:xfrm>
                  <a:prstGeom prst="line">
                    <a:avLst/>
                  </a:prstGeom>
                  <a:ln w="20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1" lang="en-US" sz="2400" spc="-1" strike="noStrike" u="sng">
                      <a:solidFill>
                        <a:srgbClr val="000000"/>
                      </a:solidFill>
                      <a:uFillTx/>
                      <a:latin typeface="Palatino"/>
                    </a:endParaRPr>
                  </a:p>
                </p:txBody>
              </p:sp>
            </p:grpSp>
            <p:sp>
              <p:nvSpPr>
                <p:cNvPr id="869" name="Rectangle 29"/>
                <p:cNvSpPr/>
                <p:nvPr/>
              </p:nvSpPr>
              <p:spPr>
                <a:xfrm>
                  <a:off x="7663680" y="1768680"/>
                  <a:ext cx="53100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Project Kickoff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70" name="Rectangle 30"/>
                <p:cNvSpPr/>
                <p:nvPr/>
              </p:nvSpPr>
              <p:spPr>
                <a:xfrm>
                  <a:off x="7549920" y="1517760"/>
                  <a:ext cx="7293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Infrastructure Setup 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71" name="Rectangle 31"/>
                <p:cNvSpPr/>
                <p:nvPr/>
              </p:nvSpPr>
              <p:spPr>
                <a:xfrm>
                  <a:off x="7600320" y="1609560"/>
                  <a:ext cx="637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Skill Identification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72" name="Rectangle 32"/>
                <p:cNvSpPr/>
                <p:nvPr/>
              </p:nvSpPr>
              <p:spPr>
                <a:xfrm>
                  <a:off x="7630560" y="1690200"/>
                  <a:ext cx="5979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Team Formation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</p:grpSp>
          <p:grpSp>
            <p:nvGrpSpPr>
              <p:cNvPr id="873" name="Group 33"/>
              <p:cNvGrpSpPr/>
              <p:nvPr/>
            </p:nvGrpSpPr>
            <p:grpSpPr>
              <a:xfrm>
                <a:off x="7039080" y="2440080"/>
                <a:ext cx="824040" cy="613800"/>
                <a:chOff x="7039080" y="2440080"/>
                <a:chExt cx="824040" cy="613800"/>
              </a:xfrm>
            </p:grpSpPr>
            <p:sp>
              <p:nvSpPr>
                <p:cNvPr id="874" name="AutoShape 34"/>
                <p:cNvSpPr/>
                <p:nvPr/>
              </p:nvSpPr>
              <p:spPr>
                <a:xfrm>
                  <a:off x="7039080" y="2440080"/>
                  <a:ext cx="824040" cy="613800"/>
                </a:xfrm>
                <a:prstGeom prst="roundRect">
                  <a:avLst>
                    <a:gd name="adj" fmla="val 33310"/>
                  </a:avLst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75" name="Rectangle 35"/>
                <p:cNvSpPr/>
                <p:nvPr/>
              </p:nvSpPr>
              <p:spPr>
                <a:xfrm>
                  <a:off x="7188840" y="2504880"/>
                  <a:ext cx="637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Lucida Sans Typewriter"/>
                    </a:rPr>
                    <a:t>Steady State</a:t>
                  </a:r>
                  <a:endParaRPr b="1" lang="en-US" sz="8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76" name="Line 36"/>
                <p:cNvSpPr/>
                <p:nvPr/>
              </p:nvSpPr>
              <p:spPr>
                <a:xfrm>
                  <a:off x="7039080" y="2670120"/>
                  <a:ext cx="824040" cy="7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77" name="Rectangle 37"/>
                <p:cNvSpPr/>
                <p:nvPr/>
              </p:nvSpPr>
              <p:spPr>
                <a:xfrm>
                  <a:off x="7156800" y="2673360"/>
                  <a:ext cx="5828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Develop System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78" name="Rectangle 38"/>
                <p:cNvSpPr/>
                <p:nvPr/>
              </p:nvSpPr>
              <p:spPr>
                <a:xfrm>
                  <a:off x="7236360" y="2765160"/>
                  <a:ext cx="4381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Controlling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79" name="Rectangle 39"/>
                <p:cNvSpPr/>
                <p:nvPr/>
              </p:nvSpPr>
              <p:spPr>
                <a:xfrm>
                  <a:off x="7125480" y="2844360"/>
                  <a:ext cx="6454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Risk Management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80" name="Rectangle 40"/>
                <p:cNvSpPr/>
                <p:nvPr/>
              </p:nvSpPr>
              <p:spPr>
                <a:xfrm>
                  <a:off x="7232040" y="2936520"/>
                  <a:ext cx="4471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Replanning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</p:grpSp>
          <p:sp>
            <p:nvSpPr>
              <p:cNvPr id="881" name="Rectangle 41"/>
              <p:cNvSpPr/>
              <p:nvPr/>
            </p:nvSpPr>
            <p:spPr>
              <a:xfrm>
                <a:off x="5725440" y="2149560"/>
                <a:ext cx="648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Lucida Sans Typewriter"/>
                  </a:rPr>
                  <a:t>New Requirement</a:t>
                </a:r>
                <a:endParaRPr b="1" lang="en-US" sz="6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grpSp>
            <p:nvGrpSpPr>
              <p:cNvPr id="882" name="Group 42"/>
              <p:cNvGrpSpPr/>
              <p:nvPr/>
            </p:nvGrpSpPr>
            <p:grpSpPr>
              <a:xfrm>
                <a:off x="6235560" y="1249200"/>
                <a:ext cx="594720" cy="349560"/>
                <a:chOff x="6235560" y="1249200"/>
                <a:chExt cx="594720" cy="349560"/>
              </a:xfrm>
            </p:grpSpPr>
            <p:sp>
              <p:nvSpPr>
                <p:cNvPr id="883" name="Rectangle 43"/>
                <p:cNvSpPr/>
                <p:nvPr/>
              </p:nvSpPr>
              <p:spPr>
                <a:xfrm>
                  <a:off x="6353280" y="1249200"/>
                  <a:ext cx="34956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Lucida Sans Typewriter"/>
                    </a:rPr>
                    <a:t>GoAhead </a:t>
                  </a:r>
                  <a:endParaRPr b="1" lang="en-US" sz="6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cxnSp>
              <p:nvCxnSpPr>
                <p:cNvPr id="884" name="AutoShape 44"/>
                <p:cNvCxnSpPr>
                  <a:stCxn id="848" idx="3"/>
                  <a:endCxn id="858" idx="0"/>
                </p:cNvCxnSpPr>
                <p:nvPr/>
              </p:nvCxnSpPr>
              <p:spPr>
                <a:xfrm flipV="1">
                  <a:off x="6235560" y="1518120"/>
                  <a:ext cx="595080" cy="81000"/>
                </a:xfrm>
                <a:prstGeom prst="curvedConnector5">
                  <a:avLst>
                    <a:gd name="adj1" fmla="val 4539"/>
                    <a:gd name="adj2" fmla="val 107142"/>
                    <a:gd name="adj3" fmla="val 4539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grpSp>
            <p:nvGrpSpPr>
              <p:cNvPr id="885" name="Group 45"/>
              <p:cNvGrpSpPr/>
              <p:nvPr/>
            </p:nvGrpSpPr>
            <p:grpSpPr>
              <a:xfrm>
                <a:off x="6830280" y="1068480"/>
                <a:ext cx="1072800" cy="450000"/>
                <a:chOff x="6830280" y="1068480"/>
                <a:chExt cx="1072800" cy="450000"/>
              </a:xfrm>
            </p:grpSpPr>
            <p:sp>
              <p:nvSpPr>
                <p:cNvPr id="886" name="Rectangle 46"/>
                <p:cNvSpPr/>
                <p:nvPr/>
              </p:nvSpPr>
              <p:spPr>
                <a:xfrm>
                  <a:off x="7158240" y="1068480"/>
                  <a:ext cx="4960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Lucida Sans Typewriter"/>
                    </a:rPr>
                    <a:t>ScopeDefined</a:t>
                  </a:r>
                  <a:endParaRPr b="1" lang="en-US" sz="6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cxnSp>
              <p:nvCxnSpPr>
                <p:cNvPr id="887" name="AutoShape 47"/>
                <p:cNvCxnSpPr>
                  <a:stCxn id="858" idx="0"/>
                  <a:endCxn id="867" idx="0"/>
                </p:cNvCxnSpPr>
                <p:nvPr/>
              </p:nvCxnSpPr>
              <p:spPr>
                <a:xfrm flipH="1" flipV="1" rot="5400000">
                  <a:off x="7242120" y="857520"/>
                  <a:ext cx="249480" cy="1073160"/>
                </a:xfrm>
                <a:prstGeom prst="curvedConnector5">
                  <a:avLst>
                    <a:gd name="adj1" fmla="val 137138"/>
                    <a:gd name="adj2" fmla="val 50000"/>
                    <a:gd name="adj3" fmla="val 137138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grpSp>
            <p:nvGrpSpPr>
              <p:cNvPr id="888" name="Group 48"/>
              <p:cNvGrpSpPr/>
              <p:nvPr/>
            </p:nvGrpSpPr>
            <p:grpSpPr>
              <a:xfrm>
                <a:off x="5385600" y="2504520"/>
                <a:ext cx="1649160" cy="772200"/>
                <a:chOff x="5385600" y="2504520"/>
                <a:chExt cx="1649160" cy="772200"/>
              </a:xfrm>
            </p:grpSpPr>
            <p:sp>
              <p:nvSpPr>
                <p:cNvPr id="889" name="AutoShape 49"/>
                <p:cNvSpPr/>
                <p:nvPr/>
              </p:nvSpPr>
              <p:spPr>
                <a:xfrm>
                  <a:off x="5385600" y="2504520"/>
                  <a:ext cx="885600" cy="477000"/>
                </a:xfrm>
                <a:prstGeom prst="roundRect">
                  <a:avLst>
                    <a:gd name="adj" fmla="val 42870"/>
                  </a:avLst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90" name="Rectangle 50"/>
                <p:cNvSpPr/>
                <p:nvPr/>
              </p:nvSpPr>
              <p:spPr>
                <a:xfrm>
                  <a:off x="5615640" y="2537640"/>
                  <a:ext cx="6300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Lucida Sans Typewriter"/>
                    </a:rPr>
                    <a:t>Termination</a:t>
                  </a:r>
                  <a:endParaRPr b="1" lang="en-US" sz="8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91" name="Line 51"/>
                <p:cNvSpPr/>
                <p:nvPr/>
              </p:nvSpPr>
              <p:spPr>
                <a:xfrm>
                  <a:off x="5407200" y="2664720"/>
                  <a:ext cx="876600" cy="10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92" name="Rectangle 52"/>
                <p:cNvSpPr/>
                <p:nvPr/>
              </p:nvSpPr>
              <p:spPr>
                <a:xfrm>
                  <a:off x="5470200" y="2691360"/>
                  <a:ext cx="637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Client Acceptance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93" name="Oval 53"/>
                <p:cNvSpPr/>
                <p:nvPr/>
              </p:nvSpPr>
              <p:spPr>
                <a:xfrm>
                  <a:off x="5802120" y="3174480"/>
                  <a:ext cx="61560" cy="79200"/>
                </a:xfrm>
                <a:prstGeom prst="ellipse">
                  <a:avLst/>
                </a:prstGeom>
                <a:solidFill>
                  <a:srgbClr val="000000"/>
                </a:solidFill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94" name="Line 54"/>
                <p:cNvSpPr/>
                <p:nvPr/>
              </p:nvSpPr>
              <p:spPr>
                <a:xfrm flipV="1">
                  <a:off x="5835960" y="2981520"/>
                  <a:ext cx="2160" cy="1584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95" name="Oval 55"/>
                <p:cNvSpPr/>
                <p:nvPr/>
              </p:nvSpPr>
              <p:spPr>
                <a:xfrm>
                  <a:off x="5784480" y="3139920"/>
                  <a:ext cx="105840" cy="136800"/>
                </a:xfrm>
                <a:prstGeom prst="ellipse">
                  <a:avLst/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96" name="Rectangle 56"/>
                <p:cNvSpPr/>
                <p:nvPr/>
              </p:nvSpPr>
              <p:spPr>
                <a:xfrm>
                  <a:off x="5637600" y="2770200"/>
                  <a:ext cx="3466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Delivery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897" name="Rectangle 57"/>
                <p:cNvSpPr/>
                <p:nvPr/>
              </p:nvSpPr>
              <p:spPr>
                <a:xfrm>
                  <a:off x="5555880" y="2874600"/>
                  <a:ext cx="4899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Post Mortem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cxnSp>
              <p:nvCxnSpPr>
                <p:cNvPr id="898" name="AutoShape 58"/>
                <p:cNvCxnSpPr>
                  <a:stCxn id="874" idx="1"/>
                  <a:endCxn id="889" idx="3"/>
                </p:cNvCxnSpPr>
                <p:nvPr/>
              </p:nvCxnSpPr>
              <p:spPr>
                <a:xfrm rot="10800000">
                  <a:off x="6273720" y="2743200"/>
                  <a:ext cx="761400" cy="3960"/>
                </a:xfrm>
                <a:prstGeom prst="curvedConnector5">
                  <a:avLst>
                    <a:gd name="adj1" fmla="val 49952"/>
                    <a:gd name="adj2" fmla="val 50000"/>
                    <a:gd name="adj3" fmla="val 49952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cxnSp>
            <p:nvCxnSpPr>
              <p:cNvPr id="899" name="AutoShape 59"/>
              <p:cNvCxnSpPr/>
              <p:nvPr/>
            </p:nvCxnSpPr>
            <p:spPr>
              <a:xfrm rot="10800000">
                <a:off x="5770800" y="1910160"/>
                <a:ext cx="1266840" cy="787680"/>
              </a:xfrm>
              <a:prstGeom prst="curvedConnector5">
                <a:avLst>
                  <a:gd name="adj1" fmla="val 50000"/>
                  <a:gd name="adj2" fmla="val 49977"/>
                  <a:gd name="adj3" fmla="val 50000"/>
                </a:avLst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  <p:grpSp>
            <p:nvGrpSpPr>
              <p:cNvPr id="900" name="Group 60"/>
              <p:cNvGrpSpPr/>
              <p:nvPr/>
            </p:nvGrpSpPr>
            <p:grpSpPr>
              <a:xfrm>
                <a:off x="7329960" y="1850760"/>
                <a:ext cx="1044360" cy="583200"/>
                <a:chOff x="7329960" y="1850760"/>
                <a:chExt cx="1044360" cy="583200"/>
              </a:xfrm>
            </p:grpSpPr>
            <p:sp>
              <p:nvSpPr>
                <p:cNvPr id="901" name="Rectangle 61"/>
                <p:cNvSpPr/>
                <p:nvPr/>
              </p:nvSpPr>
              <p:spPr>
                <a:xfrm>
                  <a:off x="7699320" y="2054160"/>
                  <a:ext cx="6436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Lucida Sans Typewriter"/>
                    </a:rPr>
                    <a:t>Teams assembled</a:t>
                  </a:r>
                  <a:endParaRPr b="1" lang="en-US" sz="6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02" name="Rectangle 62"/>
                <p:cNvSpPr/>
                <p:nvPr/>
              </p:nvSpPr>
              <p:spPr>
                <a:xfrm>
                  <a:off x="7668000" y="2143440"/>
                  <a:ext cx="7063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Lucida Sans Typewriter"/>
                    </a:rPr>
                    <a:t>Infrastructure done</a:t>
                  </a:r>
                  <a:endParaRPr b="1" lang="en-US" sz="6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cxnSp>
              <p:nvCxnSpPr>
                <p:cNvPr id="903" name="AutoShape 63"/>
                <p:cNvCxnSpPr/>
                <p:nvPr/>
              </p:nvCxnSpPr>
              <p:spPr>
                <a:xfrm rot="5400000">
                  <a:off x="7234560" y="1946160"/>
                  <a:ext cx="583560" cy="393120"/>
                </a:xfrm>
                <a:prstGeom prst="curvedConnector5">
                  <a:avLst>
                    <a:gd name="adj1" fmla="val 50246"/>
                    <a:gd name="adj2" fmla="val 49954"/>
                    <a:gd name="adj3" fmla="val 50246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</p:grpSp>
        <p:grpSp>
          <p:nvGrpSpPr>
            <p:cNvPr id="904" name="Group 64"/>
            <p:cNvGrpSpPr/>
            <p:nvPr/>
          </p:nvGrpSpPr>
          <p:grpSpPr>
            <a:xfrm>
              <a:off x="6413760" y="1068480"/>
              <a:ext cx="1910880" cy="1499760"/>
              <a:chOff x="6413760" y="1068480"/>
              <a:chExt cx="1910880" cy="1499760"/>
            </a:xfrm>
          </p:grpSpPr>
          <p:sp>
            <p:nvSpPr>
              <p:cNvPr id="905" name="Text Box 65"/>
              <p:cNvSpPr/>
              <p:nvPr/>
            </p:nvSpPr>
            <p:spPr>
              <a:xfrm>
                <a:off x="6413760" y="1255320"/>
                <a:ext cx="7822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Palatino"/>
                  </a:rPr>
                  <a:t>X</a:t>
                </a:r>
                <a:endParaRPr b="1" lang="en-US" sz="80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906" name="Text Box 66"/>
              <p:cNvSpPr/>
              <p:nvPr/>
            </p:nvSpPr>
            <p:spPr>
              <a:xfrm>
                <a:off x="7541640" y="1068480"/>
                <a:ext cx="7830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Palatino"/>
                  </a:rPr>
                  <a:t>X</a:t>
                </a:r>
                <a:endParaRPr b="1" lang="en-US" sz="80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Life Cycle Model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 far we have discussed the life cycle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terfall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-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iral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sue-based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ay we will introduce another life cycl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fied Software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blem: Joining a Project Lat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41080" y="1034640"/>
            <a:ext cx="8111880" cy="5257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ining a project late is not that uncomm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560" indent="-380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the planning has been performed by another person, usually a high level manager, and you are asked to take the project 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560" indent="-380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 the project is in such a bad state, that the current project manager needs to be replac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 to jump right into steady state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560" indent="-380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n has already been developed, so why should I go back to the conception and definition phases?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s to reevaluate the conception and definition pha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560" indent="-380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if you can identify any issues that may have been overlook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560" indent="-380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y to understand the rationale behind the plan and to decide if you feel the plan is achievabl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istake: No Termination Phas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57040" y="3854160"/>
            <a:ext cx="8645760" cy="2878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 the time to ensure that all tasks are completed or identified as open issu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wise you never really know how successful your project w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y to learn from your mistakes (“lessons learned”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you don’t, you will make the the same mistakes again, and may even fa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1" name="Group 66"/>
          <p:cNvGrpSpPr/>
          <p:nvPr/>
        </p:nvGrpSpPr>
        <p:grpSpPr>
          <a:xfrm>
            <a:off x="5916600" y="914400"/>
            <a:ext cx="3143520" cy="2378160"/>
            <a:chOff x="5916600" y="914400"/>
            <a:chExt cx="3143520" cy="2378160"/>
          </a:xfrm>
        </p:grpSpPr>
        <p:grpSp>
          <p:nvGrpSpPr>
            <p:cNvPr id="912" name="Group 5"/>
            <p:cNvGrpSpPr/>
            <p:nvPr/>
          </p:nvGrpSpPr>
          <p:grpSpPr>
            <a:xfrm>
              <a:off x="5916600" y="914400"/>
              <a:ext cx="3143520" cy="2208240"/>
              <a:chOff x="5916600" y="914400"/>
              <a:chExt cx="3143520" cy="2208240"/>
            </a:xfrm>
          </p:grpSpPr>
          <p:sp>
            <p:nvSpPr>
              <p:cNvPr id="913" name="Rectangle 6"/>
              <p:cNvSpPr/>
              <p:nvPr/>
            </p:nvSpPr>
            <p:spPr>
              <a:xfrm>
                <a:off x="7136280" y="2639520"/>
                <a:ext cx="471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Lucida Sans Typewriter"/>
                  </a:rPr>
                  <a:t>System Done</a:t>
                </a:r>
                <a:endParaRPr b="1" lang="en-US" sz="6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sp>
            <p:nvSpPr>
              <p:cNvPr id="914" name="Rectangle 7"/>
              <p:cNvSpPr/>
              <p:nvPr/>
            </p:nvSpPr>
            <p:spPr>
              <a:xfrm>
                <a:off x="6414840" y="2117880"/>
                <a:ext cx="595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Lucida Sans Typewriter"/>
                  </a:rPr>
                  <a:t>New Technology</a:t>
                </a:r>
                <a:endParaRPr b="1" lang="en-US" sz="6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grpSp>
            <p:nvGrpSpPr>
              <p:cNvPr id="915" name="Group 8"/>
              <p:cNvGrpSpPr/>
              <p:nvPr/>
            </p:nvGrpSpPr>
            <p:grpSpPr>
              <a:xfrm>
                <a:off x="5916600" y="951120"/>
                <a:ext cx="1001880" cy="794520"/>
                <a:chOff x="5916600" y="951120"/>
                <a:chExt cx="1001880" cy="794520"/>
              </a:xfrm>
            </p:grpSpPr>
            <p:sp>
              <p:nvSpPr>
                <p:cNvPr id="916" name="AutoShape 9"/>
                <p:cNvSpPr/>
                <p:nvPr/>
              </p:nvSpPr>
              <p:spPr>
                <a:xfrm>
                  <a:off x="5916600" y="1144080"/>
                  <a:ext cx="1001880" cy="601560"/>
                </a:xfrm>
                <a:prstGeom prst="roundRect">
                  <a:avLst>
                    <a:gd name="adj" fmla="val 33986"/>
                  </a:avLst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17" name="Rectangle 10"/>
                <p:cNvSpPr/>
                <p:nvPr/>
              </p:nvSpPr>
              <p:spPr>
                <a:xfrm>
                  <a:off x="6196680" y="1169640"/>
                  <a:ext cx="576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Lucida Sans Typewriter"/>
                    </a:rPr>
                    <a:t>Conception</a:t>
                  </a:r>
                  <a:endParaRPr b="1" lang="en-US" sz="8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18" name="Line 11"/>
                <p:cNvSpPr/>
                <p:nvPr/>
              </p:nvSpPr>
              <p:spPr>
                <a:xfrm>
                  <a:off x="5925240" y="1314720"/>
                  <a:ext cx="983520" cy="7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19" name="Rectangle 12"/>
                <p:cNvSpPr/>
                <p:nvPr/>
              </p:nvSpPr>
              <p:spPr>
                <a:xfrm>
                  <a:off x="6111360" y="1342800"/>
                  <a:ext cx="5464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FormulateIdea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20" name="Oval 13"/>
                <p:cNvSpPr/>
                <p:nvPr/>
              </p:nvSpPr>
              <p:spPr>
                <a:xfrm>
                  <a:off x="6252840" y="951120"/>
                  <a:ext cx="70200" cy="79200"/>
                </a:xfrm>
                <a:prstGeom prst="ellipse">
                  <a:avLst/>
                </a:prstGeom>
                <a:solidFill>
                  <a:srgbClr val="000000"/>
                </a:solidFill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21" name="Line 14"/>
                <p:cNvSpPr/>
                <p:nvPr/>
              </p:nvSpPr>
              <p:spPr>
                <a:xfrm>
                  <a:off x="6289920" y="1010880"/>
                  <a:ext cx="1080" cy="126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22" name="Rectangle 15"/>
                <p:cNvSpPr/>
                <p:nvPr/>
              </p:nvSpPr>
              <p:spPr>
                <a:xfrm>
                  <a:off x="6012360" y="1433520"/>
                  <a:ext cx="7153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Cost-BenefitAnalysis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23" name="Rectangle 16"/>
                <p:cNvSpPr/>
                <p:nvPr/>
              </p:nvSpPr>
              <p:spPr>
                <a:xfrm>
                  <a:off x="6094800" y="1522440"/>
                  <a:ext cx="57060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FeasibilityStudy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24" name="Rectangle 17"/>
                <p:cNvSpPr/>
                <p:nvPr/>
              </p:nvSpPr>
              <p:spPr>
                <a:xfrm>
                  <a:off x="6242400" y="1616400"/>
                  <a:ext cx="314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Review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</p:grpSp>
          <p:grpSp>
            <p:nvGrpSpPr>
              <p:cNvPr id="925" name="Group 18"/>
              <p:cNvGrpSpPr/>
              <p:nvPr/>
            </p:nvGrpSpPr>
            <p:grpSpPr>
              <a:xfrm>
                <a:off x="6980040" y="1369080"/>
                <a:ext cx="1071720" cy="489600"/>
                <a:chOff x="6980040" y="1369080"/>
                <a:chExt cx="1071720" cy="489600"/>
              </a:xfrm>
            </p:grpSpPr>
            <p:sp>
              <p:nvSpPr>
                <p:cNvPr id="926" name="AutoShape 19"/>
                <p:cNvSpPr/>
                <p:nvPr/>
              </p:nvSpPr>
              <p:spPr>
                <a:xfrm>
                  <a:off x="6980040" y="1369080"/>
                  <a:ext cx="1071720" cy="489600"/>
                </a:xfrm>
                <a:prstGeom prst="roundRect">
                  <a:avLst>
                    <a:gd name="adj" fmla="val 41801"/>
                  </a:avLst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27" name="Rectangle 20"/>
                <p:cNvSpPr/>
                <p:nvPr/>
              </p:nvSpPr>
              <p:spPr>
                <a:xfrm>
                  <a:off x="7268400" y="1412280"/>
                  <a:ext cx="5097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Lucida Sans Typewriter"/>
                    </a:rPr>
                    <a:t>Definition</a:t>
                  </a:r>
                  <a:endParaRPr b="1" lang="en-US" sz="8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28" name="Line 21"/>
                <p:cNvSpPr/>
                <p:nvPr/>
              </p:nvSpPr>
              <p:spPr>
                <a:xfrm>
                  <a:off x="6980040" y="1551240"/>
                  <a:ext cx="1063440" cy="36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29" name="Rectangle 22"/>
                <p:cNvSpPr/>
                <p:nvPr/>
              </p:nvSpPr>
              <p:spPr>
                <a:xfrm>
                  <a:off x="7143120" y="1564560"/>
                  <a:ext cx="6865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Problem Statement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30" name="Rectangle 23"/>
                <p:cNvSpPr/>
                <p:nvPr/>
              </p:nvSpPr>
              <p:spPr>
                <a:xfrm>
                  <a:off x="7102440" y="1670040"/>
                  <a:ext cx="7552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Software Architecture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31" name="Rectangle 24"/>
                <p:cNvSpPr/>
                <p:nvPr/>
              </p:nvSpPr>
              <p:spPr>
                <a:xfrm>
                  <a:off x="7226280" y="1750680"/>
                  <a:ext cx="5173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Software Plan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</p:grpSp>
          <p:grpSp>
            <p:nvGrpSpPr>
              <p:cNvPr id="932" name="Group 25"/>
              <p:cNvGrpSpPr/>
              <p:nvPr/>
            </p:nvGrpSpPr>
            <p:grpSpPr>
              <a:xfrm>
                <a:off x="8122680" y="1120320"/>
                <a:ext cx="932400" cy="601560"/>
                <a:chOff x="8122680" y="1120320"/>
                <a:chExt cx="932400" cy="601560"/>
              </a:xfrm>
            </p:grpSpPr>
            <p:sp>
              <p:nvSpPr>
                <p:cNvPr id="933" name="Rectangle 26"/>
                <p:cNvSpPr/>
                <p:nvPr/>
              </p:nvSpPr>
              <p:spPr>
                <a:xfrm>
                  <a:off x="8522280" y="1159560"/>
                  <a:ext cx="2523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Lucida Sans Typewriter"/>
                    </a:rPr>
                    <a:t>Start</a:t>
                  </a:r>
                  <a:endParaRPr b="1" lang="en-US" sz="8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grpSp>
              <p:nvGrpSpPr>
                <p:cNvPr id="934" name="Group 27"/>
                <p:cNvGrpSpPr/>
                <p:nvPr/>
              </p:nvGrpSpPr>
              <p:grpSpPr>
                <a:xfrm>
                  <a:off x="8122680" y="1120320"/>
                  <a:ext cx="932400" cy="601560"/>
                  <a:chOff x="8122680" y="1120320"/>
                  <a:chExt cx="932400" cy="601560"/>
                </a:xfrm>
              </p:grpSpPr>
              <p:sp>
                <p:nvSpPr>
                  <p:cNvPr id="935" name="AutoShape 28"/>
                  <p:cNvSpPr/>
                  <p:nvPr/>
                </p:nvSpPr>
                <p:spPr>
                  <a:xfrm>
                    <a:off x="8122680" y="1120320"/>
                    <a:ext cx="932400" cy="601560"/>
                  </a:xfrm>
                  <a:prstGeom prst="roundRect">
                    <a:avLst>
                      <a:gd name="adj" fmla="val 33986"/>
                    </a:avLst>
                  </a:prstGeom>
                  <a:noFill/>
                  <a:ln w="20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 u="sng">
                      <a:solidFill>
                        <a:srgbClr val="000000"/>
                      </a:solidFill>
                      <a:uFillTx/>
                      <a:latin typeface="Palatino"/>
                    </a:endParaRPr>
                  </a:p>
                </p:txBody>
              </p:sp>
              <p:sp>
                <p:nvSpPr>
                  <p:cNvPr id="936" name="Line 29"/>
                  <p:cNvSpPr/>
                  <p:nvPr/>
                </p:nvSpPr>
                <p:spPr>
                  <a:xfrm>
                    <a:off x="8129880" y="1311840"/>
                    <a:ext cx="918000" cy="360"/>
                  </a:xfrm>
                  <a:prstGeom prst="line">
                    <a:avLst/>
                  </a:prstGeom>
                  <a:ln w="20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1" lang="en-US" sz="2400" spc="-1" strike="noStrike" u="sng">
                      <a:solidFill>
                        <a:srgbClr val="000000"/>
                      </a:solidFill>
                      <a:uFillTx/>
                      <a:latin typeface="Palatino"/>
                    </a:endParaRPr>
                  </a:p>
                </p:txBody>
              </p:sp>
            </p:grpSp>
            <p:sp>
              <p:nvSpPr>
                <p:cNvPr id="937" name="Rectangle 30"/>
                <p:cNvSpPr/>
                <p:nvPr/>
              </p:nvSpPr>
              <p:spPr>
                <a:xfrm>
                  <a:off x="8349480" y="1614600"/>
                  <a:ext cx="53100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Project Kickoff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38" name="Rectangle 31"/>
                <p:cNvSpPr/>
                <p:nvPr/>
              </p:nvSpPr>
              <p:spPr>
                <a:xfrm>
                  <a:off x="8235720" y="1363680"/>
                  <a:ext cx="7293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Infrastructure Setup 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39" name="Rectangle 32"/>
                <p:cNvSpPr/>
                <p:nvPr/>
              </p:nvSpPr>
              <p:spPr>
                <a:xfrm>
                  <a:off x="8286120" y="1455480"/>
                  <a:ext cx="637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Skill Identification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40" name="Rectangle 33"/>
                <p:cNvSpPr/>
                <p:nvPr/>
              </p:nvSpPr>
              <p:spPr>
                <a:xfrm>
                  <a:off x="8316360" y="1536120"/>
                  <a:ext cx="5979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Team Formation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</p:grpSp>
          <p:grpSp>
            <p:nvGrpSpPr>
              <p:cNvPr id="941" name="Group 34"/>
              <p:cNvGrpSpPr/>
              <p:nvPr/>
            </p:nvGrpSpPr>
            <p:grpSpPr>
              <a:xfrm>
                <a:off x="7724880" y="2286000"/>
                <a:ext cx="824040" cy="613800"/>
                <a:chOff x="7724880" y="2286000"/>
                <a:chExt cx="824040" cy="613800"/>
              </a:xfrm>
            </p:grpSpPr>
            <p:sp>
              <p:nvSpPr>
                <p:cNvPr id="942" name="AutoShape 35"/>
                <p:cNvSpPr/>
                <p:nvPr/>
              </p:nvSpPr>
              <p:spPr>
                <a:xfrm>
                  <a:off x="7724880" y="2286000"/>
                  <a:ext cx="824040" cy="613800"/>
                </a:xfrm>
                <a:prstGeom prst="roundRect">
                  <a:avLst>
                    <a:gd name="adj" fmla="val 33310"/>
                  </a:avLst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43" name="Rectangle 36"/>
                <p:cNvSpPr/>
                <p:nvPr/>
              </p:nvSpPr>
              <p:spPr>
                <a:xfrm>
                  <a:off x="7874640" y="2350800"/>
                  <a:ext cx="637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Lucida Sans Typewriter"/>
                    </a:rPr>
                    <a:t>Steady State</a:t>
                  </a:r>
                  <a:endParaRPr b="1" lang="en-US" sz="8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44" name="Line 37"/>
                <p:cNvSpPr/>
                <p:nvPr/>
              </p:nvSpPr>
              <p:spPr>
                <a:xfrm>
                  <a:off x="7724880" y="2516040"/>
                  <a:ext cx="824040" cy="7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45" name="Rectangle 38"/>
                <p:cNvSpPr/>
                <p:nvPr/>
              </p:nvSpPr>
              <p:spPr>
                <a:xfrm>
                  <a:off x="7842600" y="2519280"/>
                  <a:ext cx="5828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Develop System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46" name="Rectangle 39"/>
                <p:cNvSpPr/>
                <p:nvPr/>
              </p:nvSpPr>
              <p:spPr>
                <a:xfrm>
                  <a:off x="7922160" y="2611080"/>
                  <a:ext cx="4381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Controlling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47" name="Rectangle 40"/>
                <p:cNvSpPr/>
                <p:nvPr/>
              </p:nvSpPr>
              <p:spPr>
                <a:xfrm>
                  <a:off x="7811280" y="2690280"/>
                  <a:ext cx="6454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Risk Management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48" name="Rectangle 41"/>
                <p:cNvSpPr/>
                <p:nvPr/>
              </p:nvSpPr>
              <p:spPr>
                <a:xfrm>
                  <a:off x="7917840" y="2782440"/>
                  <a:ext cx="4471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Replanning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</p:grpSp>
          <p:sp>
            <p:nvSpPr>
              <p:cNvPr id="949" name="Rectangle 42"/>
              <p:cNvSpPr/>
              <p:nvPr/>
            </p:nvSpPr>
            <p:spPr>
              <a:xfrm>
                <a:off x="6411240" y="1995480"/>
                <a:ext cx="648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Lucida Sans Typewriter"/>
                  </a:rPr>
                  <a:t>New Requirement</a:t>
                </a:r>
                <a:endParaRPr b="1" lang="en-US" sz="600" spc="-1" strike="noStrike" u="sng">
                  <a:solidFill>
                    <a:srgbClr val="000000"/>
                  </a:solidFill>
                  <a:uFillTx/>
                  <a:latin typeface="Palatino"/>
                </a:endParaRPr>
              </a:p>
            </p:txBody>
          </p:sp>
          <p:grpSp>
            <p:nvGrpSpPr>
              <p:cNvPr id="950" name="Group 43"/>
              <p:cNvGrpSpPr/>
              <p:nvPr/>
            </p:nvGrpSpPr>
            <p:grpSpPr>
              <a:xfrm>
                <a:off x="6921360" y="1095120"/>
                <a:ext cx="594720" cy="349560"/>
                <a:chOff x="6921360" y="1095120"/>
                <a:chExt cx="594720" cy="349560"/>
              </a:xfrm>
            </p:grpSpPr>
            <p:sp>
              <p:nvSpPr>
                <p:cNvPr id="951" name="Rectangle 44"/>
                <p:cNvSpPr/>
                <p:nvPr/>
              </p:nvSpPr>
              <p:spPr>
                <a:xfrm>
                  <a:off x="7039080" y="1095120"/>
                  <a:ext cx="34956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Lucida Sans Typewriter"/>
                    </a:rPr>
                    <a:t>GoAhead </a:t>
                  </a:r>
                  <a:endParaRPr b="1" lang="en-US" sz="6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cxnSp>
              <p:nvCxnSpPr>
                <p:cNvPr id="952" name="AutoShape 45"/>
                <p:cNvCxnSpPr>
                  <a:stCxn id="916" idx="3"/>
                  <a:endCxn id="926" idx="0"/>
                </p:cNvCxnSpPr>
                <p:nvPr/>
              </p:nvCxnSpPr>
              <p:spPr>
                <a:xfrm flipV="1">
                  <a:off x="6921360" y="1364040"/>
                  <a:ext cx="595080" cy="81000"/>
                </a:xfrm>
                <a:prstGeom prst="curvedConnector5">
                  <a:avLst>
                    <a:gd name="adj1" fmla="val 4539"/>
                    <a:gd name="adj2" fmla="val 107142"/>
                    <a:gd name="adj3" fmla="val 4539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grpSp>
            <p:nvGrpSpPr>
              <p:cNvPr id="953" name="Group 46"/>
              <p:cNvGrpSpPr/>
              <p:nvPr/>
            </p:nvGrpSpPr>
            <p:grpSpPr>
              <a:xfrm>
                <a:off x="7516080" y="914400"/>
                <a:ext cx="1072800" cy="450000"/>
                <a:chOff x="7516080" y="914400"/>
                <a:chExt cx="1072800" cy="450000"/>
              </a:xfrm>
            </p:grpSpPr>
            <p:sp>
              <p:nvSpPr>
                <p:cNvPr id="954" name="Rectangle 47"/>
                <p:cNvSpPr/>
                <p:nvPr/>
              </p:nvSpPr>
              <p:spPr>
                <a:xfrm>
                  <a:off x="7844040" y="914400"/>
                  <a:ext cx="4960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Lucida Sans Typewriter"/>
                    </a:rPr>
                    <a:t>ScopeDefined</a:t>
                  </a:r>
                  <a:endParaRPr b="1" lang="en-US" sz="6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cxnSp>
              <p:nvCxnSpPr>
                <p:cNvPr id="955" name="AutoShape 48"/>
                <p:cNvCxnSpPr>
                  <a:stCxn id="926" idx="0"/>
                  <a:endCxn id="935" idx="0"/>
                </p:cNvCxnSpPr>
                <p:nvPr/>
              </p:nvCxnSpPr>
              <p:spPr>
                <a:xfrm flipH="1" flipV="1" rot="5400000">
                  <a:off x="7927920" y="703440"/>
                  <a:ext cx="249480" cy="1073160"/>
                </a:xfrm>
                <a:prstGeom prst="curvedConnector5">
                  <a:avLst>
                    <a:gd name="adj1" fmla="val 137138"/>
                    <a:gd name="adj2" fmla="val 50000"/>
                    <a:gd name="adj3" fmla="val 137138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grpSp>
            <p:nvGrpSpPr>
              <p:cNvPr id="956" name="Group 49"/>
              <p:cNvGrpSpPr/>
              <p:nvPr/>
            </p:nvGrpSpPr>
            <p:grpSpPr>
              <a:xfrm>
                <a:off x="6071400" y="2350440"/>
                <a:ext cx="1649160" cy="772200"/>
                <a:chOff x="6071400" y="2350440"/>
                <a:chExt cx="1649160" cy="772200"/>
              </a:xfrm>
            </p:grpSpPr>
            <p:sp>
              <p:nvSpPr>
                <p:cNvPr id="957" name="AutoShape 50"/>
                <p:cNvSpPr/>
                <p:nvPr/>
              </p:nvSpPr>
              <p:spPr>
                <a:xfrm>
                  <a:off x="6071400" y="2350440"/>
                  <a:ext cx="885600" cy="477000"/>
                </a:xfrm>
                <a:prstGeom prst="roundRect">
                  <a:avLst>
                    <a:gd name="adj" fmla="val 42870"/>
                  </a:avLst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58" name="Rectangle 51"/>
                <p:cNvSpPr/>
                <p:nvPr/>
              </p:nvSpPr>
              <p:spPr>
                <a:xfrm>
                  <a:off x="6301440" y="2383560"/>
                  <a:ext cx="6300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Lucida Sans Typewriter"/>
                    </a:rPr>
                    <a:t>Termination</a:t>
                  </a:r>
                  <a:endParaRPr b="1" lang="en-US" sz="8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59" name="Line 52"/>
                <p:cNvSpPr/>
                <p:nvPr/>
              </p:nvSpPr>
              <p:spPr>
                <a:xfrm>
                  <a:off x="6093000" y="2510640"/>
                  <a:ext cx="876600" cy="10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60" name="Rectangle 53"/>
                <p:cNvSpPr/>
                <p:nvPr/>
              </p:nvSpPr>
              <p:spPr>
                <a:xfrm>
                  <a:off x="6156000" y="2538360"/>
                  <a:ext cx="637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Client Acceptance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61" name="Oval 54"/>
                <p:cNvSpPr/>
                <p:nvPr/>
              </p:nvSpPr>
              <p:spPr>
                <a:xfrm>
                  <a:off x="6487920" y="3020400"/>
                  <a:ext cx="61560" cy="79200"/>
                </a:xfrm>
                <a:prstGeom prst="ellipse">
                  <a:avLst/>
                </a:prstGeom>
                <a:solidFill>
                  <a:srgbClr val="000000"/>
                </a:solidFill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62" name="Line 55"/>
                <p:cNvSpPr/>
                <p:nvPr/>
              </p:nvSpPr>
              <p:spPr>
                <a:xfrm flipV="1">
                  <a:off x="6521760" y="2827440"/>
                  <a:ext cx="2160" cy="1584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63" name="Oval 56"/>
                <p:cNvSpPr/>
                <p:nvPr/>
              </p:nvSpPr>
              <p:spPr>
                <a:xfrm>
                  <a:off x="6470280" y="2985840"/>
                  <a:ext cx="105840" cy="136800"/>
                </a:xfrm>
                <a:prstGeom prst="ellipse">
                  <a:avLst/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64" name="Rectangle 57"/>
                <p:cNvSpPr/>
                <p:nvPr/>
              </p:nvSpPr>
              <p:spPr>
                <a:xfrm>
                  <a:off x="6323400" y="2616120"/>
                  <a:ext cx="3466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Delivery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65" name="Rectangle 58"/>
                <p:cNvSpPr/>
                <p:nvPr/>
              </p:nvSpPr>
              <p:spPr>
                <a:xfrm>
                  <a:off x="6241680" y="2720520"/>
                  <a:ext cx="4899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Lucida Sans Typewriter"/>
                    </a:rPr>
                    <a:t>do/Post Mortem</a:t>
                  </a:r>
                  <a:endParaRPr b="1" lang="en-US" sz="5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cxnSp>
              <p:nvCxnSpPr>
                <p:cNvPr id="966" name="AutoShape 59"/>
                <p:cNvCxnSpPr>
                  <a:stCxn id="942" idx="1"/>
                  <a:endCxn id="957" idx="3"/>
                </p:cNvCxnSpPr>
                <p:nvPr/>
              </p:nvCxnSpPr>
              <p:spPr>
                <a:xfrm rot="10800000">
                  <a:off x="6959520" y="2589120"/>
                  <a:ext cx="761400" cy="3960"/>
                </a:xfrm>
                <a:prstGeom prst="curvedConnector5">
                  <a:avLst>
                    <a:gd name="adj1" fmla="val 49952"/>
                    <a:gd name="adj2" fmla="val 50000"/>
                    <a:gd name="adj3" fmla="val 49952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cxnSp>
            <p:nvCxnSpPr>
              <p:cNvPr id="967" name="AutoShape 60"/>
              <p:cNvCxnSpPr/>
              <p:nvPr/>
            </p:nvCxnSpPr>
            <p:spPr>
              <a:xfrm rot="10800000">
                <a:off x="6456600" y="1756080"/>
                <a:ext cx="1266840" cy="787680"/>
              </a:xfrm>
              <a:prstGeom prst="curvedConnector5">
                <a:avLst>
                  <a:gd name="adj1" fmla="val 50000"/>
                  <a:gd name="adj2" fmla="val 49977"/>
                  <a:gd name="adj3" fmla="val 50000"/>
                </a:avLst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  <p:grpSp>
            <p:nvGrpSpPr>
              <p:cNvPr id="968" name="Group 61"/>
              <p:cNvGrpSpPr/>
              <p:nvPr/>
            </p:nvGrpSpPr>
            <p:grpSpPr>
              <a:xfrm>
                <a:off x="8015760" y="1696680"/>
                <a:ext cx="1044360" cy="583200"/>
                <a:chOff x="8015760" y="1696680"/>
                <a:chExt cx="1044360" cy="583200"/>
              </a:xfrm>
            </p:grpSpPr>
            <p:sp>
              <p:nvSpPr>
                <p:cNvPr id="969" name="Rectangle 62"/>
                <p:cNvSpPr/>
                <p:nvPr/>
              </p:nvSpPr>
              <p:spPr>
                <a:xfrm>
                  <a:off x="8385120" y="1900080"/>
                  <a:ext cx="6436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Lucida Sans Typewriter"/>
                    </a:rPr>
                    <a:t>Teams assembled</a:t>
                  </a:r>
                  <a:endParaRPr b="1" lang="en-US" sz="6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sp>
              <p:nvSpPr>
                <p:cNvPr id="970" name="Rectangle 63"/>
                <p:cNvSpPr/>
                <p:nvPr/>
              </p:nvSpPr>
              <p:spPr>
                <a:xfrm>
                  <a:off x="8353800" y="1989360"/>
                  <a:ext cx="7063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27000"/>
                      <a:tab algn="l" pos="1854360"/>
                      <a:tab algn="l" pos="2781360"/>
                      <a:tab algn="l" pos="3708360"/>
                      <a:tab algn="l" pos="4635360"/>
                      <a:tab algn="l" pos="5562720"/>
                      <a:tab algn="l" pos="6489720"/>
                      <a:tab algn="l" pos="7416720"/>
                      <a:tab algn="l" pos="8344080"/>
                      <a:tab algn="l" pos="9271080"/>
                      <a:tab algn="l" pos="101980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Lucida Sans Typewriter"/>
                    </a:rPr>
                    <a:t>Infrastructure done</a:t>
                  </a:r>
                  <a:endParaRPr b="1" lang="en-US" sz="600" spc="-1" strike="noStrike" u="sng">
                    <a:solidFill>
                      <a:srgbClr val="000000"/>
                    </a:solidFill>
                    <a:uFillTx/>
                    <a:latin typeface="Palatino"/>
                  </a:endParaRPr>
                </a:p>
              </p:txBody>
            </p:sp>
            <p:cxnSp>
              <p:nvCxnSpPr>
                <p:cNvPr id="971" name="AutoShape 64"/>
                <p:cNvCxnSpPr/>
                <p:nvPr/>
              </p:nvCxnSpPr>
              <p:spPr>
                <a:xfrm rot="5400000">
                  <a:off x="7920360" y="1792080"/>
                  <a:ext cx="583560" cy="393120"/>
                </a:xfrm>
                <a:prstGeom prst="curvedConnector5">
                  <a:avLst>
                    <a:gd name="adj1" fmla="val 50246"/>
                    <a:gd name="adj2" fmla="val 49954"/>
                    <a:gd name="adj3" fmla="val 50246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</p:grpSp>
        <p:sp>
          <p:nvSpPr>
            <p:cNvPr id="972" name="Text Box 65"/>
            <p:cNvSpPr/>
            <p:nvPr/>
          </p:nvSpPr>
          <p:spPr>
            <a:xfrm>
              <a:off x="6075360" y="1979640"/>
              <a:ext cx="782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Palatino"/>
                </a:rPr>
                <a:t>X</a:t>
              </a:r>
              <a:endParaRPr b="1" lang="en-US" sz="8000" spc="-1" strike="noStrike" u="sng">
                <a:solidFill>
                  <a:srgbClr val="000000"/>
                </a:solidFill>
                <a:uFillTx/>
                <a:latin typeface="Palatino"/>
              </a:endParaRPr>
            </a:p>
          </p:txBody>
        </p:sp>
      </p:grpSp>
      <p:sp>
        <p:nvSpPr>
          <p:cNvPr id="973" name="Rectangle 67"/>
          <p:cNvSpPr/>
          <p:nvPr/>
        </p:nvSpPr>
        <p:spPr>
          <a:xfrm>
            <a:off x="76320" y="990720"/>
            <a:ext cx="609588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no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s for skipping or not completing the termination phase: </a:t>
            </a: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 leave a project to move on right to the next one. (Because you are a successful manager:-) 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arce resources and short deadlines 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new project is always more challenging than wrapping up an old one 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3"/>
          <p:cNvSpPr/>
          <p:nvPr/>
        </p:nvSpPr>
        <p:spPr>
          <a:xfrm>
            <a:off x="241200" y="1041480"/>
            <a:ext cx="1600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61720" y="1066320"/>
            <a:ext cx="8729640" cy="5149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281fff"/>
                </a:solidFill>
                <a:latin typeface="Verdana"/>
              </a:rPr>
              <a:t>Unified Proces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terative software lifecycle mode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hasis on early construction of a software archite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hasis on early demonstrations of the syste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281fff"/>
                </a:solidFill>
                <a:latin typeface="Verdana"/>
              </a:rPr>
              <a:t>Phas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tus of the software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phases: Inception, Elaboration, Construction, Tran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281fff"/>
                </a:solidFill>
                <a:latin typeface="Verdana"/>
              </a:rPr>
              <a:t>Workflow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ostly sequential activity that produces artifa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 workflows: Management, environment, requirements, design, implementation, assessment, deploymen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 artifact sets: Management set, requirements set, design set, implementation set, deployment 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281fff"/>
                </a:solidFill>
                <a:latin typeface="Verdana"/>
              </a:rPr>
              <a:t>Itera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etition within a workfl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unified process iteration is a software proj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dditional Referenc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lker Roy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ftware Project Management, Addison-Wesley, 1998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var Jacobsen, Grady Booch &amp; James Rumba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nified Software Development Process, Addison Wesley, 1999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im Arlow and Ila Neustad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L and the Unified Process: Practical Object-Oriented Analysis and Design, Addison Wesley, 2002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ilippe Kruch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tional Unified Process, Addison-Wesley, 2000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dditional Slid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1800" rIns="91800" tIns="45000" bIns="45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mponent Based Software Developmen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ercial of the shelf components (COTS), reusable objects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 development, build everything from scratch,…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ision: Buy vs. Bu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mmercial Components (“Buy”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398124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dictable license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oadly used, mature techn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ilable n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dicated support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dware/software independence (sometim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ch in functi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21320" y="1294920"/>
            <a:ext cx="42940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 fontScale="95000"/>
          </a:bodyPr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quent upgr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-front license fe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urring maintenance fe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endency on ven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-time efficiency sacrif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ality constra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 not always triv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ontrol over upgrades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necessary features that consume extra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inadequate reliability and stabil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-vendor incompatibilit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ustom Components (“Build”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397980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e change freed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, often simpler implem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better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 of development and enhanc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1312560"/>
            <a:ext cx="397980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nsive, unpredictable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predictable availability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fined maintenance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immature and frag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gle-platform depend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in on expert resour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5">
            <a:hlinkClick r:id="rId1" action="ppaction://hlinksldjump"/>
          </p:cNvPr>
          <p:cNvSpPr/>
          <p:nvPr/>
        </p:nvSpPr>
        <p:spPr>
          <a:xfrm>
            <a:off x="7086600" y="6553080"/>
            <a:ext cx="304920" cy="15264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43098" h="21600">
                <a:moveTo>
                  <a:pt x="0" y="0"/>
                </a:moveTo>
                <a:lnTo>
                  <a:pt x="43098" y="0"/>
                </a:lnTo>
                <a:lnTo>
                  <a:pt x="43098" y="21600"/>
                </a:lnTo>
                <a:lnTo>
                  <a:pt x="0" y="21600"/>
                </a:lnTo>
                <a:close/>
              </a:path>
              <a:path fill="lightenLess" w="43098" h="21600">
                <a:moveTo>
                  <a:pt x="0" y="0"/>
                </a:moveTo>
                <a:lnTo>
                  <a:pt x="43098" y="0"/>
                </a:lnTo>
                <a:lnTo>
                  <a:pt x="41698" y="1400"/>
                </a:lnTo>
                <a:lnTo>
                  <a:pt x="1400" y="1400"/>
                </a:lnTo>
                <a:close/>
              </a:path>
              <a:path fill="darken" w="43098" h="21600">
                <a:moveTo>
                  <a:pt x="43098" y="0"/>
                </a:moveTo>
                <a:lnTo>
                  <a:pt x="43098" y="21600"/>
                </a:lnTo>
                <a:lnTo>
                  <a:pt x="41698" y="20200"/>
                </a:lnTo>
                <a:lnTo>
                  <a:pt x="41698" y="1400"/>
                </a:lnTo>
                <a:close/>
              </a:path>
              <a:path fill="darkenLess" w="43098" h="21600">
                <a:moveTo>
                  <a:pt x="43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8" y="20200"/>
                </a:lnTo>
                <a:close/>
              </a:path>
              <a:path fill="lighten" w="43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8" h="21600">
                <a:moveTo>
                  <a:pt x="14543" y="7493"/>
                </a:moveTo>
                <a:lnTo>
                  <a:pt x="18050" y="7493"/>
                </a:lnTo>
                <a:lnTo>
                  <a:pt x="18050" y="12828"/>
                </a:lnTo>
                <a:cubicBezTo>
                  <a:pt x="18050" y="13751"/>
                  <a:pt x="18851" y="14482"/>
                  <a:pt x="19887" y="14482"/>
                </a:cubicBezTo>
                <a:lnTo>
                  <a:pt x="21549" y="14482"/>
                </a:lnTo>
                <a:cubicBezTo>
                  <a:pt x="22585" y="14482"/>
                  <a:pt x="23386" y="13751"/>
                  <a:pt x="23386" y="12828"/>
                </a:cubicBezTo>
                <a:lnTo>
                  <a:pt x="23386" y="7493"/>
                </a:lnTo>
                <a:lnTo>
                  <a:pt x="21549" y="7493"/>
                </a:lnTo>
                <a:lnTo>
                  <a:pt x="25057" y="3985"/>
                </a:lnTo>
                <a:lnTo>
                  <a:pt x="28730" y="7493"/>
                </a:lnTo>
                <a:lnTo>
                  <a:pt x="26893" y="7493"/>
                </a:lnTo>
                <a:lnTo>
                  <a:pt x="26893" y="12828"/>
                </a:lnTo>
                <a:cubicBezTo>
                  <a:pt x="26893" y="15596"/>
                  <a:pt x="24317" y="18155"/>
                  <a:pt x="21549" y="18155"/>
                </a:cubicBezTo>
                <a:lnTo>
                  <a:pt x="19887" y="18155"/>
                </a:lnTo>
                <a:cubicBezTo>
                  <a:pt x="17119" y="18155"/>
                  <a:pt x="14543" y="15596"/>
                  <a:pt x="14543" y="12828"/>
                </a:cubicBezTo>
                <a:close/>
              </a:path>
            </a:pathLst>
          </a:custGeom>
          <a:solidFill>
            <a:srgbClr val="d500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odel of the Unified Process (Analysis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41080" y="1034640"/>
            <a:ext cx="8111880" cy="5257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7960" indent="-22896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Stat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tional Requireme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7960" indent="-22896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level use case: Develop software system that implements the problem statemen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pu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7960" indent="-22896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 analysis docu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7960" indent="-22896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ftware project management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7960" indent="-22896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ftware configuration management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7960" indent="-22896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m design docu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7960" indent="-22896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 design docu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7960" indent="-22896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 plan and  test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7960" indent="-22896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rce cod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7960" indent="-22896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manual and administrator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28600" y="225360"/>
            <a:ext cx="876312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odel of the Unified Process: System Desig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41080" y="1080720"/>
            <a:ext cx="8450280" cy="5700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 Goal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performance, dependability, low cost, maintainability, us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ystem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workflows Management, Environment, Requirements, Design, Implementation, Assessment, Deploy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dware/Software mapping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subsystem is running on its own nod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urrency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hreads can run concurrentl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obal control flow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nt-driven. The subsystems communicate via events. Typical events are: „Requirement has changed“, „Review comments available“, „Time has expired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cesses“ in the Unified Proce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928440"/>
            <a:ext cx="876276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 fontScale="94000"/>
          </a:bodyPr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r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overloaded in the Unified Proces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Micro process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ies &amp; practices for building an artif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400" indent="-2174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cus: Intermediate baselines with adequate quality and functionality as economically and rapidly as practi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400" indent="-2174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e as “Process” in the IEEE 1074 Stand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Macro process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t of micro processes and the dependencies among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400" indent="-2174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cus: Production of a software system within cost, schedule and quality constra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400" indent="-2174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called: Life cycle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Meta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400" indent="-2174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cus: Organizational improvement, long-term strategies, and return on investment (ROI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400" indent="-2174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called: Business proc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25520" y="268200"/>
            <a:ext cx="86421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odel of the Unified Process: System Design (ctd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sistent Dat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ion, Process Model, Configuration Items, Analysis Model, System Design Model, Object Design Model, Communication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 contro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keholders (End users, managers, customers, developers, …) have access to the persistent data with access rights defined dynamically by  environment workflow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undary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up of workflows: All workflows start simultaneous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state of workflows: Workflows wake up on an event, process the event, and go to sleep afterwar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rminal conditions of workflows: A risk has occurred that cannot be dealt wi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Lifecycle Improvemen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re are 3 possibilities to improve a multi-step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Quality improvement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take an n-step process and improve the efficiency of each ste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TQM  (Total Quality Manageme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verhead redu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take an n-step process and eliminate some of the ste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Extreme Programm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currency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take an n-step process and parallelize some of the seps or use more concurrency in the resources being u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58840" indent="-231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Unified Proc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Unified Proce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692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nified Process supports the follow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560" indent="-380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olution of project plans, requirements and software architecture with well-defined synchronization po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560" indent="-380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560" indent="-380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olution of system capabilities through demonstrations of increasing functi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emphasizes the difference between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engineering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produ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160" y="225360"/>
            <a:ext cx="82659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Difference: Engineering vs. Produc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69280" cy="2222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Engineering Sta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iven by less predictable but smaller teams, focusing on design and synthesis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d5000a"/>
                </a:solidFill>
                <a:latin typeface="Verdana"/>
              </a:rPr>
              <a:t>Production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iven by more predictable but larger teams, focusing on construction, test and deployment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28600" y="3645000"/>
            <a:ext cx="2286000" cy="27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cus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ifacts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ty Assessment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514600" y="3645000"/>
            <a:ext cx="3352680" cy="27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gineering Stage  Emphasis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feasibility, Schedule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ning, Requirements, System Design Documents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ning, Analysis, Design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nstration, Inspection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5867280" y="3645000"/>
            <a:ext cx="3175200" cy="27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Stage Emphasis</a:t>
            </a:r>
            <a:endParaRPr b="1" lang="en-US" sz="18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lines, Releases</a:t>
            </a:r>
            <a:br>
              <a:rPr sz="2000"/>
            </a:b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, Integration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1" lang="en-US" sz="2000" spc="-1" strike="noStrike" u="sng">
              <a:solidFill>
                <a:srgbClr val="000000"/>
              </a:solidFill>
              <a:uFillTx/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5520" y="225360"/>
            <a:ext cx="8642160" cy="87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hases in the Unified Proce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1080" y="1312560"/>
            <a:ext cx="8111880" cy="4862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rmAutofit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stages of the Unified Process are decomposed into four distinct ph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ineering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d5000a"/>
                </a:solidFill>
                <a:latin typeface="Verdana"/>
              </a:rPr>
              <a:t>Inception 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d5000a"/>
                </a:solidFill>
                <a:latin typeface="Verdana"/>
              </a:rPr>
              <a:t>Elaboration 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tion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d5000a"/>
                </a:solidFill>
                <a:latin typeface="Verdana"/>
              </a:rPr>
              <a:t>Construction 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-2314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d5000a"/>
                </a:solidFill>
                <a:latin typeface="Verdana"/>
              </a:rPr>
              <a:t>Transition pha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5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18:55:54Z</dcterms:created>
  <dc:creator>Bernd Bruegge</dc:creator>
  <dc:description/>
  <cp:keywords/>
  <dc:language>en-US</dc:language>
  <cp:lastModifiedBy>Bernd Bruegge</cp:lastModifiedBy>
  <cp:lastPrinted>2002-06-25T11:41:59Z</cp:lastPrinted>
  <dcterms:modified xsi:type="dcterms:W3CDTF">2009-08-04T07:44:04Z</dcterms:modified>
  <cp:revision>172</cp:revision>
  <dc:subject>15-413 Software Engineering Fall 97</dc:subject>
  <dc:title>Lecture Notes on  Software Life Cycle</dc:title>
</cp:coreProperties>
</file>