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456840" y="3293640"/>
            <a:ext cx="5986440" cy="524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2768760" y="8704440"/>
            <a:ext cx="132192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Page </a:t>
            </a:r>
            <a:fld id="{FB44CDF8-646A-44D1-A3EF-612218630691}" type="slidenum"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ldImg"/>
          </p:nvPr>
        </p:nvSpPr>
        <p:spPr>
          <a:xfrm>
            <a:off x="1292400" y="31680"/>
            <a:ext cx="4162320" cy="312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292400" y="31680"/>
            <a:ext cx="4162320" cy="31226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56840" y="3293640"/>
            <a:ext cx="5986440" cy="5240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Knowing how your individual task fits in the big picture improves your ability to make decisions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292400" y="31680"/>
            <a:ext cx="4162320" cy="31226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6840" y="3293640"/>
            <a:ext cx="5986440" cy="524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Mechanisms are Web-Portal, e-mail, …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85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39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31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85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39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18680" y="221760"/>
            <a:ext cx="8153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85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39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331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85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39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18680" y="221760"/>
            <a:ext cx="8153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Text Box 10"/>
          <p:cNvSpPr/>
          <p:nvPr/>
        </p:nvSpPr>
        <p:spPr>
          <a:xfrm>
            <a:off x="360360" y="6400800"/>
            <a:ext cx="8381880" cy="3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Palatino"/>
              </a:rPr>
              <a:t>Bernd Bruegge &amp; Allen H. Dutoit </a:t>
            </a:r>
            <a:r>
              <a:rPr b="1" lang="en-US" sz="9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Palatino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Palatino"/>
              </a:rPr>
              <a:t>   Object-Oriented Software Engineering: Using UML, Patterns, and Java                                        </a:t>
            </a:r>
            <a:fld id="{01EA6F02-EC0D-43FA-B70E-4F3DDAE4EC6B}" type="slidenum">
              <a:rPr b="1" lang="en-US" sz="9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4"/>
          <p:cNvSpPr/>
          <p:nvPr/>
        </p:nvSpPr>
        <p:spPr>
          <a:xfrm rot="16200000">
            <a:off x="-2289600" y="2955240"/>
            <a:ext cx="6416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Using UML, Patterns, and Java</a:t>
            </a: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0" name="Text Box 5"/>
          <p:cNvSpPr/>
          <p:nvPr/>
        </p:nvSpPr>
        <p:spPr>
          <a:xfrm rot="16200000">
            <a:off x="-2662920" y="3204360"/>
            <a:ext cx="640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Object-Oriented Software Engineering</a:t>
            </a: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01" descr="_x0010_CO.3.IceFall.tif                                               0012C2BC_x000c_Macintosh HD                   B7C803F1:"/>
          <p:cNvPicPr/>
          <p:nvPr/>
        </p:nvPicPr>
        <p:blipFill>
          <a:blip r:embed="rId1"/>
          <a:srcRect l="0" t="15614" r="0" b="0"/>
          <a:stretch/>
        </p:blipFill>
        <p:spPr>
          <a:xfrm>
            <a:off x="1279440" y="244440"/>
            <a:ext cx="7613640" cy="64245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61680" y="5460840"/>
            <a:ext cx="7170840" cy="100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hapter 3, Project Organization and Communication, Part 2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Planned Communication Event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55680" y="1066320"/>
            <a:ext cx="82548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14"/>
                </a:solidFill>
                <a:latin typeface="Verdana"/>
              </a:rPr>
              <a:t>Problem Defini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110000"/>
              </a:lnSpc>
              <a:spcBef>
                <a:spcPts val="675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bjective:Present goals, requirements and  constrai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110000"/>
              </a:lnSpc>
              <a:spcBef>
                <a:spcPts val="675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ample: Client present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110000"/>
              </a:lnSpc>
              <a:spcBef>
                <a:spcPts val="675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sually scheduled at the beginning of a projec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14"/>
                </a:solidFill>
                <a:latin typeface="Verdana"/>
              </a:rPr>
              <a:t>Project Review</a:t>
            </a:r>
            <a:r>
              <a:rPr b="0" lang="en-US" sz="2000" spc="-1" strike="noStrike">
                <a:solidFill>
                  <a:srgbClr val="ffad14"/>
                </a:solidFill>
                <a:latin typeface="Verdana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Focus on system mode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110000"/>
              </a:lnSpc>
              <a:spcBef>
                <a:spcPts val="675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bjective: Assess status and review the system mod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110000"/>
              </a:lnSpc>
              <a:spcBef>
                <a:spcPts val="675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amples: Analysis review, system design review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110000"/>
              </a:lnSpc>
              <a:spcBef>
                <a:spcPts val="675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cheduled around project milestones and deliverab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14"/>
                </a:solidFill>
                <a:latin typeface="Verdana"/>
              </a:rPr>
              <a:t>Client Review</a:t>
            </a:r>
            <a:r>
              <a:rPr b="0" lang="en-US" sz="2000" spc="-1" strike="noStrike">
                <a:solidFill>
                  <a:srgbClr val="ffad14"/>
                </a:solidFill>
                <a:latin typeface="Verdana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Focus on requirem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110000"/>
              </a:lnSpc>
              <a:spcBef>
                <a:spcPts val="675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bjective: Brief the client, agree on requirements chang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110000"/>
              </a:lnSpc>
              <a:spcBef>
                <a:spcPts val="675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first client review is usually scheduled after analysis phas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Planned Communication Events (cont’d)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ad14"/>
                </a:solidFill>
                <a:latin typeface="Verdana"/>
              </a:rPr>
              <a:t>Walkthroug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Informal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bjective: Increase quality of subsyst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veloper informally presents subsystem to  team members (“peer-to-peer”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heduled by each te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ad14"/>
                </a:solidFill>
                <a:latin typeface="Verdana"/>
              </a:rPr>
              <a:t>Inspec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Formal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bjective: Compliance with requirem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monstration of final system to customer (Client acceptance tes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heduled by project manage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Planned Communication Events (cont’d)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ad14"/>
                </a:solidFill>
                <a:latin typeface="Verdana"/>
              </a:rPr>
              <a:t>Status Revie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bjective: Find deviations from schedule and correct them or identify new iss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tus section in regular weekly team mee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ad14"/>
                </a:solidFill>
                <a:latin typeface="Verdana"/>
              </a:rPr>
              <a:t>Brainstorm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bjective: Generate and evaluate large number of solutions for a probl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cussion section in regular weekly team meeting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Planned Communication Events (cont’d)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55680" y="990720"/>
            <a:ext cx="8254800" cy="492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268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ad14"/>
                </a:solidFill>
                <a:latin typeface="Verdana"/>
              </a:rPr>
              <a:t>Relea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44400" indent="-21456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bjective:  Baseline the result of each software development activity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44400" indent="-21456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ftware Project Management Pla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quirements Analysis Document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ystem Design Docu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ta version of softwa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nal version of softwa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r Manual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44400" indent="-21456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ually scheduled after corresponding activity (“phase”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8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ad14"/>
                </a:solidFill>
                <a:latin typeface="Verdana"/>
              </a:rPr>
              <a:t>Postmortem Revie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44400" indent="-21456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bjective: Describe Lessons Learned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44400" indent="-21456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heduled at the end of the proj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Unplanned Communication Event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ad14"/>
                </a:solidFill>
                <a:latin typeface="Verdana"/>
              </a:rPr>
              <a:t>Request for clarifi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bulk of communication among developers, clients and user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 A developer may request a clarification about an ambiguous sentence in the problem statem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9" name="Group 7"/>
          <p:cNvGrpSpPr/>
          <p:nvPr/>
        </p:nvGrpSpPr>
        <p:grpSpPr>
          <a:xfrm>
            <a:off x="225360" y="3276720"/>
            <a:ext cx="8690040" cy="3420360"/>
            <a:chOff x="225360" y="3276720"/>
            <a:chExt cx="8690040" cy="3420360"/>
          </a:xfrm>
        </p:grpSpPr>
        <p:sp>
          <p:nvSpPr>
            <p:cNvPr id="190" name="Rectangle 6"/>
            <p:cNvSpPr/>
            <p:nvPr/>
          </p:nvSpPr>
          <p:spPr>
            <a:xfrm>
              <a:off x="228600" y="3276720"/>
              <a:ext cx="8686800" cy="3352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>
                  <a:alpha val="8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191" name="Rectangle 4"/>
            <p:cNvSpPr/>
            <p:nvPr/>
          </p:nvSpPr>
          <p:spPr>
            <a:xfrm>
              <a:off x="225360" y="3290760"/>
              <a:ext cx="8690040" cy="3406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rom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: Alice</a:t>
              </a:r>
              <a:endParaRPr b="1" lang="en-US" sz="1800" spc="-1" strike="noStrike">
                <a:solidFill>
                  <a:srgbClr val="000000"/>
                </a:solidFill>
                <a:latin typeface="Palatino"/>
              </a:endParaRPr>
            </a:p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ewsgroups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: vso.discuss</a:t>
              </a:r>
              <a:endParaRPr b="1" lang="en-US" sz="1800" spc="-1" strike="noStrike">
                <a:solidFill>
                  <a:srgbClr val="000000"/>
                </a:solidFill>
                <a:latin typeface="Palatino"/>
              </a:endParaRPr>
            </a:p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Subject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: SDD</a:t>
              </a:r>
              <a:endParaRPr b="1" lang="en-US" sz="1800" spc="-1" strike="noStrike">
                <a:solidFill>
                  <a:srgbClr val="000000"/>
                </a:solidFill>
                <a:latin typeface="Palatino"/>
              </a:endParaRPr>
            </a:p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Date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: Wed, 2 Nov 9:32:48 -0400</a:t>
              </a:r>
              <a:endParaRPr b="1" lang="en-US" sz="1800" spc="-1" strike="noStrike">
                <a:solidFill>
                  <a:srgbClr val="000000"/>
                </a:solidFill>
                <a:latin typeface="Palatino"/>
              </a:endParaRPr>
            </a:p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Palatino"/>
              </a:endParaRPr>
            </a:p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When exactly would you like the System Design Document? There is some confusion over the actual deadline: the schedule claims it to be October 22, while the template says we have until November 7.</a:t>
              </a:r>
              <a:endParaRPr b="1" lang="en-US" sz="1800" spc="-1" strike="noStrike">
                <a:solidFill>
                  <a:srgbClr val="000000"/>
                </a:solidFill>
                <a:latin typeface="Palatino"/>
              </a:endParaRPr>
            </a:p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Thanks,-Alice</a:t>
              </a:r>
              <a:endParaRPr b="1" lang="en-US" sz="1800" spc="-1" strike="noStrike">
                <a:solidFill>
                  <a:srgbClr val="000000"/>
                </a:solidFill>
                <a:latin typeface="Palatino"/>
              </a:endParaRPr>
            </a:p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Palatino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Unplanned Communication Event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ad14"/>
                </a:solidFill>
                <a:latin typeface="Verdana"/>
              </a:rPr>
              <a:t>Request for chan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participant reports a problem and proposes a solu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ange requests are often formalized when the project size is substantial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 Request for additional functional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4" name="Group 6"/>
          <p:cNvGrpSpPr/>
          <p:nvPr/>
        </p:nvGrpSpPr>
        <p:grpSpPr>
          <a:xfrm>
            <a:off x="228600" y="3505320"/>
            <a:ext cx="8686800" cy="2895480"/>
            <a:chOff x="228600" y="3505320"/>
            <a:chExt cx="8686800" cy="2895480"/>
          </a:xfrm>
        </p:grpSpPr>
        <p:sp>
          <p:nvSpPr>
            <p:cNvPr id="195" name="Rectangle 4"/>
            <p:cNvSpPr/>
            <p:nvPr/>
          </p:nvSpPr>
          <p:spPr>
            <a:xfrm>
              <a:off x="228600" y="3505320"/>
              <a:ext cx="868680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>
                  <a:alpha val="8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196" name="Rectangle 5"/>
            <p:cNvSpPr/>
            <p:nvPr/>
          </p:nvSpPr>
          <p:spPr>
            <a:xfrm>
              <a:off x="228600" y="3505320"/>
              <a:ext cx="8686800" cy="2895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Report number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: 1291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Date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: 5/3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uthor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: Dave</a:t>
              </a:r>
              <a:endParaRPr b="1" lang="en-US" sz="1800" spc="-1" strike="noStrike">
                <a:solidFill>
                  <a:srgbClr val="000000"/>
                </a:solidFill>
                <a:latin typeface="Palatino"/>
              </a:endParaRPr>
            </a:p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Synopsis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: The STARS form should have a galaxy field.</a:t>
              </a:r>
              <a:endParaRPr b="1" lang="en-US" sz="1800" spc="-1" strike="noStrike">
                <a:solidFill>
                  <a:srgbClr val="000000"/>
                </a:solidFill>
                <a:latin typeface="Palatino"/>
              </a:endParaRPr>
            </a:p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Subsystem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: Universe classification</a:t>
              </a:r>
              <a:endParaRPr b="1" lang="en-US" sz="1800" spc="-1" strike="noStrike">
                <a:solidFill>
                  <a:srgbClr val="000000"/>
                </a:solidFill>
                <a:latin typeface="Palatino"/>
              </a:endParaRPr>
            </a:p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Version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: 3.4.1</a:t>
              </a:r>
              <a:endParaRPr b="1" lang="en-US" sz="1800" spc="-1" strike="noStrike">
                <a:solidFill>
                  <a:srgbClr val="000000"/>
                </a:solidFill>
                <a:latin typeface="Palatino"/>
              </a:endParaRPr>
            </a:p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Classification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: missing functionality</a:t>
              </a:r>
              <a:endParaRPr b="1" lang="en-US" sz="1800" spc="-1" strike="noStrike">
                <a:solidFill>
                  <a:srgbClr val="000000"/>
                </a:solidFill>
                <a:latin typeface="Palatino"/>
              </a:endParaRPr>
            </a:p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Severity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: severe</a:t>
              </a:r>
              <a:endParaRPr b="1" lang="en-US" sz="1800" spc="-1" strike="noStrike">
                <a:solidFill>
                  <a:srgbClr val="000000"/>
                </a:solidFill>
                <a:latin typeface="Palatino"/>
              </a:endParaRPr>
            </a:p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Proposed solution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: …</a:t>
              </a:r>
              <a:endParaRPr b="1" lang="en-US" sz="1800" spc="-1" strike="noStrike">
                <a:solidFill>
                  <a:srgbClr val="000000"/>
                </a:solidFill>
                <a:latin typeface="Palatino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Palatino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Unplanned Communication Event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3160" y="1257120"/>
            <a:ext cx="8001000" cy="140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ad14"/>
                </a:solidFill>
                <a:latin typeface="Verdana"/>
              </a:rPr>
              <a:t>Issue resolu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8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lects a single solution to a problem for which several solutions have been propo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8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s issue base to collect problems and proposal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rcRect l="7473" t="20609" r="9993" b="26092"/>
          <a:stretch/>
        </p:blipFill>
        <p:spPr>
          <a:xfrm>
            <a:off x="304920" y="2666880"/>
            <a:ext cx="8458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Synchronous Communication Mechanism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Smoke sign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Hallway convers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orts: Unplanned conversations, Request for clarification, request for chan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Font typeface="Time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eap and effective for resolving simple proble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ff33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ormation loss, misunderstandings are frequ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Meeting </a:t>
            </a: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(face-to-face, phone, video conferenc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orts: Planned conversations, client review, project review, status review, brainstorming, issue resolu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66ff66"/>
              </a:buClr>
              <a:buFont typeface="Time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ffective for issue resolution and consensus buil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ff33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igh cost (people, resources), low bandwidth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19040" y="221760"/>
            <a:ext cx="84074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Asynchronous Communication Mechanism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Verdana"/>
              </a:rPr>
              <a:t>E-Mai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pports: Release, change request, brainstorm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66ff66"/>
              </a:buClr>
              <a:buFont typeface="Time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deal for planned communication and announcement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ff33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-mail taken out of context can be misunderstood, sent to the wrong person, or los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Verdana"/>
              </a:rPr>
              <a:t>Newsgrou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pports: Release, change request, brainstorm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66ff66"/>
              </a:buClr>
              <a:buFont typeface="Time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ited for discussion among people who share a common interest; cheap (shareware availabl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ff33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imitive access control (often, you are either in or out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Verdana"/>
              </a:rPr>
              <a:t>World Wide Web (Porta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pports: Release, change request, inspec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66ff66"/>
              </a:buClr>
              <a:buFont typeface="Time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vide the user with a hypertext metaphor: Documents contain links to other documents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ff33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oes not easily support rapidly evolving document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Mechanisms for planned event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304920" y="1066680"/>
          <a:ext cx="8458200" cy="5154840"/>
        </p:xfrm>
        <a:graphic>
          <a:graphicData uri="http://schemas.openxmlformats.org/drawingml/2006/table">
            <a:tbl>
              <a:tblPr/>
              <a:tblGrid>
                <a:gridCol w="1409760"/>
                <a:gridCol w="1409400"/>
                <a:gridCol w="1409760"/>
                <a:gridCol w="1346400"/>
                <a:gridCol w="1650960"/>
                <a:gridCol w="1231920"/>
              </a:tblGrid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Palatino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blem definition/</a:t>
                      </a:r>
                      <a:br>
                        <a:rPr sz="1700"/>
                      </a:b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ainstorm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Palatino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ject/</a:t>
                      </a:r>
                      <a:br>
                        <a:rPr sz="1700"/>
                      </a:b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ient Review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Palatino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 Review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Palatino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pection/</a:t>
                      </a:r>
                      <a:br>
                        <a:rPr sz="1700"/>
                      </a:b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lkthrough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Palatino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lease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Palatino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llway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Palatino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Zapf Dingbats"/>
                          <a:ea typeface="Zapf Dingbats"/>
                        </a:rPr>
                        <a:t>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Palatino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Palatino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Zapf Dingbats"/>
                          <a:ea typeface="Zapf Dingbats"/>
                        </a:rPr>
                        <a:t>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Palatino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Palatino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Palatino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eting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Palatino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Zapf Dingbats"/>
                          <a:ea typeface="Zapf Dingbats"/>
                        </a:rPr>
                        <a:t>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Palatino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Zapf Dingbats"/>
                          <a:ea typeface="Zapf Dingbats"/>
                        </a:rPr>
                        <a:t>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Palatino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Zapf Dingbats"/>
                          <a:ea typeface="Zapf Dingbats"/>
                        </a:rPr>
                        <a:t>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Palatino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Zapf Dingbats"/>
                          <a:ea typeface="Zapf Dingbats"/>
                        </a:rPr>
                        <a:t>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Palatino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Palatino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ail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Palatino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Palatino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Palatino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Palatino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Palatino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Palatino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sgroup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Palatino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Zapf Dingbats"/>
                          <a:ea typeface="Zapf Dingbats"/>
                        </a:rPr>
                        <a:t>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Palatino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Palatino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Palatino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Palatino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Palatino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WW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Palatino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Palatino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Palatino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Palatino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Zapf Dingbats"/>
                          <a:ea typeface="Zapf Dingbats"/>
                        </a:rPr>
                        <a:t>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Palatino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Zapf Dingbats"/>
                          <a:ea typeface="Zapf Dingbats"/>
                        </a:rPr>
                        <a:t>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Palatino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6" name="AutoShape 58">
            <a:hlinkClick r:id="rId1" action="ppaction://hlinksldjump"/>
          </p:cNvPr>
          <p:cNvSpPr/>
          <p:nvPr/>
        </p:nvSpPr>
        <p:spPr>
          <a:xfrm>
            <a:off x="6908760" y="533520"/>
            <a:ext cx="330120" cy="253800"/>
          </a:xfrm>
          <a:custGeom>
            <a:avLst/>
            <a:gdLst>
              <a:gd name="textAreaLeft" fmla="*/ 16200 w 330120"/>
              <a:gd name="textAreaRight" fmla="*/ 313920 w 330120"/>
              <a:gd name="textAreaTop" fmla="*/ 16200 h 253800"/>
              <a:gd name="textAreaBottom" fmla="*/ 237600 h 253800"/>
            </a:gdLst>
            <a:ahLst/>
            <a:rect l="textAreaLeft" t="textAreaTop" r="textAreaRight" b="textAreaBottom"/>
            <a:pathLst>
              <a:path w="28086" h="21600">
                <a:moveTo>
                  <a:pt x="0" y="0"/>
                </a:moveTo>
                <a:lnTo>
                  <a:pt x="28086" y="0"/>
                </a:lnTo>
                <a:lnTo>
                  <a:pt x="28086" y="21600"/>
                </a:lnTo>
                <a:lnTo>
                  <a:pt x="0" y="21600"/>
                </a:lnTo>
                <a:close/>
              </a:path>
              <a:path fill="lightenLess" w="28086" h="21600">
                <a:moveTo>
                  <a:pt x="0" y="0"/>
                </a:moveTo>
                <a:lnTo>
                  <a:pt x="28086" y="0"/>
                </a:lnTo>
                <a:lnTo>
                  <a:pt x="26686" y="1400"/>
                </a:lnTo>
                <a:lnTo>
                  <a:pt x="1400" y="1400"/>
                </a:lnTo>
                <a:close/>
              </a:path>
              <a:path fill="darken" w="28086" h="21600">
                <a:moveTo>
                  <a:pt x="28086" y="0"/>
                </a:moveTo>
                <a:lnTo>
                  <a:pt x="28086" y="21600"/>
                </a:lnTo>
                <a:lnTo>
                  <a:pt x="26686" y="20200"/>
                </a:lnTo>
                <a:lnTo>
                  <a:pt x="26686" y="1400"/>
                </a:lnTo>
                <a:close/>
              </a:path>
              <a:path fill="darkenLess" w="28086" h="21600">
                <a:moveTo>
                  <a:pt x="280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86" y="20200"/>
                </a:lnTo>
                <a:close/>
              </a:path>
              <a:path fill="lighten" w="280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86" h="21600">
                <a:moveTo>
                  <a:pt x="7037" y="3794"/>
                </a:moveTo>
                <a:lnTo>
                  <a:pt x="21050" y="10800"/>
                </a:lnTo>
                <a:lnTo>
                  <a:pt x="7037" y="17806"/>
                </a:lnTo>
                <a:close/>
              </a:path>
            </a:pathLst>
          </a:custGeom>
          <a:solidFill>
            <a:srgbClr val="ffad1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Outline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cepts and terminolog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cation event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nned communic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planned commun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cation mechanis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ynchronous commun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ynchronous commun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cation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Mechanisms for unplanned event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304920" y="1066680"/>
          <a:ext cx="6095880" cy="514368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</a:tblGrid>
              <a:tr h="85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Palatino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quest for clarification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Palatino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nge request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Palatino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ssue resolution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Palatino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llway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Palatino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Zapf Dingbats"/>
                          <a:ea typeface="Zapf Dingbats"/>
                        </a:rPr>
                        <a:t>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Palatino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Palatino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Zapf Dingbats"/>
                          <a:ea typeface="Zapf Dingbats"/>
                        </a:rPr>
                        <a:t>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Palatino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eting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Palatino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Zapf Dingbats"/>
                          <a:ea typeface="Zapf Dingbats"/>
                        </a:rPr>
                        <a:t>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Palatino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Palatino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Zapf Dingbats"/>
                          <a:ea typeface="Zapf Dingbats"/>
                        </a:rPr>
                        <a:t>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Palatino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ail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Palatino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Zapf Dingbats"/>
                          <a:ea typeface="Zapf Dingbats"/>
                        </a:rPr>
                        <a:t>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Palatino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Zapf Dingbats"/>
                          <a:ea typeface="Zapf Dingbats"/>
                        </a:rPr>
                        <a:t>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Palatino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Palatino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sgroup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Palatino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Zapf Dingbats"/>
                          <a:ea typeface="Zapf Dingbats"/>
                        </a:rPr>
                        <a:t>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Palatino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Zapf Dingbats"/>
                          <a:ea typeface="Zapf Dingbats"/>
                        </a:rPr>
                        <a:t>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Palatino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Palatino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WW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Palatino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Palatino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Zapf Dingbats"/>
                          <a:ea typeface="Zapf Dingbats"/>
                        </a:rPr>
                        <a:t>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Palatino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Palatino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Outline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99"/>
                </a:solidFill>
                <a:latin typeface="Verdana"/>
              </a:rPr>
              <a:t>Concepts and terminolog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99"/>
                </a:solidFill>
                <a:latin typeface="Verdana"/>
              </a:rPr>
              <a:t>Communication event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Verdana"/>
              </a:rPr>
              <a:t>Planned communic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Verdana"/>
              </a:rPr>
              <a:t>Unplanned commun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99"/>
                </a:solidFill>
                <a:latin typeface="Verdana"/>
              </a:rPr>
              <a:t>Communication mechanis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Verdana"/>
              </a:rPr>
              <a:t>Synchronous commun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Verdana"/>
              </a:rPr>
              <a:t>Asynchronous commun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cation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Typical Initial Communication Activities in a Software Projec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derstand problem stat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oin a tea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hedule and attend team status meetin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oin the communication infrastructur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Understand the Problem Statemen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roblem statement is developed by the cli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so called scope state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problem statemen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escrib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current situ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functionality the new system should suppo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environment in which the system will be deploy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iverables expected by the cli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ivery da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iteria for acceptance tes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Join a Team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uring the project definition phase, the project manager forms a team for each subsyst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ditional cross-functional teams are formed to support the subsystem te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ch team has a team lea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ther roles can inclu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58080" indent="-21924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iguration manag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58080" indent="-21924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I-Liais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58080" indent="-21924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chnical wri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58080" indent="-21924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b mas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responsibilities of the team and the responsibilities each member must be defined to ensure the team succes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Attending Team Status Meeting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ortant part of a software project: The regular team meeting (weekly, daily,…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etings are often perceived as pure overhe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ortant task for the team leade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ain the teams in meeting manage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nounce agend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rite minu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eep track of action ite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how value of status mee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how time-saving improvemen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Join the Communication Infrastructure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160" y="118080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271440" indent="-2714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good communication infrastructure is the backbone of any software proje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51240" indent="-217080">
              <a:lnSpc>
                <a:spcPct val="8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b-Portal, e-mail, Newsgroups, Lotus No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1440" indent="-2714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arn to use the appropriate communication mechanism for the information at h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51240" indent="-217080">
              <a:lnSpc>
                <a:spcPct val="8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appropriateness of mechanisms may depend on the organizational cultur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1440" indent="-2714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gister for each communication mechanism which is used by the software proje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51240" indent="-217080">
              <a:lnSpc>
                <a:spcPct val="8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t an account, get train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1440" indent="-2714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estions to ask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51240" indent="-217080">
              <a:lnSpc>
                <a:spcPct val="8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re meetings scheduled in a calendar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51240" indent="-217080">
              <a:lnSpc>
                <a:spcPct val="8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es the project have a problem reporting system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51240" indent="-217080">
              <a:lnSpc>
                <a:spcPct val="8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 team members provide peer reviews in meetings or in written form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2"/>
          <p:cNvSpPr/>
          <p:nvPr/>
        </p:nvSpPr>
        <p:spPr>
          <a:xfrm>
            <a:off x="5678640" y="2287440"/>
            <a:ext cx="1914480" cy="46224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Typewriter"/>
              </a:rPr>
              <a:t>Work Product</a:t>
            </a:r>
            <a:endParaRPr b="1" lang="en-US" sz="1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2" name="Rectangle 24"/>
          <p:cNvSpPr/>
          <p:nvPr/>
        </p:nvSpPr>
        <p:spPr>
          <a:xfrm>
            <a:off x="1063800" y="2287440"/>
            <a:ext cx="1912680" cy="46224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Typewriter"/>
              </a:rPr>
              <a:t>Task</a:t>
            </a:r>
            <a:endParaRPr b="1" lang="en-US" sz="1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3" name="Rectangle 26"/>
          <p:cNvSpPr/>
          <p:nvPr/>
        </p:nvSpPr>
        <p:spPr>
          <a:xfrm>
            <a:off x="4368960" y="1158840"/>
            <a:ext cx="1914480" cy="44280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Typewriter"/>
              </a:rPr>
              <a:t>Participant</a:t>
            </a:r>
            <a:endParaRPr b="1" lang="en-US" sz="1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4" name="Rectangle 28"/>
          <p:cNvSpPr/>
          <p:nvPr/>
        </p:nvSpPr>
        <p:spPr>
          <a:xfrm>
            <a:off x="3985920" y="2297160"/>
            <a:ext cx="890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Typewriter"/>
              </a:rPr>
              <a:t>produces</a:t>
            </a:r>
            <a:endParaRPr b="1" lang="en-US" sz="1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5" name="Rectangle 29"/>
          <p:cNvSpPr/>
          <p:nvPr/>
        </p:nvSpPr>
        <p:spPr>
          <a:xfrm>
            <a:off x="1918080" y="2781360"/>
            <a:ext cx="11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Typewriter"/>
              </a:rPr>
              <a:t>*</a:t>
            </a:r>
            <a:endParaRPr b="1" lang="en-US" sz="1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6" name="Rectangle 30"/>
          <p:cNvSpPr/>
          <p:nvPr/>
        </p:nvSpPr>
        <p:spPr>
          <a:xfrm>
            <a:off x="2716200" y="1722600"/>
            <a:ext cx="1914480" cy="46332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Typewriter"/>
              </a:rPr>
              <a:t>Role</a:t>
            </a:r>
            <a:endParaRPr b="1" lang="en-US" sz="1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7" name="Rectangle 32"/>
          <p:cNvSpPr/>
          <p:nvPr/>
        </p:nvSpPr>
        <p:spPr>
          <a:xfrm>
            <a:off x="3240000" y="2871720"/>
            <a:ext cx="1933560" cy="4431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Typewriter"/>
              </a:rPr>
              <a:t>Schedule</a:t>
            </a:r>
            <a:endParaRPr b="1" lang="en-US" sz="1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8" name="Rectangle 34"/>
          <p:cNvSpPr/>
          <p:nvPr/>
        </p:nvSpPr>
        <p:spPr>
          <a:xfrm>
            <a:off x="6000840" y="573120"/>
            <a:ext cx="1915920" cy="46368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Typewriter"/>
              </a:rPr>
              <a:t>Team</a:t>
            </a:r>
            <a:endParaRPr b="1" lang="en-US" sz="1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9" name="Freeform 36"/>
          <p:cNvSpPr/>
          <p:nvPr/>
        </p:nvSpPr>
        <p:spPr>
          <a:xfrm>
            <a:off x="2050920" y="1943280"/>
            <a:ext cx="665280" cy="323640"/>
          </a:xfrm>
          <a:prstGeom prst="pie">
            <a:avLst/>
          </a:pr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30" name="Line 37"/>
          <p:cNvSpPr/>
          <p:nvPr/>
        </p:nvSpPr>
        <p:spPr>
          <a:xfrm>
            <a:off x="2957400" y="2509920"/>
            <a:ext cx="272124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31" name="Rectangle 38"/>
          <p:cNvSpPr/>
          <p:nvPr/>
        </p:nvSpPr>
        <p:spPr>
          <a:xfrm>
            <a:off x="1918080" y="2116080"/>
            <a:ext cx="11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Typewriter"/>
              </a:rPr>
              <a:t>*</a:t>
            </a:r>
            <a:endParaRPr b="1" lang="en-US" sz="1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32" name="Rectangle 39"/>
          <p:cNvSpPr/>
          <p:nvPr/>
        </p:nvSpPr>
        <p:spPr>
          <a:xfrm>
            <a:off x="5497920" y="2600280"/>
            <a:ext cx="11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Typewriter"/>
              </a:rPr>
              <a:t>*</a:t>
            </a:r>
            <a:endParaRPr b="1" lang="en-US" sz="1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33" name="Freeform 40"/>
          <p:cNvSpPr/>
          <p:nvPr/>
        </p:nvSpPr>
        <p:spPr>
          <a:xfrm>
            <a:off x="2070000" y="2749680"/>
            <a:ext cx="1170000" cy="303120"/>
          </a:xfrm>
          <a:prstGeom prst="pie">
            <a:avLst/>
          </a:pr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34" name="Rectangle 41"/>
          <p:cNvSpPr/>
          <p:nvPr/>
        </p:nvSpPr>
        <p:spPr>
          <a:xfrm>
            <a:off x="2100240" y="3081240"/>
            <a:ext cx="1041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Typewriter"/>
              </a:rPr>
              <a:t>mapped to</a:t>
            </a:r>
            <a:endParaRPr b="1" lang="en-US" sz="1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35" name="Rectangle 42"/>
          <p:cNvSpPr/>
          <p:nvPr/>
        </p:nvSpPr>
        <p:spPr>
          <a:xfrm>
            <a:off x="3033360" y="254628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Typewriter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36" name="Rectangle 43"/>
          <p:cNvSpPr/>
          <p:nvPr/>
        </p:nvSpPr>
        <p:spPr>
          <a:xfrm>
            <a:off x="2594880" y="1149480"/>
            <a:ext cx="1437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Typewriter"/>
              </a:rPr>
              <a:t>responsible for</a:t>
            </a:r>
            <a:endParaRPr b="1" lang="en-US" sz="1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37" name="Rectangle 44"/>
          <p:cNvSpPr/>
          <p:nvPr/>
        </p:nvSpPr>
        <p:spPr>
          <a:xfrm>
            <a:off x="4022640" y="1246320"/>
            <a:ext cx="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38" name="Freeform 45"/>
          <p:cNvSpPr/>
          <p:nvPr/>
        </p:nvSpPr>
        <p:spPr>
          <a:xfrm>
            <a:off x="3421080" y="1379520"/>
            <a:ext cx="947880" cy="343080"/>
          </a:xfrm>
          <a:prstGeom prst="pie">
            <a:avLst/>
          </a:pr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39" name="Rectangle 46"/>
          <p:cNvSpPr/>
          <p:nvPr/>
        </p:nvSpPr>
        <p:spPr>
          <a:xfrm>
            <a:off x="3289680" y="1569960"/>
            <a:ext cx="11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Typewriter"/>
              </a:rPr>
              <a:t>*</a:t>
            </a:r>
            <a:endParaRPr b="1" lang="en-US" sz="1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40" name="Rectangle 47"/>
          <p:cNvSpPr/>
          <p:nvPr/>
        </p:nvSpPr>
        <p:spPr>
          <a:xfrm>
            <a:off x="4214520" y="142560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Typewriter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41" name="Rectangle 48"/>
          <p:cNvSpPr/>
          <p:nvPr/>
        </p:nvSpPr>
        <p:spPr>
          <a:xfrm>
            <a:off x="4644360" y="54612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Typewriter"/>
              </a:rPr>
              <a:t>assigned to</a:t>
            </a:r>
            <a:endParaRPr b="1" lang="en-US" sz="1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42" name="Freeform 49"/>
          <p:cNvSpPr/>
          <p:nvPr/>
        </p:nvSpPr>
        <p:spPr>
          <a:xfrm>
            <a:off x="5354640" y="814320"/>
            <a:ext cx="646200" cy="324000"/>
          </a:xfrm>
          <a:prstGeom prst="pie">
            <a:avLst/>
          </a:pr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43" name="Rectangle 50"/>
          <p:cNvSpPr/>
          <p:nvPr/>
        </p:nvSpPr>
        <p:spPr>
          <a:xfrm>
            <a:off x="5210280" y="985680"/>
            <a:ext cx="11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Typewriter"/>
              </a:rPr>
              <a:t>*</a:t>
            </a:r>
            <a:endParaRPr b="1" lang="en-US" sz="1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44" name="Rectangle 51"/>
          <p:cNvSpPr/>
          <p:nvPr/>
        </p:nvSpPr>
        <p:spPr>
          <a:xfrm>
            <a:off x="5856480" y="851040"/>
            <a:ext cx="11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Typewriter"/>
              </a:rPr>
              <a:t>*</a:t>
            </a:r>
            <a:endParaRPr b="1" lang="en-US" sz="1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45" name="Rectangle 65"/>
          <p:cNvSpPr/>
          <p:nvPr/>
        </p:nvSpPr>
        <p:spPr>
          <a:xfrm>
            <a:off x="7189920" y="2801880"/>
            <a:ext cx="11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Typewriter"/>
              </a:rPr>
              <a:t>*</a:t>
            </a:r>
            <a:endParaRPr b="1" lang="en-US" sz="16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246" name="Group 89"/>
          <p:cNvGrpSpPr/>
          <p:nvPr/>
        </p:nvGrpSpPr>
        <p:grpSpPr>
          <a:xfrm>
            <a:off x="762120" y="2749680"/>
            <a:ext cx="7315200" cy="3851280"/>
            <a:chOff x="762120" y="2749680"/>
            <a:chExt cx="7315200" cy="3851280"/>
          </a:xfrm>
        </p:grpSpPr>
        <p:sp>
          <p:nvSpPr>
            <p:cNvPr id="247" name="Freeform 62"/>
            <p:cNvSpPr/>
            <p:nvPr/>
          </p:nvSpPr>
          <p:spPr>
            <a:xfrm>
              <a:off x="6504120" y="2749680"/>
              <a:ext cx="826920" cy="1633320"/>
            </a:xfrm>
            <a:prstGeom prst="pie">
              <a:avLst/>
            </a:pr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grpSp>
          <p:nvGrpSpPr>
            <p:cNvPr id="248" name="Group 88"/>
            <p:cNvGrpSpPr/>
            <p:nvPr/>
          </p:nvGrpSpPr>
          <p:grpSpPr>
            <a:xfrm>
              <a:off x="762120" y="3314880"/>
              <a:ext cx="7315200" cy="3286080"/>
              <a:chOff x="762120" y="3314880"/>
              <a:chExt cx="7315200" cy="3286080"/>
            </a:xfrm>
          </p:grpSpPr>
          <p:sp>
            <p:nvSpPr>
              <p:cNvPr id="249" name="Freeform 64"/>
              <p:cNvSpPr/>
              <p:nvPr/>
            </p:nvSpPr>
            <p:spPr>
              <a:xfrm>
                <a:off x="3240000" y="3314880"/>
                <a:ext cx="989280" cy="1089000"/>
              </a:xfrm>
              <a:prstGeom prst="pie">
                <a:avLst/>
              </a:pr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250" name="Rectangle 3"/>
              <p:cNvSpPr/>
              <p:nvPr/>
            </p:nvSpPr>
            <p:spPr>
              <a:xfrm>
                <a:off x="2011320" y="5430960"/>
                <a:ext cx="1914480" cy="463320"/>
              </a:xfrm>
              <a:prstGeom prst="rect">
                <a:avLst/>
              </a:prstGeom>
              <a:noFill/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Lucida Sans Typewriter"/>
                  </a:rPr>
                  <a:t>Review</a:t>
                </a:r>
                <a:endParaRPr b="1" lang="en-US" sz="16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251" name="Rectangle 5"/>
              <p:cNvSpPr/>
              <p:nvPr/>
            </p:nvSpPr>
            <p:spPr>
              <a:xfrm>
                <a:off x="5396040" y="4807080"/>
                <a:ext cx="1914480" cy="442800"/>
              </a:xfrm>
              <a:prstGeom prst="rect">
                <a:avLst/>
              </a:prstGeom>
              <a:noFill/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Lucida Sans Typewriter"/>
                  </a:rPr>
                  <a:t>Request for Clarification</a:t>
                </a:r>
                <a:endParaRPr b="1" lang="en-US" sz="16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252" name="Rectangle 7"/>
              <p:cNvSpPr/>
              <p:nvPr/>
            </p:nvSpPr>
            <p:spPr>
              <a:xfrm>
                <a:off x="1144440" y="4162320"/>
                <a:ext cx="2095560" cy="463680"/>
              </a:xfrm>
              <a:prstGeom prst="rect">
                <a:avLst/>
              </a:prstGeom>
              <a:noFill/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Lucida Sans Typewriter"/>
                  </a:rPr>
                  <a:t>Planned Event</a:t>
                </a:r>
                <a:endParaRPr b="1" lang="en-US" sz="16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253" name="Rectangle 10"/>
              <p:cNvSpPr/>
              <p:nvPr/>
            </p:nvSpPr>
            <p:spPr>
              <a:xfrm>
                <a:off x="5396040" y="6056280"/>
                <a:ext cx="1914480" cy="463680"/>
              </a:xfrm>
              <a:prstGeom prst="rect">
                <a:avLst/>
              </a:prstGeom>
              <a:noFill/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Lucida Sans Typewriter"/>
                  </a:rPr>
                  <a:t>Issue Resolution</a:t>
                </a:r>
                <a:endParaRPr b="1" lang="en-US" sz="16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254" name="Rectangle 12"/>
              <p:cNvSpPr/>
              <p:nvPr/>
            </p:nvSpPr>
            <p:spPr>
              <a:xfrm>
                <a:off x="2011320" y="6056280"/>
                <a:ext cx="1914480" cy="463680"/>
              </a:xfrm>
              <a:prstGeom prst="rect">
                <a:avLst/>
              </a:prstGeom>
              <a:noFill/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Lucida Sans Typewriter"/>
                  </a:rPr>
                  <a:t>Release</a:t>
                </a:r>
                <a:endParaRPr b="1" lang="en-US" sz="16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255" name="Rectangle 14"/>
              <p:cNvSpPr/>
              <p:nvPr/>
            </p:nvSpPr>
            <p:spPr>
              <a:xfrm>
                <a:off x="4410000" y="4162320"/>
                <a:ext cx="2114640" cy="463680"/>
              </a:xfrm>
              <a:prstGeom prst="rect">
                <a:avLst/>
              </a:prstGeom>
              <a:noFill/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Lucida Sans Typewriter"/>
                  </a:rPr>
                  <a:t>Unplanned Event</a:t>
                </a:r>
                <a:endParaRPr b="1" lang="en-US" sz="16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256" name="Rectangle 17"/>
              <p:cNvSpPr/>
              <p:nvPr/>
            </p:nvSpPr>
            <p:spPr>
              <a:xfrm>
                <a:off x="2011320" y="4807080"/>
                <a:ext cx="1914480" cy="442800"/>
              </a:xfrm>
              <a:prstGeom prst="rect">
                <a:avLst/>
              </a:prstGeom>
              <a:noFill/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Lucida Sans Typewriter"/>
                  </a:rPr>
                  <a:t>Problem Definition</a:t>
                </a:r>
                <a:endParaRPr b="1" lang="en-US" sz="16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257" name="Rectangle 19"/>
              <p:cNvSpPr/>
              <p:nvPr/>
            </p:nvSpPr>
            <p:spPr>
              <a:xfrm>
                <a:off x="5396040" y="5430960"/>
                <a:ext cx="1914480" cy="463320"/>
              </a:xfrm>
              <a:prstGeom prst="rect">
                <a:avLst/>
              </a:prstGeom>
              <a:noFill/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Lucida Sans Typewriter"/>
                  </a:rPr>
                  <a:t>Change Request</a:t>
                </a:r>
                <a:endParaRPr b="1" lang="en-US" sz="16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258" name="Freeform 52"/>
              <p:cNvSpPr/>
              <p:nvPr/>
            </p:nvSpPr>
            <p:spPr>
              <a:xfrm>
                <a:off x="1386000" y="4626000"/>
                <a:ext cx="260280" cy="220680"/>
              </a:xfrm>
              <a:prstGeom prst="pie">
                <a:avLst/>
              </a:pr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259" name="Line 53"/>
              <p:cNvSpPr/>
              <p:nvPr/>
            </p:nvSpPr>
            <p:spPr>
              <a:xfrm flipV="1">
                <a:off x="1527120" y="4867200"/>
                <a:ext cx="1800" cy="140976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260" name="Line 54"/>
              <p:cNvSpPr/>
              <p:nvPr/>
            </p:nvSpPr>
            <p:spPr>
              <a:xfrm>
                <a:off x="1527120" y="6276960"/>
                <a:ext cx="463680" cy="32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261" name="Line 55"/>
              <p:cNvSpPr/>
              <p:nvPr/>
            </p:nvSpPr>
            <p:spPr>
              <a:xfrm>
                <a:off x="1527120" y="5653080"/>
                <a:ext cx="48420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262" name="Line 56"/>
              <p:cNvSpPr/>
              <p:nvPr/>
            </p:nvSpPr>
            <p:spPr>
              <a:xfrm>
                <a:off x="1527120" y="5008680"/>
                <a:ext cx="46368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263" name="Freeform 57"/>
              <p:cNvSpPr/>
              <p:nvPr/>
            </p:nvSpPr>
            <p:spPr>
              <a:xfrm>
                <a:off x="4772160" y="4626000"/>
                <a:ext cx="261720" cy="220680"/>
              </a:xfrm>
              <a:prstGeom prst="pie">
                <a:avLst/>
              </a:pr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264" name="Line 58"/>
              <p:cNvSpPr/>
              <p:nvPr/>
            </p:nvSpPr>
            <p:spPr>
              <a:xfrm flipV="1">
                <a:off x="4911840" y="4867200"/>
                <a:ext cx="1440" cy="140976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265" name="Line 59"/>
              <p:cNvSpPr/>
              <p:nvPr/>
            </p:nvSpPr>
            <p:spPr>
              <a:xfrm>
                <a:off x="4911840" y="6276960"/>
                <a:ext cx="463320" cy="32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266" name="Line 60"/>
              <p:cNvSpPr/>
              <p:nvPr/>
            </p:nvSpPr>
            <p:spPr>
              <a:xfrm>
                <a:off x="4911840" y="5653080"/>
                <a:ext cx="48420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267" name="Line 61"/>
              <p:cNvSpPr/>
              <p:nvPr/>
            </p:nvSpPr>
            <p:spPr>
              <a:xfrm>
                <a:off x="4911840" y="5008680"/>
                <a:ext cx="46332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268" name="Rectangle 63"/>
              <p:cNvSpPr/>
              <p:nvPr/>
            </p:nvSpPr>
            <p:spPr>
              <a:xfrm>
                <a:off x="6896880" y="4356000"/>
                <a:ext cx="863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Lucida Sans Typewriter"/>
                  </a:rPr>
                  <a:t>concerns</a:t>
                </a:r>
                <a:endParaRPr b="1" lang="en-US" sz="16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269" name="Rectangle 66"/>
              <p:cNvSpPr/>
              <p:nvPr/>
            </p:nvSpPr>
            <p:spPr>
              <a:xfrm>
                <a:off x="6561360" y="4433760"/>
                <a:ext cx="111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Lucida Sans Typewriter"/>
                  </a:rPr>
                  <a:t>*</a:t>
                </a:r>
                <a:endParaRPr b="1" lang="en-US" sz="16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270" name="Rectangle 67"/>
              <p:cNvSpPr/>
              <p:nvPr/>
            </p:nvSpPr>
            <p:spPr>
              <a:xfrm>
                <a:off x="3321360" y="4456080"/>
                <a:ext cx="111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Lucida Sans Typewriter"/>
                  </a:rPr>
                  <a:t>*</a:t>
                </a:r>
                <a:endParaRPr b="1" lang="en-US" sz="16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271" name="Rectangle 70"/>
              <p:cNvSpPr/>
              <p:nvPr/>
            </p:nvSpPr>
            <p:spPr>
              <a:xfrm>
                <a:off x="3317760" y="4170240"/>
                <a:ext cx="775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Lucida Sans Typewriter"/>
                  </a:rPr>
                  <a:t>appears</a:t>
                </a:r>
                <a:endParaRPr b="1" lang="en-US" sz="16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272" name="Rectangle 76"/>
              <p:cNvSpPr/>
              <p:nvPr/>
            </p:nvSpPr>
            <p:spPr>
              <a:xfrm>
                <a:off x="762120" y="3819600"/>
                <a:ext cx="7315200" cy="27813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273" name="Rectangle 77"/>
              <p:cNvSpPr/>
              <p:nvPr/>
            </p:nvSpPr>
            <p:spPr>
              <a:xfrm>
                <a:off x="1105560" y="3517920"/>
                <a:ext cx="1514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Lucida Sans Typewriter"/>
                  </a:rPr>
                  <a:t>Communication</a:t>
                </a:r>
                <a:endParaRPr b="1" lang="en-US" sz="16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274" name="Freeform 78"/>
              <p:cNvSpPr/>
              <p:nvPr/>
            </p:nvSpPr>
            <p:spPr>
              <a:xfrm>
                <a:off x="762120" y="3456000"/>
                <a:ext cx="222120" cy="363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275" name="Freeform 79"/>
              <p:cNvSpPr/>
              <p:nvPr/>
            </p:nvSpPr>
            <p:spPr>
              <a:xfrm>
                <a:off x="963720" y="3456000"/>
                <a:ext cx="1812960" cy="41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276" name="Freeform 80"/>
              <p:cNvSpPr/>
              <p:nvPr/>
            </p:nvSpPr>
            <p:spPr>
              <a:xfrm>
                <a:off x="2735280" y="3476520"/>
                <a:ext cx="241200" cy="343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277" name="Rectangle 68"/>
              <p:cNvSpPr/>
              <p:nvPr/>
            </p:nvSpPr>
            <p:spPr>
              <a:xfrm>
                <a:off x="4061880" y="3384720"/>
                <a:ext cx="116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Lucida Sans Typewriter"/>
                  </a:rPr>
                  <a:t>1</a:t>
                </a:r>
                <a:endParaRPr b="1" lang="en-US" sz="16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</p:grpSp>
      </p:grpSp>
      <p:sp>
        <p:nvSpPr>
          <p:cNvPr id="278" name="Rectangle 69"/>
          <p:cNvSpPr/>
          <p:nvPr/>
        </p:nvSpPr>
        <p:spPr>
          <a:xfrm>
            <a:off x="3093480" y="283536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Typewriter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79" name="Rectangle 71"/>
          <p:cNvSpPr/>
          <p:nvPr/>
        </p:nvSpPr>
        <p:spPr>
          <a:xfrm>
            <a:off x="762120" y="411120"/>
            <a:ext cx="7315200" cy="3408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80" name="Rectangle 72"/>
          <p:cNvSpPr/>
          <p:nvPr/>
        </p:nvSpPr>
        <p:spPr>
          <a:xfrm>
            <a:off x="1257120" y="149400"/>
            <a:ext cx="1241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Typewriter"/>
              </a:rPr>
              <a:t>Organization</a:t>
            </a:r>
            <a:endParaRPr b="1" lang="en-US" sz="1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81" name="Freeform 73"/>
          <p:cNvSpPr/>
          <p:nvPr/>
        </p:nvSpPr>
        <p:spPr>
          <a:xfrm>
            <a:off x="762120" y="90360"/>
            <a:ext cx="222120" cy="341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82" name="Freeform 74"/>
          <p:cNvSpPr/>
          <p:nvPr/>
        </p:nvSpPr>
        <p:spPr>
          <a:xfrm>
            <a:off x="963720" y="90360"/>
            <a:ext cx="1812960" cy="38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83" name="Freeform 75"/>
          <p:cNvSpPr/>
          <p:nvPr/>
        </p:nvSpPr>
        <p:spPr>
          <a:xfrm>
            <a:off x="2735280" y="111240"/>
            <a:ext cx="241200" cy="320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84" name="Freeform 81"/>
          <p:cNvSpPr/>
          <p:nvPr/>
        </p:nvSpPr>
        <p:spPr>
          <a:xfrm>
            <a:off x="2475000" y="1882800"/>
            <a:ext cx="260280" cy="122040"/>
          </a:xfrm>
          <a:prstGeom prst="pie">
            <a:avLst/>
          </a:prstGeom>
          <a:solidFill>
            <a:srgbClr val="ffff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Summary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Communication Ev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nned (stipulated by the schedul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planned (driven by unexpected event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Communication Mechanis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ynchronous communication mechanis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ynchronous communication mechanis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Important events and mechanisms in a software proje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ekly mee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ject review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line communication mechanisms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cussion forum, email, web (Wik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Backup Slide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solidFill>
            <a:srgbClr val="ffad14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2724120" y="3841920"/>
            <a:ext cx="3479760" cy="1155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ir of Wires</a:t>
            </a:r>
            <a:endParaRPr b="1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Line 3"/>
          <p:cNvSpPr/>
          <p:nvPr/>
        </p:nvSpPr>
        <p:spPr>
          <a:xfrm>
            <a:off x="1714680" y="4051440"/>
            <a:ext cx="977760" cy="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Line 4"/>
          <p:cNvSpPr/>
          <p:nvPr/>
        </p:nvSpPr>
        <p:spPr>
          <a:xfrm>
            <a:off x="1676520" y="4660920"/>
            <a:ext cx="1003320" cy="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Line 5"/>
          <p:cNvSpPr/>
          <p:nvPr/>
        </p:nvSpPr>
        <p:spPr>
          <a:xfrm>
            <a:off x="6248520" y="4673520"/>
            <a:ext cx="914400" cy="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Line 6"/>
          <p:cNvSpPr/>
          <p:nvPr/>
        </p:nvSpPr>
        <p:spPr>
          <a:xfrm>
            <a:off x="6222960" y="4081320"/>
            <a:ext cx="990720" cy="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684360" y="3824280"/>
            <a:ext cx="1019160" cy="1190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ox 1</a:t>
            </a:r>
            <a:endParaRPr b="1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7151760" y="3824280"/>
            <a:ext cx="1019160" cy="1190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ox 2</a:t>
            </a:r>
            <a:endParaRPr b="1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A Communication Example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om an Airplane Crash report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"Two missile electrical boxes manufactured by different contractors were joined together by a pair of wires.”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Ingredients of a Problem Statemen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33520" y="110448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Current situ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10200" indent="-2034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problem to be solv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0200" indent="-2034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cription of one or more scenar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Requirement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10200" indent="-2034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nctional and nonfunctional requirem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0200" indent="-2034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traints (“pseudo requirements”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Target enviro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10200" indent="-2034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environment in which the delivered system has to perform a specified set of system tes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Project schedu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10200" indent="-2034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jor milestones that involve interaction with the cli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cluding deadline for delivery of the syst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Client acceptance criter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10200" indent="-2034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iteria for the system tes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2724120" y="3841920"/>
            <a:ext cx="3479760" cy="1155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7" name="Line 3"/>
          <p:cNvSpPr/>
          <p:nvPr/>
        </p:nvSpPr>
        <p:spPr>
          <a:xfrm>
            <a:off x="1714680" y="4051440"/>
            <a:ext cx="977760" cy="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8" name="Line 4"/>
          <p:cNvSpPr/>
          <p:nvPr/>
        </p:nvSpPr>
        <p:spPr>
          <a:xfrm>
            <a:off x="1676520" y="4660920"/>
            <a:ext cx="1003320" cy="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9" name="Line 5"/>
          <p:cNvSpPr/>
          <p:nvPr/>
        </p:nvSpPr>
        <p:spPr>
          <a:xfrm>
            <a:off x="6248520" y="4689360"/>
            <a:ext cx="914400" cy="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0" name="Line 6"/>
          <p:cNvSpPr/>
          <p:nvPr/>
        </p:nvSpPr>
        <p:spPr>
          <a:xfrm>
            <a:off x="6189840" y="4114800"/>
            <a:ext cx="990360" cy="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1" name="Line 7"/>
          <p:cNvSpPr/>
          <p:nvPr/>
        </p:nvSpPr>
        <p:spPr>
          <a:xfrm flipV="1">
            <a:off x="2735280" y="4122720"/>
            <a:ext cx="3436920" cy="542880"/>
          </a:xfrm>
          <a:prstGeom prst="line">
            <a:avLst/>
          </a:prstGeom>
          <a:ln w="50760">
            <a:solidFill>
              <a:srgbClr val="6e00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2" name="Line 8"/>
          <p:cNvSpPr/>
          <p:nvPr/>
        </p:nvSpPr>
        <p:spPr>
          <a:xfrm>
            <a:off x="2735280" y="4051440"/>
            <a:ext cx="3454560" cy="609480"/>
          </a:xfrm>
          <a:prstGeom prst="line">
            <a:avLst/>
          </a:prstGeom>
          <a:ln w="507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684360" y="3824280"/>
            <a:ext cx="1019160" cy="1190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ox 1</a:t>
            </a:r>
            <a:endParaRPr b="1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7151760" y="3824280"/>
            <a:ext cx="1019160" cy="1190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ox 2</a:t>
            </a:r>
            <a:endParaRPr b="1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A Communication Example (continued)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anks to a particular thorough preflight check, it was discovered that the wires had been reversed."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After the Crash...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"The postflight analysis revealed that the contractors had indeed corrected the reversed wires as instructed."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450720" y="1511280"/>
            <a:ext cx="825516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fact, both of them had.”</a:t>
            </a: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10" name="Group 24"/>
          <p:cNvGrpSpPr/>
          <p:nvPr/>
        </p:nvGrpSpPr>
        <p:grpSpPr>
          <a:xfrm>
            <a:off x="684360" y="4524480"/>
            <a:ext cx="7486560" cy="1190520"/>
            <a:chOff x="684360" y="4524480"/>
            <a:chExt cx="7486560" cy="1190520"/>
          </a:xfrm>
        </p:grpSpPr>
        <p:sp>
          <p:nvSpPr>
            <p:cNvPr id="111" name="Rectangle 3"/>
            <p:cNvSpPr/>
            <p:nvPr/>
          </p:nvSpPr>
          <p:spPr>
            <a:xfrm>
              <a:off x="2724120" y="4541760"/>
              <a:ext cx="3479760" cy="1155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112" name="Line 4"/>
            <p:cNvSpPr/>
            <p:nvPr/>
          </p:nvSpPr>
          <p:spPr>
            <a:xfrm>
              <a:off x="1714680" y="5361120"/>
              <a:ext cx="977760" cy="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113" name="Line 5"/>
            <p:cNvSpPr/>
            <p:nvPr/>
          </p:nvSpPr>
          <p:spPr>
            <a:xfrm>
              <a:off x="1676520" y="4802040"/>
              <a:ext cx="1003320" cy="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114" name="Line 6"/>
            <p:cNvSpPr/>
            <p:nvPr/>
          </p:nvSpPr>
          <p:spPr>
            <a:xfrm>
              <a:off x="6281640" y="4830840"/>
              <a:ext cx="914400" cy="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115" name="Line 7"/>
            <p:cNvSpPr/>
            <p:nvPr/>
          </p:nvSpPr>
          <p:spPr>
            <a:xfrm>
              <a:off x="6189840" y="5356080"/>
              <a:ext cx="990360" cy="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116" name="Line 8"/>
            <p:cNvSpPr/>
            <p:nvPr/>
          </p:nvSpPr>
          <p:spPr>
            <a:xfrm>
              <a:off x="2743200" y="4815000"/>
              <a:ext cx="3429000" cy="533160"/>
            </a:xfrm>
            <a:prstGeom prst="line">
              <a:avLst/>
            </a:prstGeom>
            <a:ln w="50760">
              <a:solidFill>
                <a:srgbClr val="6e0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117" name="Line 9"/>
            <p:cNvSpPr/>
            <p:nvPr/>
          </p:nvSpPr>
          <p:spPr>
            <a:xfrm flipV="1">
              <a:off x="2819520" y="4814640"/>
              <a:ext cx="3352680" cy="533160"/>
            </a:xfrm>
            <a:prstGeom prst="line">
              <a:avLst/>
            </a:prstGeom>
            <a:ln w="507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118" name="Rectangle 10"/>
            <p:cNvSpPr/>
            <p:nvPr/>
          </p:nvSpPr>
          <p:spPr>
            <a:xfrm>
              <a:off x="684360" y="4524480"/>
              <a:ext cx="1019160" cy="1190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ox 1</a:t>
              </a:r>
              <a:endParaRPr b="1" lang="en-US" sz="18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119" name="Rectangle 11"/>
            <p:cNvSpPr/>
            <p:nvPr/>
          </p:nvSpPr>
          <p:spPr>
            <a:xfrm>
              <a:off x="7151760" y="4524480"/>
              <a:ext cx="1019160" cy="1190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ox 2</a:t>
              </a:r>
              <a:endParaRPr b="1" lang="en-US" sz="1800" spc="-1" strike="noStrike">
                <a:solidFill>
                  <a:srgbClr val="000000"/>
                </a:solidFill>
                <a:latin typeface="Palatino"/>
              </a:endParaRPr>
            </a:p>
          </p:txBody>
        </p:sp>
      </p:grpSp>
      <p:grpSp>
        <p:nvGrpSpPr>
          <p:cNvPr id="120" name="Group 21"/>
          <p:cNvGrpSpPr/>
          <p:nvPr/>
        </p:nvGrpSpPr>
        <p:grpSpPr>
          <a:xfrm>
            <a:off x="684360" y="2286000"/>
            <a:ext cx="7486560" cy="1190520"/>
            <a:chOff x="684360" y="2286000"/>
            <a:chExt cx="7486560" cy="1190520"/>
          </a:xfrm>
        </p:grpSpPr>
        <p:sp>
          <p:nvSpPr>
            <p:cNvPr id="121" name="Rectangle 12"/>
            <p:cNvSpPr/>
            <p:nvPr/>
          </p:nvSpPr>
          <p:spPr>
            <a:xfrm>
              <a:off x="2724120" y="2303640"/>
              <a:ext cx="3479760" cy="1155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122" name="Line 13"/>
            <p:cNvSpPr/>
            <p:nvPr/>
          </p:nvSpPr>
          <p:spPr>
            <a:xfrm>
              <a:off x="1714680" y="2513160"/>
              <a:ext cx="977760" cy="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123" name="Line 14"/>
            <p:cNvSpPr/>
            <p:nvPr/>
          </p:nvSpPr>
          <p:spPr>
            <a:xfrm>
              <a:off x="1676520" y="3122640"/>
              <a:ext cx="1003320" cy="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124" name="Line 15"/>
            <p:cNvSpPr/>
            <p:nvPr/>
          </p:nvSpPr>
          <p:spPr>
            <a:xfrm>
              <a:off x="6248520" y="3151080"/>
              <a:ext cx="914400" cy="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125" name="Line 16"/>
            <p:cNvSpPr/>
            <p:nvPr/>
          </p:nvSpPr>
          <p:spPr>
            <a:xfrm>
              <a:off x="6189840" y="2576520"/>
              <a:ext cx="990360" cy="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126" name="Line 17"/>
            <p:cNvSpPr/>
            <p:nvPr/>
          </p:nvSpPr>
          <p:spPr>
            <a:xfrm flipV="1">
              <a:off x="2735280" y="2584440"/>
              <a:ext cx="3436920" cy="542880"/>
            </a:xfrm>
            <a:prstGeom prst="line">
              <a:avLst/>
            </a:prstGeom>
            <a:ln w="50760">
              <a:solidFill>
                <a:srgbClr val="6e0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127" name="Line 18"/>
            <p:cNvSpPr/>
            <p:nvPr/>
          </p:nvSpPr>
          <p:spPr>
            <a:xfrm>
              <a:off x="2735280" y="2558880"/>
              <a:ext cx="3470400" cy="525600"/>
            </a:xfrm>
            <a:prstGeom prst="line">
              <a:avLst/>
            </a:prstGeom>
            <a:ln w="507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128" name="Rectangle 19"/>
            <p:cNvSpPr/>
            <p:nvPr/>
          </p:nvSpPr>
          <p:spPr>
            <a:xfrm>
              <a:off x="684360" y="2286000"/>
              <a:ext cx="1019160" cy="1190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ox 1</a:t>
              </a:r>
              <a:endParaRPr b="1" lang="en-US" sz="18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129" name="Rectangle 20"/>
            <p:cNvSpPr/>
            <p:nvPr/>
          </p:nvSpPr>
          <p:spPr>
            <a:xfrm>
              <a:off x="7151760" y="2286000"/>
              <a:ext cx="1019160" cy="1190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ox 2</a:t>
              </a:r>
              <a:endParaRPr b="1" lang="en-US" sz="1800" spc="-1" strike="noStrike">
                <a:solidFill>
                  <a:srgbClr val="000000"/>
                </a:solidFill>
                <a:latin typeface="Palatino"/>
              </a:endParaRPr>
            </a:p>
          </p:txBody>
        </p:sp>
      </p:grpSp>
      <p:sp>
        <p:nvSpPr>
          <p:cNvPr id="130" name="AutoShape 22"/>
          <p:cNvSpPr/>
          <p:nvPr/>
        </p:nvSpPr>
        <p:spPr>
          <a:xfrm>
            <a:off x="3886200" y="3733920"/>
            <a:ext cx="83808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ommunication is critical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large system development efforts, you will spend more time communicating than cod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software engineer needs to learn the so-called soft skills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Verdana"/>
              </a:rPr>
              <a:t>Collabo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gotiate requirements with the client and with members from your team and other tea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Verdana"/>
              </a:rPr>
              <a:t>Presen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 a major part of the system during a revie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Verdana"/>
              </a:rPr>
              <a:t>Manage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acilitate a team mee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Verdana"/>
              </a:rPr>
              <a:t>Technical wri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rite part of the project document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ommunication Event vs. Mechanism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Verdana"/>
              </a:rPr>
              <a:t>Communication ev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ormation exchange with defined objectives and scop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Verdana"/>
              </a:rPr>
              <a:t>Schedule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Planned commun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amples: weekly team meeting, review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Verdana"/>
              </a:rPr>
              <a:t>Unschedule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Event-driven communic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amples: problem report, request for change, clarificatio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Verdana"/>
              </a:rPr>
              <a:t>Communication mechanis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ol or procedure that can be used to transmit inform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Verdana"/>
              </a:rPr>
              <a:t>Synchronou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Sender and receiver are communicating at the same ti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Verdana"/>
              </a:rPr>
              <a:t>Asynchronou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Sender and receiver are not communicating at the same tim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Line 2"/>
          <p:cNvSpPr/>
          <p:nvPr/>
        </p:nvSpPr>
        <p:spPr>
          <a:xfrm>
            <a:off x="0" y="1606680"/>
            <a:ext cx="1440" cy="1440"/>
          </a:xfrm>
          <a:prstGeom prst="line">
            <a:avLst/>
          </a:prstGeom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Modeling Communication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37" name="Group 45"/>
          <p:cNvGrpSpPr/>
          <p:nvPr/>
        </p:nvGrpSpPr>
        <p:grpSpPr>
          <a:xfrm>
            <a:off x="3178080" y="2362320"/>
            <a:ext cx="2513160" cy="266760"/>
            <a:chOff x="3178080" y="2362320"/>
            <a:chExt cx="2513160" cy="266760"/>
          </a:xfrm>
        </p:grpSpPr>
        <p:sp>
          <p:nvSpPr>
            <p:cNvPr id="138" name="Line 10"/>
            <p:cNvSpPr/>
            <p:nvPr/>
          </p:nvSpPr>
          <p:spPr>
            <a:xfrm>
              <a:off x="3178080" y="2627280"/>
              <a:ext cx="25131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139" name="Rectangle 11"/>
            <p:cNvSpPr/>
            <p:nvPr/>
          </p:nvSpPr>
          <p:spPr>
            <a:xfrm>
              <a:off x="3777480" y="2362320"/>
              <a:ext cx="1476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 Typewriter"/>
                </a:rPr>
                <a:t>is supported by</a:t>
              </a:r>
              <a:endParaRPr b="1" lang="en-US" sz="1600" spc="-1" strike="noStrike">
                <a:solidFill>
                  <a:srgbClr val="000000"/>
                </a:solidFill>
                <a:latin typeface="Palatino"/>
              </a:endParaRPr>
            </a:p>
          </p:txBody>
        </p:sp>
      </p:grpSp>
      <p:sp>
        <p:nvSpPr>
          <p:cNvPr id="140" name="Rectangle 12"/>
          <p:cNvSpPr/>
          <p:nvPr/>
        </p:nvSpPr>
        <p:spPr>
          <a:xfrm>
            <a:off x="3364200" y="2705040"/>
            <a:ext cx="11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Typewriter"/>
              </a:rPr>
              <a:t>*</a:t>
            </a:r>
            <a:endParaRPr b="1" lang="en-US" sz="1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41" name="Rectangle 13"/>
          <p:cNvSpPr/>
          <p:nvPr/>
        </p:nvSpPr>
        <p:spPr>
          <a:xfrm>
            <a:off x="5494680" y="2705040"/>
            <a:ext cx="11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Typewriter"/>
              </a:rPr>
              <a:t>*</a:t>
            </a:r>
            <a:endParaRPr b="1" lang="en-US" sz="16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2" name="Group 44"/>
          <p:cNvGrpSpPr/>
          <p:nvPr/>
        </p:nvGrpSpPr>
        <p:grpSpPr>
          <a:xfrm>
            <a:off x="4668840" y="2387520"/>
            <a:ext cx="3645000" cy="1639800"/>
            <a:chOff x="4668840" y="2387520"/>
            <a:chExt cx="3645000" cy="1639800"/>
          </a:xfrm>
        </p:grpSpPr>
        <p:sp>
          <p:nvSpPr>
            <p:cNvPr id="143" name="Rectangle 4"/>
            <p:cNvSpPr/>
            <p:nvPr/>
          </p:nvSpPr>
          <p:spPr>
            <a:xfrm>
              <a:off x="6713640" y="3516480"/>
              <a:ext cx="1600200" cy="488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144" name="Freeform 5"/>
            <p:cNvSpPr/>
            <p:nvPr/>
          </p:nvSpPr>
          <p:spPr>
            <a:xfrm>
              <a:off x="6335640" y="2894040"/>
              <a:ext cx="311400" cy="2444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145" name="Line 6"/>
            <p:cNvSpPr/>
            <p:nvPr/>
          </p:nvSpPr>
          <p:spPr>
            <a:xfrm flipV="1">
              <a:off x="6491160" y="3138480"/>
              <a:ext cx="1800" cy="177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146" name="Line 17"/>
            <p:cNvSpPr/>
            <p:nvPr/>
          </p:nvSpPr>
          <p:spPr>
            <a:xfrm flipV="1">
              <a:off x="5470560" y="3316320"/>
              <a:ext cx="0" cy="20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147" name="Line 18"/>
            <p:cNvSpPr/>
            <p:nvPr/>
          </p:nvSpPr>
          <p:spPr>
            <a:xfrm>
              <a:off x="5470560" y="3316320"/>
              <a:ext cx="2044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148" name="Line 19"/>
            <p:cNvSpPr/>
            <p:nvPr/>
          </p:nvSpPr>
          <p:spPr>
            <a:xfrm>
              <a:off x="7515360" y="3316320"/>
              <a:ext cx="0" cy="20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149" name="Rectangle 20"/>
            <p:cNvSpPr/>
            <p:nvPr/>
          </p:nvSpPr>
          <p:spPr>
            <a:xfrm>
              <a:off x="4668840" y="3516480"/>
              <a:ext cx="1622520" cy="5108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grpSp>
          <p:nvGrpSpPr>
            <p:cNvPr id="150" name="Group 21"/>
            <p:cNvGrpSpPr/>
            <p:nvPr/>
          </p:nvGrpSpPr>
          <p:grpSpPr>
            <a:xfrm>
              <a:off x="4861080" y="3560760"/>
              <a:ext cx="1238040" cy="421560"/>
              <a:chOff x="4861080" y="3560760"/>
              <a:chExt cx="1238040" cy="421560"/>
            </a:xfrm>
          </p:grpSpPr>
          <p:sp>
            <p:nvSpPr>
              <p:cNvPr id="151" name="Rectangle 22"/>
              <p:cNvSpPr/>
              <p:nvPr/>
            </p:nvSpPr>
            <p:spPr>
              <a:xfrm>
                <a:off x="4861080" y="3560760"/>
                <a:ext cx="12380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Lucida Sans Typewriter"/>
                  </a:rPr>
                  <a:t>Synchronous</a:t>
                </a:r>
                <a:endParaRPr b="1" lang="en-US" sz="16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152" name="Rectangle 23"/>
              <p:cNvSpPr/>
              <p:nvPr/>
            </p:nvSpPr>
            <p:spPr>
              <a:xfrm>
                <a:off x="4916160" y="3738600"/>
                <a:ext cx="1099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Lucida Sans Typewriter"/>
                  </a:rPr>
                  <a:t>Mechanism</a:t>
                </a:r>
                <a:endParaRPr b="1" lang="en-US" sz="16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</p:grpSp>
        <p:grpSp>
          <p:nvGrpSpPr>
            <p:cNvPr id="153" name="Group 24"/>
            <p:cNvGrpSpPr/>
            <p:nvPr/>
          </p:nvGrpSpPr>
          <p:grpSpPr>
            <a:xfrm>
              <a:off x="6857280" y="3567240"/>
              <a:ext cx="1353960" cy="421560"/>
              <a:chOff x="6857280" y="3567240"/>
              <a:chExt cx="1353960" cy="421560"/>
            </a:xfrm>
          </p:grpSpPr>
          <p:sp>
            <p:nvSpPr>
              <p:cNvPr id="154" name="Rectangle 25"/>
              <p:cNvSpPr/>
              <p:nvPr/>
            </p:nvSpPr>
            <p:spPr>
              <a:xfrm>
                <a:off x="6857280" y="3567240"/>
                <a:ext cx="1353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Lucida Sans Typewriter"/>
                  </a:rPr>
                  <a:t>Asynchronous</a:t>
                </a:r>
                <a:endParaRPr b="1" lang="en-US" sz="16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155" name="Rectangle 26"/>
              <p:cNvSpPr/>
              <p:nvPr/>
            </p:nvSpPr>
            <p:spPr>
              <a:xfrm>
                <a:off x="6960600" y="3745080"/>
                <a:ext cx="1099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Lucida Sans Typewriter"/>
                  </a:rPr>
                  <a:t>Mechanism</a:t>
                </a:r>
                <a:endParaRPr b="1" lang="en-US" sz="16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</p:grpSp>
        <p:sp>
          <p:nvSpPr>
            <p:cNvPr id="156" name="Rectangle 27"/>
            <p:cNvSpPr/>
            <p:nvPr/>
          </p:nvSpPr>
          <p:spPr>
            <a:xfrm>
              <a:off x="5668920" y="2387520"/>
              <a:ext cx="1782720" cy="511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grpSp>
          <p:nvGrpSpPr>
            <p:cNvPr id="157" name="Group 28"/>
            <p:cNvGrpSpPr/>
            <p:nvPr/>
          </p:nvGrpSpPr>
          <p:grpSpPr>
            <a:xfrm>
              <a:off x="5788800" y="2433600"/>
              <a:ext cx="1514160" cy="421200"/>
              <a:chOff x="5788800" y="2433600"/>
              <a:chExt cx="1514160" cy="421200"/>
            </a:xfrm>
          </p:grpSpPr>
          <p:sp>
            <p:nvSpPr>
              <p:cNvPr id="158" name="Rectangle 29"/>
              <p:cNvSpPr/>
              <p:nvPr/>
            </p:nvSpPr>
            <p:spPr>
              <a:xfrm>
                <a:off x="5788800" y="2433600"/>
                <a:ext cx="1514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Lucida Sans Typewriter"/>
                  </a:rPr>
                  <a:t>Communication</a:t>
                </a:r>
                <a:endParaRPr b="1" lang="en-US" sz="16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159" name="Rectangle 30"/>
              <p:cNvSpPr/>
              <p:nvPr/>
            </p:nvSpPr>
            <p:spPr>
              <a:xfrm>
                <a:off x="5965200" y="2611080"/>
                <a:ext cx="1099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Lucida Sans Typewriter"/>
                  </a:rPr>
                  <a:t>Mechanism</a:t>
                </a:r>
                <a:endParaRPr b="1" lang="en-US" sz="16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</p:grpSp>
      </p:grpSp>
      <p:grpSp>
        <p:nvGrpSpPr>
          <p:cNvPr id="160" name="Group 43"/>
          <p:cNvGrpSpPr/>
          <p:nvPr/>
        </p:nvGrpSpPr>
        <p:grpSpPr>
          <a:xfrm>
            <a:off x="533520" y="2387520"/>
            <a:ext cx="3666960" cy="1644840"/>
            <a:chOff x="533520" y="2387520"/>
            <a:chExt cx="3666960" cy="1644840"/>
          </a:xfrm>
        </p:grpSpPr>
        <p:sp>
          <p:nvSpPr>
            <p:cNvPr id="161" name="Rectangle 7"/>
            <p:cNvSpPr/>
            <p:nvPr/>
          </p:nvSpPr>
          <p:spPr>
            <a:xfrm>
              <a:off x="2577960" y="3516480"/>
              <a:ext cx="1622520" cy="488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162" name="Freeform 8"/>
            <p:cNvSpPr/>
            <p:nvPr/>
          </p:nvSpPr>
          <p:spPr>
            <a:xfrm>
              <a:off x="2222640" y="2894040"/>
              <a:ext cx="288720" cy="2444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163" name="Line 9"/>
            <p:cNvSpPr/>
            <p:nvPr/>
          </p:nvSpPr>
          <p:spPr>
            <a:xfrm flipV="1">
              <a:off x="2355840" y="3138480"/>
              <a:ext cx="1440" cy="177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164" name="Line 14"/>
            <p:cNvSpPr/>
            <p:nvPr/>
          </p:nvSpPr>
          <p:spPr>
            <a:xfrm flipV="1">
              <a:off x="1333440" y="3316320"/>
              <a:ext cx="0" cy="20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165" name="Line 15"/>
            <p:cNvSpPr/>
            <p:nvPr/>
          </p:nvSpPr>
          <p:spPr>
            <a:xfrm>
              <a:off x="1333440" y="3316320"/>
              <a:ext cx="2044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166" name="Line 16"/>
            <p:cNvSpPr/>
            <p:nvPr/>
          </p:nvSpPr>
          <p:spPr>
            <a:xfrm>
              <a:off x="3378240" y="3316320"/>
              <a:ext cx="0" cy="20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grpSp>
          <p:nvGrpSpPr>
            <p:cNvPr id="167" name="Group 31"/>
            <p:cNvGrpSpPr/>
            <p:nvPr/>
          </p:nvGrpSpPr>
          <p:grpSpPr>
            <a:xfrm>
              <a:off x="2862360" y="3567240"/>
              <a:ext cx="1053720" cy="421560"/>
              <a:chOff x="2862360" y="3567240"/>
              <a:chExt cx="1053720" cy="421560"/>
            </a:xfrm>
          </p:grpSpPr>
          <p:sp>
            <p:nvSpPr>
              <p:cNvPr id="168" name="Rectangle 32"/>
              <p:cNvSpPr/>
              <p:nvPr/>
            </p:nvSpPr>
            <p:spPr>
              <a:xfrm>
                <a:off x="2862360" y="3567240"/>
                <a:ext cx="1053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Lucida Sans Typewriter"/>
                  </a:rPr>
                  <a:t>Unplanned</a:t>
                </a:r>
                <a:endParaRPr b="1" lang="en-US" sz="16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169" name="Rectangle 33"/>
              <p:cNvSpPr/>
              <p:nvPr/>
            </p:nvSpPr>
            <p:spPr>
              <a:xfrm>
                <a:off x="3124440" y="3745080"/>
                <a:ext cx="529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Lucida Sans Typewriter"/>
                  </a:rPr>
                  <a:t>Event</a:t>
                </a:r>
                <a:endParaRPr b="1" lang="en-US" sz="16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</p:grpSp>
        <p:sp>
          <p:nvSpPr>
            <p:cNvPr id="170" name="Rectangle 34"/>
            <p:cNvSpPr/>
            <p:nvPr/>
          </p:nvSpPr>
          <p:spPr>
            <a:xfrm>
              <a:off x="533520" y="3521160"/>
              <a:ext cx="1644480" cy="511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grpSp>
          <p:nvGrpSpPr>
            <p:cNvPr id="171" name="Group 35"/>
            <p:cNvGrpSpPr/>
            <p:nvPr/>
          </p:nvGrpSpPr>
          <p:grpSpPr>
            <a:xfrm>
              <a:off x="968400" y="3567240"/>
              <a:ext cx="777960" cy="421560"/>
              <a:chOff x="968400" y="3567240"/>
              <a:chExt cx="777960" cy="421560"/>
            </a:xfrm>
          </p:grpSpPr>
          <p:sp>
            <p:nvSpPr>
              <p:cNvPr id="172" name="Rectangle 36"/>
              <p:cNvSpPr/>
              <p:nvPr/>
            </p:nvSpPr>
            <p:spPr>
              <a:xfrm>
                <a:off x="968400" y="3567240"/>
                <a:ext cx="777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Lucida Sans Typewriter"/>
                  </a:rPr>
                  <a:t>Planned</a:t>
                </a:r>
                <a:endParaRPr b="1" lang="en-US" sz="16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173" name="Rectangle 37"/>
              <p:cNvSpPr/>
              <p:nvPr/>
            </p:nvSpPr>
            <p:spPr>
              <a:xfrm>
                <a:off x="1092600" y="3745080"/>
                <a:ext cx="529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Lucida Sans Typewriter"/>
                  </a:rPr>
                  <a:t>Event</a:t>
                </a:r>
                <a:endParaRPr b="1" lang="en-US" sz="16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</p:grpSp>
        <p:grpSp>
          <p:nvGrpSpPr>
            <p:cNvPr id="174" name="Group 38"/>
            <p:cNvGrpSpPr/>
            <p:nvPr/>
          </p:nvGrpSpPr>
          <p:grpSpPr>
            <a:xfrm>
              <a:off x="1434960" y="2387520"/>
              <a:ext cx="1851120" cy="511200"/>
              <a:chOff x="1434960" y="2387520"/>
              <a:chExt cx="1851120" cy="511200"/>
            </a:xfrm>
          </p:grpSpPr>
          <p:sp>
            <p:nvSpPr>
              <p:cNvPr id="175" name="Rectangle 39"/>
              <p:cNvSpPr/>
              <p:nvPr/>
            </p:nvSpPr>
            <p:spPr>
              <a:xfrm>
                <a:off x="1434960" y="2387520"/>
                <a:ext cx="1851120" cy="511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grpSp>
            <p:nvGrpSpPr>
              <p:cNvPr id="176" name="Group 40"/>
              <p:cNvGrpSpPr/>
              <p:nvPr/>
            </p:nvGrpSpPr>
            <p:grpSpPr>
              <a:xfrm>
                <a:off x="1607400" y="2433600"/>
                <a:ext cx="1514160" cy="421200"/>
                <a:chOff x="1607400" y="2433600"/>
                <a:chExt cx="1514160" cy="421200"/>
              </a:xfrm>
            </p:grpSpPr>
            <p:sp>
              <p:nvSpPr>
                <p:cNvPr id="177" name="Rectangle 41"/>
                <p:cNvSpPr/>
                <p:nvPr/>
              </p:nvSpPr>
              <p:spPr>
                <a:xfrm>
                  <a:off x="1607400" y="2433600"/>
                  <a:ext cx="151416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Lucida Sans Typewriter"/>
                    </a:rPr>
                    <a:t>Communication</a:t>
                  </a:r>
                  <a:endParaRPr b="1" lang="en-US" sz="1600" spc="-1" strike="noStrike">
                    <a:solidFill>
                      <a:srgbClr val="000000"/>
                    </a:solidFill>
                    <a:latin typeface="Palatino"/>
                  </a:endParaRPr>
                </a:p>
              </p:txBody>
            </p:sp>
            <p:sp>
              <p:nvSpPr>
                <p:cNvPr id="178" name="Rectangle 42"/>
                <p:cNvSpPr/>
                <p:nvPr/>
              </p:nvSpPr>
              <p:spPr>
                <a:xfrm>
                  <a:off x="2091240" y="2611080"/>
                  <a:ext cx="52956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Lucida Sans Typewriter"/>
                    </a:rPr>
                    <a:t>Event</a:t>
                  </a:r>
                  <a:endParaRPr b="1" lang="en-US" sz="1600" spc="-1" strike="noStrike">
                    <a:solidFill>
                      <a:srgbClr val="000000"/>
                    </a:solidFill>
                    <a:latin typeface="Palatino"/>
                  </a:endParaRPr>
                </a:p>
              </p:txBody>
            </p:sp>
          </p:grpSp>
        </p:grpSp>
      </p:grp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0T14:51:09Z</dcterms:created>
  <dc:creator>Bernd Bruegge</dc:creator>
  <dc:description/>
  <cp:keywords/>
  <dc:language>en-US</dc:language>
  <cp:lastModifiedBy>Bernd Bruegge</cp:lastModifiedBy>
  <cp:lastPrinted>1998-10-19T16:18:12Z</cp:lastPrinted>
  <dcterms:modified xsi:type="dcterms:W3CDTF">2009-08-04T06:22:49Z</dcterms:modified>
  <cp:revision>115</cp:revision>
  <dc:subject/>
  <dc:title>Project Management</dc:title>
</cp:coreProperties>
</file>