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768040" y="870444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9C30C8C9-15BD-4E52-B922-B8388DE37D3C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s we can see, the OCL contract is now written as a set of JavaDoc comment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specific OCL Javdoc tags @ invariant, @pre and @post could be read to a verification system or a runtime debugging syste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at inserts specific code as a result of these tags to ensure the validity of the predicates (slows down the computation quite a bit, verification would be better, but currently not state of the art for large complex system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alue of this expression is the set of objects on the other side of the role name associatio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multiplicity of the association-end has a maximum of one ("0..1" or "1"), then the value of this expression is an object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multiplicity is "0..1" then the result is an empty set if there is no object, otherwise it is the unique objec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vigation expression generate 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Colle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objects. By default, navigation will result in a Se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association on the Class Diagram is adorned with {ordered}, the navigation results in a Sequence. Collections, like Sets, Bags and Sequences, are predefined types in OCL. They have a large number of predefined operations on them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lection-&gt;operation(arguments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5c5"/>
                </a:solidFill>
                <a:latin typeface="Times New Roman"/>
              </a:rPr>
              <a:t>To better understand these constraints, we instantiate the class diagram for a specific group of instances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5c5"/>
                </a:solidFill>
                <a:latin typeface="Times New Roman"/>
              </a:rPr>
              <a:t>2 Leagu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5c5"/>
                </a:solidFill>
                <a:latin typeface="Times New Roman"/>
              </a:rPr>
              <a:t>5 Players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5c5"/>
                </a:solidFill>
                <a:latin typeface="Times New Roman"/>
              </a:rPr>
              <a:t>2 Tournamen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Within the context of one class, e.g. tournamen, I can construct a predicate out of the attributes of this clas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Given a certain context, say League, I can specify a constraint, that involves methods and attributes of a directly associated class, say Player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Given a certain context, say League, I can specify constraints on classes that are not directly reachable via a neighbor association, but via a couple of association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The element type T is the type of a primitive value (</a:t>
            </a:r>
            <a:r>
              <a:rPr b="1" lang="de-DE" sz="1000" spc="-1" strike="noStrike">
                <a:solidFill>
                  <a:srgbClr val="000000"/>
                </a:solidFill>
                <a:latin typeface="Palatino"/>
              </a:rPr>
              <a:t>Integer</a:t>
            </a: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Palatino"/>
              </a:rPr>
              <a:t>String</a:t>
            </a: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Palatino"/>
              </a:rPr>
              <a:t>Boolean</a:t>
            </a: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or the type of an object (e.g. </a:t>
            </a:r>
            <a:r>
              <a:rPr b="1" lang="de-DE" sz="1000" spc="-1" strike="noStrike">
                <a:solidFill>
                  <a:srgbClr val="000000"/>
                </a:solidFill>
                <a:latin typeface="Palatino"/>
              </a:rPr>
              <a:t>Person</a:t>
            </a: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Palatino"/>
              </a:rPr>
              <a:t>Tournament</a:t>
            </a: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OCL-Operations to determine the properties of a collection: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Palatino"/>
              </a:rPr>
              <a:t>Operations to generate new collections (Result is again a collection):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Of course, also by calling an OCL collection operation on an OCL collection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XXXX? Is this english description correct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number of customers registered by a programPartner must be equal to the number of customer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at belong to a bonusprogram offered by the programPartn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A bonus program should offer two levels. The number of levels in a bonus program should be two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value of an OCL expression is an object or a collection of objects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We obtain these objects by navigating through the associations of the class diagra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f the multiplicity of the association-end is 1, the value of the OCL expression is a </a:t>
            </a:r>
            <a:r>
              <a:rPr b="0" lang="en-US" sz="1000" spc="-1" strike="noStrike">
                <a:solidFill>
                  <a:srgbClr val="0005c5"/>
                </a:solidFill>
                <a:latin typeface="Palatino"/>
              </a:rPr>
              <a:t>single object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If the multiplicity is 0..1, the result is an empty set if there is no object, otherwise a </a:t>
            </a:r>
            <a:r>
              <a:rPr b="0" lang="en-US" sz="1000" spc="-1" strike="noStrike">
                <a:solidFill>
                  <a:srgbClr val="0005c5"/>
                </a:solidFill>
                <a:latin typeface="Palatino"/>
              </a:rPr>
              <a:t>single object</a:t>
            </a: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http://archive.eiffel.com/doc/manuals/technology/contract/ariane/page.htm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Berard discusses the similarities and differences between Abstraction, Information hiding and encapsulatio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Meyers article on Lessons of Ariane is an interesting reading on the Ariane 5 Failure in the context of design by contract.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The basis for OCL was laid in the late 1960s by Tony Hoard. A good online starting point for Hoare is actually the Wikipedia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: http://en.wikipedia.org/wiki/Hoare_logic</a:t>
            </a:r>
            <a:endParaRPr b="0" lang="en-US" sz="9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OCL is an interesting concept but it has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been adopted by the industry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 still shows no signs of being adopted any time soon, but in my opinion it  worth the effort to lear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375840" y="6437160"/>
            <a:ext cx="842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rnd Bruegge &amp; Allen Dutoit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bject-Oriented Software Engineering: Conquering Complex and Changing Systems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fld id="{7C1DA043-9528-4E05-9688-6CDD2E2496E1}" type="slidenum"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62920" y="317520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_x0014_CO.8.TentInIgloo.tif                                           0012C2BC_x000c_Macintosh HD                   B7C803F1:"/>
          <p:cNvPicPr/>
          <p:nvPr/>
        </p:nvPicPr>
        <p:blipFill>
          <a:blip r:embed="rId1"/>
          <a:srcRect l="0" t="22272" r="0" b="0"/>
          <a:stretch/>
        </p:blipFill>
        <p:spPr>
          <a:xfrm>
            <a:off x="1276200" y="250920"/>
            <a:ext cx="7624800" cy="6418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87360" y="652320"/>
            <a:ext cx="68454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8, Object Design: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Constraint Langu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Java Implementation of  Tournament clas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(Contract as a set of JavaDoc comments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14360" y="222120"/>
            <a:ext cx="81532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55680" y="1379520"/>
            <a:ext cx="40510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Typewriter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Tournament {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/** The maximum number of p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is positive at all time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@invariant maxNumPlayers &gt;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/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Typewriter"/>
              </a:rPr>
              <a:t>private int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maxNumPlayers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/** The players List contains 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 references to Players who a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 are registered with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 Tournament. */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Typewriter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List players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/** Returns the current number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players in the tournament. */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2e06"/>
                </a:solidFill>
                <a:latin typeface="Lucida Sans Typewriter"/>
              </a:rPr>
              <a:t>public int</a:t>
            </a:r>
            <a:r>
              <a:rPr b="0" lang="en-US" sz="1400" spc="-1" strike="noStrike">
                <a:solidFill>
                  <a:srgbClr val="c02e06"/>
                </a:solidFill>
                <a:latin typeface="Lucida Sans Typewriter"/>
              </a:rPr>
              <a:t> getNumPlayers() {…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/** Returns the maximum number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players in the tournament. */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2e06"/>
                </a:solidFill>
                <a:latin typeface="Lucida Sans Typewriter"/>
              </a:rPr>
              <a:t>public int</a:t>
            </a:r>
            <a:r>
              <a:rPr b="0" lang="en-US" sz="1400" spc="-1" strike="noStrike">
                <a:solidFill>
                  <a:srgbClr val="c02e06"/>
                </a:solidFill>
                <a:latin typeface="Lucida Sans Typewriter"/>
              </a:rPr>
              <a:t> getMaxNumPlayers() {…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559400" y="1379520"/>
            <a:ext cx="4584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/** The acceptPlayer() oper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assumes that the specifi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player has not been accep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in the Tournament ye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@pre !isPlayerAccepted(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 * @pre getNumPlayers()&lt;maxNumP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@post isPlayerAccepted(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@post getNumPlayers() =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    @pre.getNumPlayers() +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/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2e06"/>
                </a:solidFill>
                <a:latin typeface="Lucida Sans Typewriter"/>
              </a:rPr>
              <a:t>public void</a:t>
            </a:r>
            <a:r>
              <a:rPr b="0" lang="en-US" sz="1400" spc="-1" strike="noStrike">
                <a:solidFill>
                  <a:srgbClr val="c02e06"/>
                </a:solidFill>
                <a:latin typeface="Lucida Sans Typewriter"/>
              </a:rPr>
              <a:t> acceptPlayer (Player p) {…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/** The removePlayer() oper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assumes that the specified play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is currently in the Tournamen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@pre isPlayerAccepted(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@post !isPlayerAccepted(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@post getNumPlayers() =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     @pre.getNumPlayers() -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 */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2e06"/>
                </a:solidFill>
                <a:latin typeface="Lucida Sans Typewriter"/>
              </a:rPr>
              <a:t>public void</a:t>
            </a:r>
            <a:r>
              <a:rPr b="0" lang="en-US" sz="1400" spc="-1" strike="noStrike">
                <a:solidFill>
                  <a:srgbClr val="c02e06"/>
                </a:solidFill>
                <a:latin typeface="Lucida Sans Typewriter"/>
              </a:rPr>
              <a:t> removePlayer(Player p) {…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traints can involve more than one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59000" y="1523880"/>
            <a:ext cx="647676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How do we specify constraints 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on a group of classe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18320" y="3976560"/>
            <a:ext cx="83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from a specific class in the UML class diagram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avigate the associations in the class diagram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the other classes and their properties (attributes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ample from ARENA:  League, Tournament and Player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Group 50"/>
          <p:cNvGrpSpPr/>
          <p:nvPr/>
        </p:nvGrpSpPr>
        <p:grpSpPr>
          <a:xfrm>
            <a:off x="482760" y="1222200"/>
            <a:ext cx="3836880" cy="4989600"/>
            <a:chOff x="482760" y="1222200"/>
            <a:chExt cx="3836880" cy="4989600"/>
          </a:xfrm>
        </p:grpSpPr>
        <p:sp>
          <p:nvSpPr>
            <p:cNvPr id="110" name="Freeform 3"/>
            <p:cNvSpPr/>
            <p:nvPr/>
          </p:nvSpPr>
          <p:spPr>
            <a:xfrm>
              <a:off x="2882880" y="2422440"/>
              <a:ext cx="141480" cy="306360"/>
            </a:xfrm>
            <a:prstGeom prst="pi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"/>
            <p:cNvSpPr/>
            <p:nvPr/>
          </p:nvSpPr>
          <p:spPr>
            <a:xfrm flipV="1">
              <a:off x="2954520" y="2706120"/>
              <a:ext cx="1440" cy="5446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791280" y="523224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player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2790360" y="307008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3098880" y="3070080"/>
              <a:ext cx="116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tournament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968120" y="2787480"/>
              <a:ext cx="87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{ordered}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9"/>
            <p:cNvGrpSpPr/>
            <p:nvPr/>
          </p:nvGrpSpPr>
          <p:grpSpPr>
            <a:xfrm>
              <a:off x="1613160" y="3270240"/>
              <a:ext cx="2682720" cy="1177920"/>
              <a:chOff x="1613160" y="3270240"/>
              <a:chExt cx="2682720" cy="1177920"/>
            </a:xfrm>
          </p:grpSpPr>
          <p:grpSp>
            <p:nvGrpSpPr>
              <p:cNvPr id="117" name="Group 10"/>
              <p:cNvGrpSpPr/>
              <p:nvPr/>
            </p:nvGrpSpPr>
            <p:grpSpPr>
              <a:xfrm>
                <a:off x="1613160" y="3270240"/>
                <a:ext cx="2682720" cy="423720"/>
                <a:chOff x="1613160" y="3270240"/>
                <a:chExt cx="2682720" cy="423720"/>
              </a:xfrm>
            </p:grpSpPr>
            <p:sp>
              <p:nvSpPr>
                <p:cNvPr id="118" name="Rectangle 11"/>
                <p:cNvSpPr/>
                <p:nvPr/>
              </p:nvSpPr>
              <p:spPr>
                <a:xfrm>
                  <a:off x="1613160" y="3270240"/>
                  <a:ext cx="2682720" cy="42372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12"/>
                <p:cNvSpPr/>
                <p:nvPr/>
              </p:nvSpPr>
              <p:spPr>
                <a:xfrm>
                  <a:off x="2398680" y="3368520"/>
                  <a:ext cx="1116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Tournament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3"/>
              <p:cNvGrpSpPr/>
              <p:nvPr/>
            </p:nvGrpSpPr>
            <p:grpSpPr>
              <a:xfrm>
                <a:off x="1613160" y="3692520"/>
                <a:ext cx="2682720" cy="446040"/>
                <a:chOff x="1613160" y="3692520"/>
                <a:chExt cx="2682720" cy="446040"/>
              </a:xfrm>
            </p:grpSpPr>
            <p:sp>
              <p:nvSpPr>
                <p:cNvPr id="121" name="Rectangle 14"/>
                <p:cNvSpPr/>
                <p:nvPr/>
              </p:nvSpPr>
              <p:spPr>
                <a:xfrm>
                  <a:off x="1613160" y="3692520"/>
                  <a:ext cx="2682720" cy="4460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Group 15"/>
                <p:cNvGrpSpPr/>
                <p:nvPr/>
              </p:nvGrpSpPr>
              <p:grpSpPr>
                <a:xfrm>
                  <a:off x="1757880" y="3708360"/>
                  <a:ext cx="1077480" cy="417600"/>
                  <a:chOff x="1757880" y="3708360"/>
                  <a:chExt cx="1077480" cy="417600"/>
                </a:xfrm>
              </p:grpSpPr>
              <p:sp>
                <p:nvSpPr>
                  <p:cNvPr id="123" name="Rectangle 16"/>
                  <p:cNvSpPr/>
                  <p:nvPr/>
                </p:nvSpPr>
                <p:spPr>
                  <a:xfrm>
                    <a:off x="1836360" y="3708360"/>
                    <a:ext cx="999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start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Rectangle 17"/>
                  <p:cNvSpPr/>
                  <p:nvPr/>
                </p:nvSpPr>
                <p:spPr>
                  <a:xfrm>
                    <a:off x="1757880" y="3897360"/>
                    <a:ext cx="927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end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Group 18"/>
              <p:cNvGrpSpPr/>
              <p:nvPr/>
            </p:nvGrpSpPr>
            <p:grpSpPr>
              <a:xfrm>
                <a:off x="1613160" y="4143240"/>
                <a:ext cx="2682720" cy="304920"/>
                <a:chOff x="1613160" y="4143240"/>
                <a:chExt cx="2682720" cy="304920"/>
              </a:xfrm>
            </p:grpSpPr>
            <p:sp>
              <p:nvSpPr>
                <p:cNvPr id="126" name="Rectangle 19"/>
                <p:cNvSpPr/>
                <p:nvPr/>
              </p:nvSpPr>
              <p:spPr>
                <a:xfrm>
                  <a:off x="1613160" y="4143240"/>
                  <a:ext cx="2682720" cy="30492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0"/>
                <p:cNvSpPr/>
                <p:nvPr/>
              </p:nvSpPr>
              <p:spPr>
                <a:xfrm>
                  <a:off x="1980720" y="4181400"/>
                  <a:ext cx="2091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acceptPlayer(p:Player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Rectangle 21"/>
            <p:cNvSpPr/>
            <p:nvPr/>
          </p:nvSpPr>
          <p:spPr>
            <a:xfrm>
              <a:off x="1478880" y="15397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22"/>
            <p:cNvGrpSpPr/>
            <p:nvPr/>
          </p:nvGrpSpPr>
          <p:grpSpPr>
            <a:xfrm>
              <a:off x="1635120" y="1222200"/>
              <a:ext cx="2684520" cy="1201680"/>
              <a:chOff x="1635120" y="1222200"/>
              <a:chExt cx="2684520" cy="1201680"/>
            </a:xfrm>
          </p:grpSpPr>
          <p:grpSp>
            <p:nvGrpSpPr>
              <p:cNvPr id="130" name="Group 23"/>
              <p:cNvGrpSpPr/>
              <p:nvPr/>
            </p:nvGrpSpPr>
            <p:grpSpPr>
              <a:xfrm>
                <a:off x="1635120" y="1222200"/>
                <a:ext cx="2684520" cy="447840"/>
                <a:chOff x="1635120" y="1222200"/>
                <a:chExt cx="2684520" cy="447840"/>
              </a:xfrm>
            </p:grpSpPr>
            <p:sp>
              <p:nvSpPr>
                <p:cNvPr id="131" name="Rectangle 24"/>
                <p:cNvSpPr/>
                <p:nvPr/>
              </p:nvSpPr>
              <p:spPr>
                <a:xfrm>
                  <a:off x="1635120" y="1222200"/>
                  <a:ext cx="2684520" cy="4478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25"/>
                <p:cNvSpPr/>
                <p:nvPr/>
              </p:nvSpPr>
              <p:spPr>
                <a:xfrm>
                  <a:off x="2648520" y="1332000"/>
                  <a:ext cx="659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League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26"/>
              <p:cNvGrpSpPr/>
              <p:nvPr/>
            </p:nvGrpSpPr>
            <p:grpSpPr>
              <a:xfrm>
                <a:off x="1635120" y="1670040"/>
                <a:ext cx="2684520" cy="447480"/>
                <a:chOff x="1635120" y="1670040"/>
                <a:chExt cx="2684520" cy="447480"/>
              </a:xfrm>
            </p:grpSpPr>
            <p:sp>
              <p:nvSpPr>
                <p:cNvPr id="134" name="Rectangle 27"/>
                <p:cNvSpPr/>
                <p:nvPr/>
              </p:nvSpPr>
              <p:spPr>
                <a:xfrm>
                  <a:off x="1635120" y="1670040"/>
                  <a:ext cx="2684520" cy="44748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Group 28"/>
                <p:cNvGrpSpPr/>
                <p:nvPr/>
              </p:nvGrpSpPr>
              <p:grpSpPr>
                <a:xfrm>
                  <a:off x="1770840" y="1685520"/>
                  <a:ext cx="1077480" cy="415800"/>
                  <a:chOff x="1770840" y="1685520"/>
                  <a:chExt cx="1077480" cy="415800"/>
                </a:xfrm>
              </p:grpSpPr>
              <p:sp>
                <p:nvSpPr>
                  <p:cNvPr id="136" name="Rectangle 29"/>
                  <p:cNvSpPr/>
                  <p:nvPr/>
                </p:nvSpPr>
                <p:spPr>
                  <a:xfrm>
                    <a:off x="1849320" y="1685520"/>
                    <a:ext cx="999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start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30"/>
                  <p:cNvSpPr/>
                  <p:nvPr/>
                </p:nvSpPr>
                <p:spPr>
                  <a:xfrm>
                    <a:off x="1770840" y="1872720"/>
                    <a:ext cx="927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end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" name="Group 31"/>
              <p:cNvGrpSpPr/>
              <p:nvPr/>
            </p:nvGrpSpPr>
            <p:grpSpPr>
              <a:xfrm>
                <a:off x="1635120" y="2117520"/>
                <a:ext cx="2684520" cy="306360"/>
                <a:chOff x="1635120" y="2117520"/>
                <a:chExt cx="2684520" cy="306360"/>
              </a:xfrm>
            </p:grpSpPr>
            <p:sp>
              <p:nvSpPr>
                <p:cNvPr id="139" name="Rectangle 32"/>
                <p:cNvSpPr/>
                <p:nvPr/>
              </p:nvSpPr>
              <p:spPr>
                <a:xfrm>
                  <a:off x="1635120" y="2117520"/>
                  <a:ext cx="2684520" cy="30636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33"/>
                <p:cNvSpPr/>
                <p:nvPr/>
              </p:nvSpPr>
              <p:spPr>
                <a:xfrm>
                  <a:off x="1960920" y="2155680"/>
                  <a:ext cx="1704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getActivePlayers(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Rectangle 34"/>
            <p:cNvSpPr/>
            <p:nvPr/>
          </p:nvSpPr>
          <p:spPr>
            <a:xfrm>
              <a:off x="1478880" y="558936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5"/>
            <p:cNvGrpSpPr/>
            <p:nvPr/>
          </p:nvGrpSpPr>
          <p:grpSpPr>
            <a:xfrm>
              <a:off x="1613160" y="5343480"/>
              <a:ext cx="2682720" cy="423720"/>
              <a:chOff x="1613160" y="5343480"/>
              <a:chExt cx="2682720" cy="423720"/>
            </a:xfrm>
          </p:grpSpPr>
          <p:sp>
            <p:nvSpPr>
              <p:cNvPr id="143" name="Rectangle 36"/>
              <p:cNvSpPr/>
              <p:nvPr/>
            </p:nvSpPr>
            <p:spPr>
              <a:xfrm>
                <a:off x="1613160" y="5343480"/>
                <a:ext cx="2682720" cy="42372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37"/>
              <p:cNvSpPr/>
              <p:nvPr/>
            </p:nvSpPr>
            <p:spPr>
              <a:xfrm>
                <a:off x="2677320" y="5441760"/>
                <a:ext cx="556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Lucida Sans Typewriter"/>
                  </a:rPr>
                  <a:t>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38"/>
            <p:cNvGrpSpPr/>
            <p:nvPr/>
          </p:nvGrpSpPr>
          <p:grpSpPr>
            <a:xfrm>
              <a:off x="1613160" y="5763960"/>
              <a:ext cx="2682720" cy="447840"/>
              <a:chOff x="1613160" y="5763960"/>
              <a:chExt cx="2682720" cy="447840"/>
            </a:xfrm>
          </p:grpSpPr>
          <p:sp>
            <p:nvSpPr>
              <p:cNvPr id="146" name="Rectangle 39"/>
              <p:cNvSpPr/>
              <p:nvPr/>
            </p:nvSpPr>
            <p:spPr>
              <a:xfrm>
                <a:off x="1613160" y="5763960"/>
                <a:ext cx="2682720" cy="44784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40"/>
              <p:cNvGrpSpPr/>
              <p:nvPr/>
            </p:nvGrpSpPr>
            <p:grpSpPr>
              <a:xfrm>
                <a:off x="1784520" y="5779800"/>
                <a:ext cx="1256400" cy="415800"/>
                <a:chOff x="1784520" y="5779800"/>
                <a:chExt cx="1256400" cy="415800"/>
              </a:xfrm>
            </p:grpSpPr>
            <p:sp>
              <p:nvSpPr>
                <p:cNvPr id="148" name="Rectangle 41"/>
                <p:cNvSpPr/>
                <p:nvPr/>
              </p:nvSpPr>
              <p:spPr>
                <a:xfrm>
                  <a:off x="1784520" y="5779800"/>
                  <a:ext cx="12092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name:String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42"/>
                <p:cNvSpPr/>
                <p:nvPr/>
              </p:nvSpPr>
              <p:spPr>
                <a:xfrm>
                  <a:off x="1851480" y="5967000"/>
                  <a:ext cx="1189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email:String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Line 43"/>
            <p:cNvSpPr/>
            <p:nvPr/>
          </p:nvSpPr>
          <p:spPr>
            <a:xfrm flipV="1">
              <a:off x="2954520" y="4453920"/>
              <a:ext cx="1440" cy="89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4"/>
            <p:cNvSpPr/>
            <p:nvPr/>
          </p:nvSpPr>
          <p:spPr>
            <a:xfrm>
              <a:off x="2790360" y="50958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45"/>
            <p:cNvSpPr/>
            <p:nvPr/>
          </p:nvSpPr>
          <p:spPr>
            <a:xfrm>
              <a:off x="3129480" y="509580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player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3098880" y="4483080"/>
              <a:ext cx="116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tournament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47"/>
            <p:cNvSpPr/>
            <p:nvPr/>
          </p:nvSpPr>
          <p:spPr>
            <a:xfrm>
              <a:off x="2790360" y="448308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82760" y="1481040"/>
              <a:ext cx="1152360" cy="4051080"/>
            </a:xfrm>
            <a:prstGeom prst="pie">
              <a:avLst/>
            </a:pr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9040" y="1523520"/>
            <a:ext cx="4313160" cy="31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ai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urnament’s planned duration must be under one we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yers can be accepted in a Tournament only if they are already registered with the corresponding Leag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umber of active Players in a League are those that have taken part in at least one Tournament of the Leag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54"/>
          <p:cNvSpPr/>
          <p:nvPr/>
        </p:nvSpPr>
        <p:spPr>
          <a:xfrm>
            <a:off x="4664160" y="4727520"/>
            <a:ext cx="43131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9120" y="204840"/>
            <a:ext cx="588168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stance Diagram: 2 Leagu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9" name="Group 59"/>
          <p:cNvGrpSpPr/>
          <p:nvPr/>
        </p:nvGrpSpPr>
        <p:grpSpPr>
          <a:xfrm>
            <a:off x="378000" y="1452600"/>
            <a:ext cx="2269800" cy="414360"/>
            <a:chOff x="378000" y="1452600"/>
            <a:chExt cx="2269800" cy="414360"/>
          </a:xfrm>
        </p:grpSpPr>
        <p:sp>
          <p:nvSpPr>
            <p:cNvPr id="160" name="Rectangle 17"/>
            <p:cNvSpPr/>
            <p:nvPr/>
          </p:nvSpPr>
          <p:spPr>
            <a:xfrm>
              <a:off x="378000" y="1452600"/>
              <a:ext cx="2269800" cy="414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831600" y="1554120"/>
              <a:ext cx="1497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Lucida Sans Typewriter"/>
                </a:rPr>
                <a:t>tttExpert:League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60"/>
          <p:cNvGrpSpPr/>
          <p:nvPr/>
        </p:nvGrpSpPr>
        <p:grpSpPr>
          <a:xfrm>
            <a:off x="6318360" y="1481040"/>
            <a:ext cx="2270160" cy="414360"/>
            <a:chOff x="6318360" y="1481040"/>
            <a:chExt cx="2270160" cy="414360"/>
          </a:xfrm>
        </p:grpSpPr>
        <p:sp>
          <p:nvSpPr>
            <p:cNvPr id="163" name="Rectangle 26"/>
            <p:cNvSpPr/>
            <p:nvPr/>
          </p:nvSpPr>
          <p:spPr>
            <a:xfrm>
              <a:off x="6318360" y="1481040"/>
              <a:ext cx="2270160" cy="414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6524640" y="1544760"/>
              <a:ext cx="181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Lucida Sans Typewriter"/>
                </a:rPr>
                <a:t>chessNovice:League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66"/>
          <p:cNvGrpSpPr/>
          <p:nvPr/>
        </p:nvGrpSpPr>
        <p:grpSpPr>
          <a:xfrm>
            <a:off x="3543480" y="3409920"/>
            <a:ext cx="2601720" cy="2060640"/>
            <a:chOff x="3543480" y="3409920"/>
            <a:chExt cx="2601720" cy="2060640"/>
          </a:xfrm>
        </p:grpSpPr>
        <p:sp>
          <p:nvSpPr>
            <p:cNvPr id="166" name="Line 3"/>
            <p:cNvSpPr/>
            <p:nvPr/>
          </p:nvSpPr>
          <p:spPr>
            <a:xfrm>
              <a:off x="5094360" y="3483000"/>
              <a:ext cx="1440" cy="41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>
              <a:off x="5029200" y="3409920"/>
              <a:ext cx="130320" cy="282600"/>
            </a:xfrm>
            <a:prstGeom prst="pi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3543480" y="3898800"/>
              <a:ext cx="2600280" cy="6987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4635360" y="3898800"/>
              <a:ext cx="1800" cy="1135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38"/>
            <p:cNvSpPr/>
            <p:nvPr/>
          </p:nvSpPr>
          <p:spPr>
            <a:xfrm>
              <a:off x="6143760" y="3898800"/>
              <a:ext cx="1440" cy="1571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64"/>
          <p:cNvGrpSpPr/>
          <p:nvPr/>
        </p:nvGrpSpPr>
        <p:grpSpPr>
          <a:xfrm>
            <a:off x="1535040" y="3371760"/>
            <a:ext cx="1616040" cy="1203480"/>
            <a:chOff x="1535040" y="3371760"/>
            <a:chExt cx="1616040" cy="1203480"/>
          </a:xfrm>
        </p:grpSpPr>
        <p:sp>
          <p:nvSpPr>
            <p:cNvPr id="172" name="Freeform 29"/>
            <p:cNvSpPr/>
            <p:nvPr/>
          </p:nvSpPr>
          <p:spPr>
            <a:xfrm>
              <a:off x="1884240" y="3371760"/>
              <a:ext cx="131760" cy="282600"/>
            </a:xfrm>
            <a:prstGeom prst="pi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1949400" y="3635280"/>
              <a:ext cx="1800" cy="263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9"/>
            <p:cNvSpPr/>
            <p:nvPr/>
          </p:nvSpPr>
          <p:spPr>
            <a:xfrm>
              <a:off x="1535040" y="3898800"/>
              <a:ext cx="1616040" cy="6764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7"/>
          <p:cNvGrpSpPr/>
          <p:nvPr/>
        </p:nvGrpSpPr>
        <p:grpSpPr>
          <a:xfrm>
            <a:off x="507960" y="1865160"/>
            <a:ext cx="6573960" cy="4044960"/>
            <a:chOff x="507960" y="1865160"/>
            <a:chExt cx="6573960" cy="4044960"/>
          </a:xfrm>
        </p:grpSpPr>
        <p:sp>
          <p:nvSpPr>
            <p:cNvPr id="176" name="Line 35"/>
            <p:cNvSpPr/>
            <p:nvPr/>
          </p:nvSpPr>
          <p:spPr>
            <a:xfrm flipH="1">
              <a:off x="574560" y="5230440"/>
              <a:ext cx="3144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62"/>
            <p:cNvGrpSpPr/>
            <p:nvPr/>
          </p:nvGrpSpPr>
          <p:grpSpPr>
            <a:xfrm>
              <a:off x="507960" y="1865160"/>
              <a:ext cx="6573960" cy="4044960"/>
              <a:chOff x="507960" y="1865160"/>
              <a:chExt cx="6573960" cy="404496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704880" y="4138200"/>
                <a:ext cx="1835280" cy="41436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>
                <a:off x="1166760" y="4239720"/>
                <a:ext cx="1012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 u="sng">
                    <a:solidFill>
                      <a:srgbClr val="000000"/>
                    </a:solidFill>
                    <a:uFillTx/>
                    <a:latin typeface="Lucida Sans Typewriter"/>
                  </a:rPr>
                  <a:t>alice: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2211480" y="4597200"/>
                <a:ext cx="1834920" cy="3920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2691360" y="4687560"/>
                <a:ext cx="959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 u="sng">
                    <a:solidFill>
                      <a:srgbClr val="000000"/>
                    </a:solidFill>
                    <a:uFillTx/>
                    <a:latin typeface="Lucida Sans Typewriter"/>
                  </a:rPr>
                  <a:t>bob: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1"/>
              <p:cNvSpPr/>
              <p:nvPr/>
            </p:nvSpPr>
            <p:spPr>
              <a:xfrm>
                <a:off x="3719520" y="5033520"/>
                <a:ext cx="1855800" cy="41436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4160880" y="5135400"/>
                <a:ext cx="106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 u="sng">
                    <a:solidFill>
                      <a:srgbClr val="000000"/>
                    </a:solidFill>
                    <a:uFillTx/>
                    <a:latin typeface="Lucida Sans Typewriter"/>
                  </a:rPr>
                  <a:t>marc: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20"/>
              <p:cNvSpPr/>
              <p:nvPr/>
            </p:nvSpPr>
            <p:spPr>
              <a:xfrm>
                <a:off x="5226120" y="5495760"/>
                <a:ext cx="1855800" cy="41436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21"/>
              <p:cNvSpPr/>
              <p:nvPr/>
            </p:nvSpPr>
            <p:spPr>
              <a:xfrm>
                <a:off x="5755680" y="5597280"/>
                <a:ext cx="881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 u="sng">
                    <a:solidFill>
                      <a:srgbClr val="000000"/>
                    </a:solidFill>
                    <a:uFillTx/>
                    <a:latin typeface="Lucida Sans Typewriter"/>
                  </a:rPr>
                  <a:t>joe: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74560" y="2085840"/>
                <a:ext cx="1800" cy="3581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 flipH="1">
                <a:off x="574200" y="4792320"/>
                <a:ext cx="163692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6"/>
              <p:cNvSpPr/>
              <p:nvPr/>
            </p:nvSpPr>
            <p:spPr>
              <a:xfrm flipH="1">
                <a:off x="574200" y="5667120"/>
                <a:ext cx="46515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7"/>
              <p:cNvSpPr/>
              <p:nvPr/>
            </p:nvSpPr>
            <p:spPr>
              <a:xfrm>
                <a:off x="574560" y="4335120"/>
                <a:ext cx="13032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52"/>
              <p:cNvSpPr/>
              <p:nvPr/>
            </p:nvSpPr>
            <p:spPr>
              <a:xfrm>
                <a:off x="507960" y="1865160"/>
                <a:ext cx="131760" cy="304560"/>
              </a:xfrm>
              <a:prstGeom prst="pi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Group 61"/>
          <p:cNvGrpSpPr/>
          <p:nvPr/>
        </p:nvGrpSpPr>
        <p:grpSpPr>
          <a:xfrm>
            <a:off x="6732720" y="1895400"/>
            <a:ext cx="1855800" cy="4454640"/>
            <a:chOff x="6732720" y="1895400"/>
            <a:chExt cx="1855800" cy="4454640"/>
          </a:xfrm>
        </p:grpSpPr>
        <p:sp>
          <p:nvSpPr>
            <p:cNvPr id="192" name="Freeform 42"/>
            <p:cNvSpPr/>
            <p:nvPr/>
          </p:nvSpPr>
          <p:spPr>
            <a:xfrm>
              <a:off x="7583400" y="1895400"/>
              <a:ext cx="131760" cy="306360"/>
            </a:xfrm>
            <a:prstGeom prst="pi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43"/>
            <p:cNvSpPr/>
            <p:nvPr/>
          </p:nvSpPr>
          <p:spPr>
            <a:xfrm>
              <a:off x="7650000" y="2179800"/>
              <a:ext cx="1800" cy="377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54"/>
            <p:cNvSpPr/>
            <p:nvPr/>
          </p:nvSpPr>
          <p:spPr>
            <a:xfrm>
              <a:off x="6732720" y="5958000"/>
              <a:ext cx="1855800" cy="3920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55"/>
            <p:cNvSpPr/>
            <p:nvPr/>
          </p:nvSpPr>
          <p:spPr>
            <a:xfrm>
              <a:off x="7241760" y="6048360"/>
              <a:ext cx="92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Lucida Sans Typewriter"/>
                </a:rPr>
                <a:t>zoe:Player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74"/>
          <p:cNvGrpSpPr/>
          <p:nvPr/>
        </p:nvGrpSpPr>
        <p:grpSpPr>
          <a:xfrm>
            <a:off x="1949400" y="2238480"/>
            <a:ext cx="4281480" cy="1172880"/>
            <a:chOff x="1949400" y="2238480"/>
            <a:chExt cx="4281480" cy="1172880"/>
          </a:xfrm>
        </p:grpSpPr>
        <p:sp>
          <p:nvSpPr>
            <p:cNvPr id="197" name="Rectangle 23"/>
            <p:cNvSpPr/>
            <p:nvPr/>
          </p:nvSpPr>
          <p:spPr>
            <a:xfrm>
              <a:off x="3959280" y="2580840"/>
              <a:ext cx="2271600" cy="414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4403160" y="2682720"/>
              <a:ext cx="173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Lucida Sans Typewriter"/>
                </a:rPr>
                <a:t>winter:Tournament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40"/>
            <p:cNvSpPr/>
            <p:nvPr/>
          </p:nvSpPr>
          <p:spPr>
            <a:xfrm>
              <a:off x="1949400" y="2238480"/>
              <a:ext cx="3144960" cy="3265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49"/>
            <p:cNvSpPr/>
            <p:nvPr/>
          </p:nvSpPr>
          <p:spPr>
            <a:xfrm>
              <a:off x="4208040" y="3008160"/>
              <a:ext cx="107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start=Jan 12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0"/>
            <p:cNvSpPr/>
            <p:nvPr/>
          </p:nvSpPr>
          <p:spPr>
            <a:xfrm>
              <a:off x="4160520" y="3182760"/>
              <a:ext cx="104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end= Jan 14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1"/>
            <p:cNvSpPr/>
            <p:nvPr/>
          </p:nvSpPr>
          <p:spPr>
            <a:xfrm>
              <a:off x="3959280" y="2995200"/>
              <a:ext cx="2271600" cy="415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836640" y="1887480"/>
            <a:ext cx="2270160" cy="1506600"/>
            <a:chOff x="836640" y="1887480"/>
            <a:chExt cx="2270160" cy="1506600"/>
          </a:xfrm>
        </p:grpSpPr>
        <p:sp>
          <p:nvSpPr>
            <p:cNvPr id="204" name="Rectangle 14"/>
            <p:cNvSpPr/>
            <p:nvPr/>
          </p:nvSpPr>
          <p:spPr>
            <a:xfrm>
              <a:off x="836640" y="2565360"/>
              <a:ext cx="2270160" cy="414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5"/>
            <p:cNvSpPr/>
            <p:nvPr/>
          </p:nvSpPr>
          <p:spPr>
            <a:xfrm>
              <a:off x="1101600" y="2666880"/>
              <a:ext cx="16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Lucida Sans Typewriter"/>
                </a:rPr>
                <a:t>Xmas:Tournament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41"/>
            <p:cNvSpPr/>
            <p:nvPr/>
          </p:nvSpPr>
          <p:spPr>
            <a:xfrm flipV="1">
              <a:off x="1949400" y="2144520"/>
              <a:ext cx="0" cy="114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4"/>
            <p:cNvSpPr/>
            <p:nvPr/>
          </p:nvSpPr>
          <p:spPr>
            <a:xfrm>
              <a:off x="1040040" y="2990880"/>
              <a:ext cx="11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start=Dec 23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45"/>
            <p:cNvSpPr/>
            <p:nvPr/>
          </p:nvSpPr>
          <p:spPr>
            <a:xfrm>
              <a:off x="992880" y="3165480"/>
              <a:ext cx="1111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end= Dec 25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46"/>
            <p:cNvSpPr/>
            <p:nvPr/>
          </p:nvSpPr>
          <p:spPr>
            <a:xfrm>
              <a:off x="836640" y="2979720"/>
              <a:ext cx="2270160" cy="412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56"/>
            <p:cNvSpPr/>
            <p:nvPr/>
          </p:nvSpPr>
          <p:spPr>
            <a:xfrm>
              <a:off x="1886040" y="1887480"/>
              <a:ext cx="131760" cy="2844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1"/>
            <p:cNvSpPr/>
            <p:nvPr/>
          </p:nvSpPr>
          <p:spPr>
            <a:xfrm>
              <a:off x="1949400" y="21700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Rectangle 75"/>
          <p:cNvSpPr/>
          <p:nvPr/>
        </p:nvSpPr>
        <p:spPr>
          <a:xfrm>
            <a:off x="5668920" y="192240"/>
            <a:ext cx="223992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, 5 Players,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6"/>
          <p:cNvSpPr/>
          <p:nvPr/>
        </p:nvSpPr>
        <p:spPr>
          <a:xfrm>
            <a:off x="4919760" y="606600"/>
            <a:ext cx="339876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2 Tournamen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12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 Types of Navigation through a Class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578160" y="1600200"/>
            <a:ext cx="174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ocal attribu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3398760" y="1600200"/>
            <a:ext cx="240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Directly related cla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6188760" y="1600200"/>
            <a:ext cx="256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ndirectly related cla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3"/>
          <p:cNvGrpSpPr/>
          <p:nvPr/>
        </p:nvGrpSpPr>
        <p:grpSpPr>
          <a:xfrm>
            <a:off x="6175440" y="1944720"/>
            <a:ext cx="1703160" cy="2898720"/>
            <a:chOff x="6175440" y="1944720"/>
            <a:chExt cx="1703160" cy="2898720"/>
          </a:xfrm>
        </p:grpSpPr>
        <p:sp>
          <p:nvSpPr>
            <p:cNvPr id="219" name="Freeform 11"/>
            <p:cNvSpPr/>
            <p:nvPr/>
          </p:nvSpPr>
          <p:spPr>
            <a:xfrm>
              <a:off x="6962760" y="2357280"/>
              <a:ext cx="131760" cy="331920"/>
            </a:xfrm>
            <a:prstGeom prst="pi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7026120" y="2630520"/>
              <a:ext cx="1800" cy="554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Group 45"/>
            <p:cNvGrpSpPr/>
            <p:nvPr/>
          </p:nvGrpSpPr>
          <p:grpSpPr>
            <a:xfrm>
              <a:off x="6175440" y="3184560"/>
              <a:ext cx="1703160" cy="420480"/>
              <a:chOff x="6175440" y="3184560"/>
              <a:chExt cx="1703160" cy="420480"/>
            </a:xfrm>
          </p:grpSpPr>
          <p:sp>
            <p:nvSpPr>
              <p:cNvPr id="222" name="Rectangle 21"/>
              <p:cNvSpPr/>
              <p:nvPr/>
            </p:nvSpPr>
            <p:spPr>
              <a:xfrm>
                <a:off x="6175440" y="3184560"/>
                <a:ext cx="1703160" cy="4204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22"/>
              <p:cNvSpPr/>
              <p:nvPr/>
            </p:nvSpPr>
            <p:spPr>
              <a:xfrm>
                <a:off x="6356880" y="3257640"/>
                <a:ext cx="1338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Sans Typewriter"/>
                  </a:rPr>
                  <a:t>Tournament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44"/>
            <p:cNvGrpSpPr/>
            <p:nvPr/>
          </p:nvGrpSpPr>
          <p:grpSpPr>
            <a:xfrm>
              <a:off x="6175440" y="1944720"/>
              <a:ext cx="1703160" cy="420480"/>
              <a:chOff x="6175440" y="1944720"/>
              <a:chExt cx="1703160" cy="420480"/>
            </a:xfrm>
          </p:grpSpPr>
          <p:sp>
            <p:nvSpPr>
              <p:cNvPr id="225" name="Rectangle 24"/>
              <p:cNvSpPr/>
              <p:nvPr/>
            </p:nvSpPr>
            <p:spPr>
              <a:xfrm>
                <a:off x="6175440" y="1944720"/>
                <a:ext cx="1703160" cy="4204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25"/>
              <p:cNvSpPr/>
              <p:nvPr/>
            </p:nvSpPr>
            <p:spPr>
              <a:xfrm>
                <a:off x="6631920" y="2017800"/>
                <a:ext cx="790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Sans Typewriter"/>
                  </a:rPr>
                  <a:t>League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Rectangle 31"/>
            <p:cNvSpPr/>
            <p:nvPr/>
          </p:nvSpPr>
          <p:spPr>
            <a:xfrm>
              <a:off x="6807960" y="2994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807960" y="363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3"/>
            <p:cNvSpPr/>
            <p:nvPr/>
          </p:nvSpPr>
          <p:spPr>
            <a:xfrm>
              <a:off x="7026120" y="3583080"/>
              <a:ext cx="1800" cy="861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46"/>
            <p:cNvGrpSpPr/>
            <p:nvPr/>
          </p:nvGrpSpPr>
          <p:grpSpPr>
            <a:xfrm>
              <a:off x="6175440" y="4444920"/>
              <a:ext cx="1703160" cy="398520"/>
              <a:chOff x="6175440" y="4444920"/>
              <a:chExt cx="1703160" cy="398520"/>
            </a:xfrm>
          </p:grpSpPr>
          <p:sp>
            <p:nvSpPr>
              <p:cNvPr id="231" name="Rectangle 35"/>
              <p:cNvSpPr/>
              <p:nvPr/>
            </p:nvSpPr>
            <p:spPr>
              <a:xfrm>
                <a:off x="6175440" y="4444920"/>
                <a:ext cx="1703160" cy="3985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36"/>
              <p:cNvSpPr/>
              <p:nvPr/>
            </p:nvSpPr>
            <p:spPr>
              <a:xfrm>
                <a:off x="6692760" y="4506840"/>
                <a:ext cx="668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Sans Typewriter"/>
                  </a:rPr>
                  <a:t>Player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Rectangle 37"/>
            <p:cNvSpPr/>
            <p:nvPr/>
          </p:nvSpPr>
          <p:spPr>
            <a:xfrm>
              <a:off x="6807960" y="425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Bogen 38"/>
          <p:cNvSpPr/>
          <p:nvPr/>
        </p:nvSpPr>
        <p:spPr>
          <a:xfrm flipH="1" rot="18900000">
            <a:off x="5257440" y="2500200"/>
            <a:ext cx="1676520" cy="1676520"/>
          </a:xfrm>
          <a:prstGeom prst="pie">
            <a:avLst/>
          </a:prstGeom>
          <a:noFill/>
          <a:ln w="38160">
            <a:solidFill>
              <a:srgbClr val="8f8f8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2"/>
          <p:cNvGrpSpPr/>
          <p:nvPr/>
        </p:nvGrpSpPr>
        <p:grpSpPr>
          <a:xfrm>
            <a:off x="3397320" y="1944720"/>
            <a:ext cx="1704960" cy="1682640"/>
            <a:chOff x="3397320" y="1944720"/>
            <a:chExt cx="1704960" cy="1682640"/>
          </a:xfrm>
        </p:grpSpPr>
        <p:sp>
          <p:nvSpPr>
            <p:cNvPr id="236" name="Line 13"/>
            <p:cNvSpPr/>
            <p:nvPr/>
          </p:nvSpPr>
          <p:spPr>
            <a:xfrm>
              <a:off x="4238640" y="2343240"/>
              <a:ext cx="1440" cy="86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43"/>
            <p:cNvGrpSpPr/>
            <p:nvPr/>
          </p:nvGrpSpPr>
          <p:grpSpPr>
            <a:xfrm>
              <a:off x="3397320" y="1944720"/>
              <a:ext cx="1704960" cy="420480"/>
              <a:chOff x="3397320" y="1944720"/>
              <a:chExt cx="1704960" cy="420480"/>
            </a:xfrm>
          </p:grpSpPr>
          <p:sp>
            <p:nvSpPr>
              <p:cNvPr id="238" name="Rectangle 15"/>
              <p:cNvSpPr/>
              <p:nvPr/>
            </p:nvSpPr>
            <p:spPr>
              <a:xfrm>
                <a:off x="3397320" y="1944720"/>
                <a:ext cx="1704960" cy="4204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6"/>
              <p:cNvSpPr/>
              <p:nvPr/>
            </p:nvSpPr>
            <p:spPr>
              <a:xfrm>
                <a:off x="3853800" y="2017800"/>
                <a:ext cx="790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Sans Typewriter"/>
                  </a:rPr>
                  <a:t>League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18"/>
            <p:cNvSpPr/>
            <p:nvPr/>
          </p:nvSpPr>
          <p:spPr>
            <a:xfrm>
              <a:off x="3397320" y="3206880"/>
              <a:ext cx="1704960" cy="420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4010040" y="3311640"/>
              <a:ext cx="66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Playe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4089960" y="3016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4089960" y="239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Bogen 39"/>
          <p:cNvSpPr/>
          <p:nvPr/>
        </p:nvSpPr>
        <p:spPr>
          <a:xfrm flipH="1" rot="18900000">
            <a:off x="2985120" y="2384280"/>
            <a:ext cx="762120" cy="761760"/>
          </a:xfrm>
          <a:prstGeom prst="pie">
            <a:avLst/>
          </a:prstGeom>
          <a:noFill/>
          <a:ln w="38160">
            <a:solidFill>
              <a:srgbClr val="8f8f8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608040" y="1944720"/>
            <a:ext cx="1704600" cy="931320"/>
            <a:chOff x="608040" y="1944720"/>
            <a:chExt cx="1704600" cy="931320"/>
          </a:xfrm>
        </p:grpSpPr>
        <p:grpSp>
          <p:nvGrpSpPr>
            <p:cNvPr id="246" name="Group 42"/>
            <p:cNvGrpSpPr/>
            <p:nvPr/>
          </p:nvGrpSpPr>
          <p:grpSpPr>
            <a:xfrm>
              <a:off x="609480" y="1944720"/>
              <a:ext cx="1703160" cy="420480"/>
              <a:chOff x="609480" y="1944720"/>
              <a:chExt cx="1703160" cy="420480"/>
            </a:xfrm>
          </p:grpSpPr>
          <p:sp>
            <p:nvSpPr>
              <p:cNvPr id="247" name="Rectangle 4"/>
              <p:cNvSpPr/>
              <p:nvPr/>
            </p:nvSpPr>
            <p:spPr>
              <a:xfrm>
                <a:off x="609480" y="1944720"/>
                <a:ext cx="1703160" cy="4204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5"/>
              <p:cNvSpPr/>
              <p:nvPr/>
            </p:nvSpPr>
            <p:spPr>
              <a:xfrm>
                <a:off x="790920" y="2017800"/>
                <a:ext cx="1338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Sans Typewriter"/>
                  </a:rPr>
                  <a:t>Tournament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6"/>
            <p:cNvGrpSpPr/>
            <p:nvPr/>
          </p:nvGrpSpPr>
          <p:grpSpPr>
            <a:xfrm>
              <a:off x="608040" y="2362320"/>
              <a:ext cx="1703520" cy="513720"/>
              <a:chOff x="608040" y="2362320"/>
              <a:chExt cx="1703520" cy="513720"/>
            </a:xfrm>
          </p:grpSpPr>
          <p:grpSp>
            <p:nvGrpSpPr>
              <p:cNvPr id="250" name="Group 7"/>
              <p:cNvGrpSpPr/>
              <p:nvPr/>
            </p:nvGrpSpPr>
            <p:grpSpPr>
              <a:xfrm>
                <a:off x="741600" y="2381760"/>
                <a:ext cx="1161360" cy="491400"/>
                <a:chOff x="741600" y="2381760"/>
                <a:chExt cx="1161360" cy="491400"/>
              </a:xfrm>
            </p:grpSpPr>
            <p:sp>
              <p:nvSpPr>
                <p:cNvPr id="251" name="Rectangle 8"/>
                <p:cNvSpPr/>
                <p:nvPr/>
              </p:nvSpPr>
              <p:spPr>
                <a:xfrm>
                  <a:off x="837000" y="2381760"/>
                  <a:ext cx="1065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Typewriter"/>
                    </a:rPr>
                    <a:t>start:Date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9"/>
                <p:cNvSpPr/>
                <p:nvPr/>
              </p:nvSpPr>
              <p:spPr>
                <a:xfrm>
                  <a:off x="741600" y="2598480"/>
                  <a:ext cx="980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Typewriter"/>
                    </a:rPr>
                    <a:t>end:Date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Rectangle 10"/>
              <p:cNvSpPr/>
              <p:nvPr/>
            </p:nvSpPr>
            <p:spPr>
              <a:xfrm>
                <a:off x="608040" y="2362320"/>
                <a:ext cx="1703520" cy="5137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Bogen 40"/>
          <p:cNvSpPr/>
          <p:nvPr/>
        </p:nvSpPr>
        <p:spPr>
          <a:xfrm flipH="1" rot="18900000">
            <a:off x="304920" y="2195640"/>
            <a:ext cx="380880" cy="380880"/>
          </a:xfrm>
          <a:prstGeom prst="pie">
            <a:avLst/>
          </a:prstGeom>
          <a:noFill/>
          <a:ln w="38160">
            <a:solidFill>
              <a:srgbClr val="8f8f8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1"/>
          <p:cNvSpPr/>
          <p:nvPr/>
        </p:nvSpPr>
        <p:spPr>
          <a:xfrm>
            <a:off x="779040" y="5167440"/>
            <a:ext cx="75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ny constraint for an arbitrary UML class diagram c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e specified using only a combination of the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3 navigation types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0"/>
          <p:cNvSpPr/>
          <p:nvPr/>
        </p:nvSpPr>
        <p:spPr>
          <a:xfrm>
            <a:off x="0" y="1447920"/>
            <a:ext cx="2781360" cy="1863720"/>
          </a:xfrm>
          <a:prstGeom prst="ellipse">
            <a:avLst/>
          </a:prstGeom>
          <a:noFill/>
          <a:ln w="12600">
            <a:solidFill>
              <a:srgbClr val="c0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78710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pecifying the Model Constraints in OC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946080"/>
            <a:ext cx="535968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1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1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attribute nav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5094360" y="1247760"/>
            <a:ext cx="3934440" cy="4989600"/>
            <a:chOff x="5094360" y="1247760"/>
            <a:chExt cx="3934440" cy="4989600"/>
          </a:xfrm>
        </p:grpSpPr>
        <p:sp>
          <p:nvSpPr>
            <p:cNvPr id="260" name="Freeform 5"/>
            <p:cNvSpPr/>
            <p:nvPr/>
          </p:nvSpPr>
          <p:spPr>
            <a:xfrm>
              <a:off x="7556040" y="2448000"/>
              <a:ext cx="145080" cy="306360"/>
            </a:xfrm>
            <a:prstGeom prst="pi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 flipV="1">
              <a:off x="7629480" y="2731680"/>
              <a:ext cx="1440" cy="5446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5409000" y="525780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player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7462080" y="309564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7777080" y="3095640"/>
              <a:ext cx="116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tournament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6614280" y="2813040"/>
              <a:ext cx="87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{ordered}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11"/>
            <p:cNvGrpSpPr/>
            <p:nvPr/>
          </p:nvGrpSpPr>
          <p:grpSpPr>
            <a:xfrm>
              <a:off x="6253560" y="3295800"/>
              <a:ext cx="2750760" cy="1177920"/>
              <a:chOff x="6253560" y="3295800"/>
              <a:chExt cx="2750760" cy="1177920"/>
            </a:xfrm>
          </p:grpSpPr>
          <p:grpSp>
            <p:nvGrpSpPr>
              <p:cNvPr id="267" name="Group 12"/>
              <p:cNvGrpSpPr/>
              <p:nvPr/>
            </p:nvGrpSpPr>
            <p:grpSpPr>
              <a:xfrm>
                <a:off x="6253560" y="3295800"/>
                <a:ext cx="2750760" cy="423720"/>
                <a:chOff x="6253560" y="3295800"/>
                <a:chExt cx="2750760" cy="423720"/>
              </a:xfrm>
            </p:grpSpPr>
            <p:sp>
              <p:nvSpPr>
                <p:cNvPr id="268" name="Rectangle 13"/>
                <p:cNvSpPr/>
                <p:nvPr/>
              </p:nvSpPr>
              <p:spPr>
                <a:xfrm>
                  <a:off x="6253560" y="3295800"/>
                  <a:ext cx="2750760" cy="42372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Rectangle 14"/>
                <p:cNvSpPr/>
                <p:nvPr/>
              </p:nvSpPr>
              <p:spPr>
                <a:xfrm>
                  <a:off x="7052040" y="3394080"/>
                  <a:ext cx="1116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Tournament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Group 15"/>
              <p:cNvGrpSpPr/>
              <p:nvPr/>
            </p:nvGrpSpPr>
            <p:grpSpPr>
              <a:xfrm>
                <a:off x="6253560" y="3718080"/>
                <a:ext cx="2750760" cy="446040"/>
                <a:chOff x="6253560" y="3718080"/>
                <a:chExt cx="2750760" cy="446040"/>
              </a:xfrm>
            </p:grpSpPr>
            <p:sp>
              <p:nvSpPr>
                <p:cNvPr id="271" name="Rectangle 16"/>
                <p:cNvSpPr/>
                <p:nvPr/>
              </p:nvSpPr>
              <p:spPr>
                <a:xfrm>
                  <a:off x="6253560" y="3718080"/>
                  <a:ext cx="2750760" cy="4460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Group 17"/>
                <p:cNvGrpSpPr/>
                <p:nvPr/>
              </p:nvGrpSpPr>
              <p:grpSpPr>
                <a:xfrm>
                  <a:off x="6400800" y="3733920"/>
                  <a:ext cx="1076760" cy="417600"/>
                  <a:chOff x="6400800" y="3733920"/>
                  <a:chExt cx="1076760" cy="417600"/>
                </a:xfrm>
              </p:grpSpPr>
              <p:sp>
                <p:nvSpPr>
                  <p:cNvPr id="273" name="Rectangle 18"/>
                  <p:cNvSpPr/>
                  <p:nvPr/>
                </p:nvSpPr>
                <p:spPr>
                  <a:xfrm>
                    <a:off x="6478560" y="3733920"/>
                    <a:ext cx="999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start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Rectangle 19"/>
                  <p:cNvSpPr/>
                  <p:nvPr/>
                </p:nvSpPr>
                <p:spPr>
                  <a:xfrm>
                    <a:off x="6400800" y="3922920"/>
                    <a:ext cx="927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end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Group 20"/>
              <p:cNvGrpSpPr/>
              <p:nvPr/>
            </p:nvGrpSpPr>
            <p:grpSpPr>
              <a:xfrm>
                <a:off x="6253560" y="4168800"/>
                <a:ext cx="2750760" cy="304920"/>
                <a:chOff x="6253560" y="4168800"/>
                <a:chExt cx="2750760" cy="304920"/>
              </a:xfrm>
            </p:grpSpPr>
            <p:sp>
              <p:nvSpPr>
                <p:cNvPr id="276" name="Rectangle 21"/>
                <p:cNvSpPr/>
                <p:nvPr/>
              </p:nvSpPr>
              <p:spPr>
                <a:xfrm>
                  <a:off x="6253560" y="4168800"/>
                  <a:ext cx="2750760" cy="30492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22"/>
                <p:cNvSpPr/>
                <p:nvPr/>
              </p:nvSpPr>
              <p:spPr>
                <a:xfrm>
                  <a:off x="6631920" y="4206960"/>
                  <a:ext cx="2091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acceptPlayer(p:Player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8" name="Rectangle 23"/>
            <p:cNvSpPr/>
            <p:nvPr/>
          </p:nvSpPr>
          <p:spPr>
            <a:xfrm>
              <a:off x="6115680" y="156528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24"/>
            <p:cNvGrpSpPr/>
            <p:nvPr/>
          </p:nvGrpSpPr>
          <p:grpSpPr>
            <a:xfrm>
              <a:off x="6276240" y="1247760"/>
              <a:ext cx="2752560" cy="1201680"/>
              <a:chOff x="6276240" y="1247760"/>
              <a:chExt cx="2752560" cy="1201680"/>
            </a:xfrm>
          </p:grpSpPr>
          <p:grpSp>
            <p:nvGrpSpPr>
              <p:cNvPr id="280" name="Group 25"/>
              <p:cNvGrpSpPr/>
              <p:nvPr/>
            </p:nvGrpSpPr>
            <p:grpSpPr>
              <a:xfrm>
                <a:off x="6276240" y="1247760"/>
                <a:ext cx="2752560" cy="447840"/>
                <a:chOff x="6276240" y="1247760"/>
                <a:chExt cx="2752560" cy="447840"/>
              </a:xfrm>
            </p:grpSpPr>
            <p:sp>
              <p:nvSpPr>
                <p:cNvPr id="281" name="Rectangle 26"/>
                <p:cNvSpPr/>
                <p:nvPr/>
              </p:nvSpPr>
              <p:spPr>
                <a:xfrm>
                  <a:off x="6276240" y="1247760"/>
                  <a:ext cx="2752560" cy="4478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27"/>
                <p:cNvSpPr/>
                <p:nvPr/>
              </p:nvSpPr>
              <p:spPr>
                <a:xfrm>
                  <a:off x="7317720" y="1357560"/>
                  <a:ext cx="659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League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28"/>
              <p:cNvGrpSpPr/>
              <p:nvPr/>
            </p:nvGrpSpPr>
            <p:grpSpPr>
              <a:xfrm>
                <a:off x="6276240" y="1695600"/>
                <a:ext cx="2752560" cy="447480"/>
                <a:chOff x="6276240" y="1695600"/>
                <a:chExt cx="2752560" cy="447480"/>
              </a:xfrm>
            </p:grpSpPr>
            <p:sp>
              <p:nvSpPr>
                <p:cNvPr id="284" name="Rectangle 29"/>
                <p:cNvSpPr/>
                <p:nvPr/>
              </p:nvSpPr>
              <p:spPr>
                <a:xfrm>
                  <a:off x="6276240" y="1695600"/>
                  <a:ext cx="2752560" cy="44748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Group 30"/>
                <p:cNvGrpSpPr/>
                <p:nvPr/>
              </p:nvGrpSpPr>
              <p:grpSpPr>
                <a:xfrm>
                  <a:off x="6413760" y="1711080"/>
                  <a:ext cx="1075320" cy="415800"/>
                  <a:chOff x="6413760" y="1711080"/>
                  <a:chExt cx="1075320" cy="415800"/>
                </a:xfrm>
              </p:grpSpPr>
              <p:sp>
                <p:nvSpPr>
                  <p:cNvPr id="286" name="Rectangle 31"/>
                  <p:cNvSpPr/>
                  <p:nvPr/>
                </p:nvSpPr>
                <p:spPr>
                  <a:xfrm>
                    <a:off x="6490080" y="1711080"/>
                    <a:ext cx="999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start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Rectangle 32"/>
                  <p:cNvSpPr/>
                  <p:nvPr/>
                </p:nvSpPr>
                <p:spPr>
                  <a:xfrm>
                    <a:off x="6413760" y="1898280"/>
                    <a:ext cx="927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end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Group 33"/>
              <p:cNvGrpSpPr/>
              <p:nvPr/>
            </p:nvGrpSpPr>
            <p:grpSpPr>
              <a:xfrm>
                <a:off x="6276240" y="2143080"/>
                <a:ext cx="2752560" cy="306360"/>
                <a:chOff x="6276240" y="2143080"/>
                <a:chExt cx="2752560" cy="306360"/>
              </a:xfrm>
            </p:grpSpPr>
            <p:sp>
              <p:nvSpPr>
                <p:cNvPr id="289" name="Rectangle 34"/>
                <p:cNvSpPr/>
                <p:nvPr/>
              </p:nvSpPr>
              <p:spPr>
                <a:xfrm>
                  <a:off x="6276240" y="2143080"/>
                  <a:ext cx="2752560" cy="30636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35"/>
                <p:cNvSpPr/>
                <p:nvPr/>
              </p:nvSpPr>
              <p:spPr>
                <a:xfrm>
                  <a:off x="6597360" y="2181240"/>
                  <a:ext cx="1704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getActivePlayers(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Rectangle 36"/>
            <p:cNvSpPr/>
            <p:nvPr/>
          </p:nvSpPr>
          <p:spPr>
            <a:xfrm>
              <a:off x="6115680" y="56149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37"/>
            <p:cNvGrpSpPr/>
            <p:nvPr/>
          </p:nvGrpSpPr>
          <p:grpSpPr>
            <a:xfrm>
              <a:off x="6253560" y="5369040"/>
              <a:ext cx="2751120" cy="423720"/>
              <a:chOff x="6253560" y="5369040"/>
              <a:chExt cx="2751120" cy="423720"/>
            </a:xfrm>
          </p:grpSpPr>
          <p:sp>
            <p:nvSpPr>
              <p:cNvPr id="293" name="Rectangle 38"/>
              <p:cNvSpPr/>
              <p:nvPr/>
            </p:nvSpPr>
            <p:spPr>
              <a:xfrm>
                <a:off x="6253560" y="5369040"/>
                <a:ext cx="2751120" cy="42372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39"/>
              <p:cNvSpPr/>
              <p:nvPr/>
            </p:nvSpPr>
            <p:spPr>
              <a:xfrm>
                <a:off x="7346160" y="5467320"/>
                <a:ext cx="556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Lucida Sans Typewriter"/>
                  </a:rPr>
                  <a:t>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40"/>
            <p:cNvGrpSpPr/>
            <p:nvPr/>
          </p:nvGrpSpPr>
          <p:grpSpPr>
            <a:xfrm>
              <a:off x="6253560" y="5789520"/>
              <a:ext cx="2751120" cy="447840"/>
              <a:chOff x="6253560" y="5789520"/>
              <a:chExt cx="2751120" cy="447840"/>
            </a:xfrm>
          </p:grpSpPr>
          <p:sp>
            <p:nvSpPr>
              <p:cNvPr id="296" name="Rectangle 41"/>
              <p:cNvSpPr/>
              <p:nvPr/>
            </p:nvSpPr>
            <p:spPr>
              <a:xfrm>
                <a:off x="6253560" y="5789520"/>
                <a:ext cx="2751120" cy="44784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42"/>
              <p:cNvGrpSpPr/>
              <p:nvPr/>
            </p:nvGrpSpPr>
            <p:grpSpPr>
              <a:xfrm>
                <a:off x="6424920" y="5805360"/>
                <a:ext cx="1254600" cy="415800"/>
                <a:chOff x="6424920" y="5805360"/>
                <a:chExt cx="1254600" cy="415800"/>
              </a:xfrm>
            </p:grpSpPr>
            <p:sp>
              <p:nvSpPr>
                <p:cNvPr id="298" name="Rectangle 43"/>
                <p:cNvSpPr/>
                <p:nvPr/>
              </p:nvSpPr>
              <p:spPr>
                <a:xfrm>
                  <a:off x="6424920" y="5805360"/>
                  <a:ext cx="12092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name:String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44"/>
                <p:cNvSpPr/>
                <p:nvPr/>
              </p:nvSpPr>
              <p:spPr>
                <a:xfrm>
                  <a:off x="6490080" y="5992560"/>
                  <a:ext cx="1189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email:String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0" name="Line 45"/>
            <p:cNvSpPr/>
            <p:nvPr/>
          </p:nvSpPr>
          <p:spPr>
            <a:xfrm flipV="1">
              <a:off x="7629480" y="4479480"/>
              <a:ext cx="1440" cy="89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46"/>
            <p:cNvSpPr/>
            <p:nvPr/>
          </p:nvSpPr>
          <p:spPr>
            <a:xfrm>
              <a:off x="7462080" y="512136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47"/>
            <p:cNvSpPr/>
            <p:nvPr/>
          </p:nvSpPr>
          <p:spPr>
            <a:xfrm>
              <a:off x="7807680" y="512136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player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48"/>
            <p:cNvSpPr/>
            <p:nvPr/>
          </p:nvSpPr>
          <p:spPr>
            <a:xfrm>
              <a:off x="7777080" y="4508640"/>
              <a:ext cx="116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tournament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49"/>
            <p:cNvSpPr/>
            <p:nvPr/>
          </p:nvSpPr>
          <p:spPr>
            <a:xfrm>
              <a:off x="7462080" y="450864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50"/>
            <p:cNvSpPr/>
            <p:nvPr/>
          </p:nvSpPr>
          <p:spPr>
            <a:xfrm>
              <a:off x="5094360" y="1506600"/>
              <a:ext cx="1181880" cy="4051080"/>
            </a:xfrm>
            <a:prstGeom prst="pie">
              <a:avLst/>
            </a:pr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Oval 51"/>
          <p:cNvSpPr/>
          <p:nvPr/>
        </p:nvSpPr>
        <p:spPr>
          <a:xfrm>
            <a:off x="6342120" y="3675240"/>
            <a:ext cx="1557360" cy="527040"/>
          </a:xfrm>
          <a:prstGeom prst="ellipse">
            <a:avLst/>
          </a:prstGeom>
          <a:noFill/>
          <a:ln w="38160">
            <a:solidFill>
              <a:srgbClr val="c0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60"/>
          <p:cNvSpPr/>
          <p:nvPr/>
        </p:nvSpPr>
        <p:spPr>
          <a:xfrm>
            <a:off x="7162920" y="1143000"/>
            <a:ext cx="1143000" cy="6094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61"/>
          <p:cNvSpPr/>
          <p:nvPr/>
        </p:nvSpPr>
        <p:spPr>
          <a:xfrm>
            <a:off x="5229360" y="5105520"/>
            <a:ext cx="1143000" cy="6094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63"/>
          <p:cNvSpPr/>
          <p:nvPr/>
        </p:nvSpPr>
        <p:spPr>
          <a:xfrm>
            <a:off x="5981760" y="5410080"/>
            <a:ext cx="533520" cy="60984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66"/>
          <p:cNvSpPr/>
          <p:nvPr/>
        </p:nvSpPr>
        <p:spPr>
          <a:xfrm>
            <a:off x="4737240" y="863640"/>
            <a:ext cx="2692440" cy="4317840"/>
          </a:xfrm>
          <a:prstGeom prst="pie">
            <a:avLst/>
          </a:prstGeom>
          <a:noFill/>
          <a:ln w="57240">
            <a:solidFill>
              <a:srgbClr val="0005c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7"/>
          <p:cNvSpPr/>
          <p:nvPr/>
        </p:nvSpPr>
        <p:spPr>
          <a:xfrm>
            <a:off x="152280" y="2552760"/>
            <a:ext cx="53596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ly related class navig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0"/>
          <p:cNvSpPr/>
          <p:nvPr/>
        </p:nvSpPr>
        <p:spPr>
          <a:xfrm>
            <a:off x="177840" y="1314360"/>
            <a:ext cx="53593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context </a:t>
            </a: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Tournament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inv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end - start &lt;=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2"/>
          <p:cNvSpPr/>
          <p:nvPr/>
        </p:nvSpPr>
        <p:spPr>
          <a:xfrm>
            <a:off x="57240" y="3035160"/>
            <a:ext cx="57895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Tournament::acceptPlayer(p)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pre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league.players-&gt;includes(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71"/>
          <p:cNvSpPr/>
          <p:nvPr/>
        </p:nvSpPr>
        <p:spPr>
          <a:xfrm flipV="1">
            <a:off x="4465800" y="2606760"/>
            <a:ext cx="372960" cy="225360"/>
          </a:xfrm>
          <a:custGeom>
            <a:avLst/>
            <a:gdLst>
              <a:gd name="textAreaLeft" fmla="*/ 14400 w 372960"/>
              <a:gd name="textAreaRight" fmla="*/ 358560 w 372960"/>
              <a:gd name="textAreaTop" fmla="*/ 14400 h 225360"/>
              <a:gd name="textAreaBottom" fmla="*/ 210960 h 225360"/>
            </a:gdLst>
            <a:ahLst/>
            <a:rect l="textAreaLeft" t="textAreaTop" r="textAreaRight" b="textAreaBottom"/>
            <a:pathLst>
              <a:path w="35724" h="21600">
                <a:moveTo>
                  <a:pt x="0" y="0"/>
                </a:moveTo>
                <a:lnTo>
                  <a:pt x="35724" y="0"/>
                </a:lnTo>
                <a:lnTo>
                  <a:pt x="35724" y="21600"/>
                </a:lnTo>
                <a:lnTo>
                  <a:pt x="0" y="21600"/>
                </a:lnTo>
                <a:close/>
              </a:path>
              <a:path fill="lightenLess" w="35724" h="21600">
                <a:moveTo>
                  <a:pt x="0" y="0"/>
                </a:moveTo>
                <a:lnTo>
                  <a:pt x="35724" y="0"/>
                </a:lnTo>
                <a:lnTo>
                  <a:pt x="34324" y="1400"/>
                </a:lnTo>
                <a:lnTo>
                  <a:pt x="1400" y="1400"/>
                </a:lnTo>
                <a:close/>
              </a:path>
              <a:path fill="darken" w="35724" h="21600">
                <a:moveTo>
                  <a:pt x="35724" y="0"/>
                </a:moveTo>
                <a:lnTo>
                  <a:pt x="35724" y="21600"/>
                </a:lnTo>
                <a:lnTo>
                  <a:pt x="34324" y="20200"/>
                </a:lnTo>
                <a:lnTo>
                  <a:pt x="34324" y="1400"/>
                </a:lnTo>
                <a:close/>
              </a:path>
              <a:path fill="darkenLess" w="35724" h="21600">
                <a:moveTo>
                  <a:pt x="35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24" y="20200"/>
                </a:lnTo>
                <a:close/>
              </a:path>
              <a:path fill="lighten" w="35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24" h="21600">
                <a:moveTo>
                  <a:pt x="10856" y="3794"/>
                </a:moveTo>
                <a:lnTo>
                  <a:pt x="24869" y="10800"/>
                </a:lnTo>
                <a:lnTo>
                  <a:pt x="10856" y="17806"/>
                </a:lnTo>
                <a:close/>
              </a:path>
            </a:pathLst>
          </a:cu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58"/>
          <p:cNvSpPr/>
          <p:nvPr/>
        </p:nvSpPr>
        <p:spPr>
          <a:xfrm>
            <a:off x="1666800" y="3782880"/>
            <a:ext cx="1111320" cy="49716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59"/>
          <p:cNvSpPr/>
          <p:nvPr/>
        </p:nvSpPr>
        <p:spPr>
          <a:xfrm>
            <a:off x="600120" y="3782880"/>
            <a:ext cx="1066680" cy="5302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62"/>
          <p:cNvSpPr/>
          <p:nvPr/>
        </p:nvSpPr>
        <p:spPr>
          <a:xfrm>
            <a:off x="2797200" y="3733920"/>
            <a:ext cx="2041560" cy="6094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914400" y="1765440"/>
            <a:ext cx="3086280" cy="458640"/>
          </a:xfrm>
          <a:prstGeom prst="ellipse">
            <a:avLst/>
          </a:prstGeom>
          <a:noFill/>
          <a:ln w="38160">
            <a:solidFill>
              <a:srgbClr val="c0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69"/>
          <p:cNvSpPr/>
          <p:nvPr/>
        </p:nvSpPr>
        <p:spPr>
          <a:xfrm flipV="1">
            <a:off x="4092480" y="1895400"/>
            <a:ext cx="373320" cy="225360"/>
          </a:xfrm>
          <a:custGeom>
            <a:avLst/>
            <a:gdLst>
              <a:gd name="textAreaLeft" fmla="*/ 14400 w 373320"/>
              <a:gd name="textAreaRight" fmla="*/ 358920 w 373320"/>
              <a:gd name="textAreaTop" fmla="*/ 14400 h 225360"/>
              <a:gd name="textAreaBottom" fmla="*/ 210960 h 225360"/>
            </a:gdLst>
            <a:ahLst/>
            <a:rect l="textAreaLeft" t="textAreaTop" r="textAreaRight" b="textAreaBottom"/>
            <a:pathLst>
              <a:path w="35759" h="21600">
                <a:moveTo>
                  <a:pt x="0" y="0"/>
                </a:moveTo>
                <a:lnTo>
                  <a:pt x="35759" y="0"/>
                </a:lnTo>
                <a:lnTo>
                  <a:pt x="35759" y="21600"/>
                </a:lnTo>
                <a:lnTo>
                  <a:pt x="0" y="21600"/>
                </a:lnTo>
                <a:close/>
              </a:path>
              <a:path fill="lightenLess" w="35759" h="21600">
                <a:moveTo>
                  <a:pt x="0" y="0"/>
                </a:moveTo>
                <a:lnTo>
                  <a:pt x="35759" y="0"/>
                </a:lnTo>
                <a:lnTo>
                  <a:pt x="34359" y="1400"/>
                </a:lnTo>
                <a:lnTo>
                  <a:pt x="1400" y="1400"/>
                </a:lnTo>
                <a:close/>
              </a:path>
              <a:path fill="darken" w="35759" h="21600">
                <a:moveTo>
                  <a:pt x="35759" y="0"/>
                </a:moveTo>
                <a:lnTo>
                  <a:pt x="35759" y="21600"/>
                </a:lnTo>
                <a:lnTo>
                  <a:pt x="34359" y="20200"/>
                </a:lnTo>
                <a:lnTo>
                  <a:pt x="34359" y="1400"/>
                </a:lnTo>
                <a:close/>
              </a:path>
              <a:path fill="darkenLess" w="35759" h="21600">
                <a:moveTo>
                  <a:pt x="35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59" y="20200"/>
                </a:lnTo>
                <a:close/>
              </a:path>
              <a:path fill="lighten" w="35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59" h="21600">
                <a:moveTo>
                  <a:pt x="10873" y="3794"/>
                </a:moveTo>
                <a:lnTo>
                  <a:pt x="24886" y="10800"/>
                </a:lnTo>
                <a:lnTo>
                  <a:pt x="10873" y="17806"/>
                </a:lnTo>
                <a:close/>
              </a:path>
            </a:pathLst>
          </a:cu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Sets, Bags and Seque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, Bags and Sequences are predefined in OCL and subtypes of </a:t>
            </a:r>
            <a:r>
              <a:rPr b="0" lang="en-US" sz="2400" spc="-1" strike="noStrike">
                <a:solidFill>
                  <a:srgbClr val="c02e06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OCL offers a large number of predefined operations on collections. They are all of the for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-&gt;operation(argu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OCL-Colle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OCL-Type Collection is the generic superclass of a collection of objects of Type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ubclasses of Collection 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t: Set in the mathematical sense. Eve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an appear only on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g: A collection, in which elements can appear more than once (also called multis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quence: A multiset, in which the elements are ord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 for Collection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t(Integer): a set of integer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g(Person): a multiset of 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quence(Customer): a sequence of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OCL-Operations for OCL-Collections (1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ize: Integer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umber of elements in th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ts val="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cludes(o:OclAny): Boolea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ue, if the element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s  in th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ts val="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ount(o:OclAny): Integer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unts how many times an element is contained in th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sEmpty: Boolea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ue, if the collection is empt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otEmpty: Boolea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ue, if the collection is not empt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e OCL-Typ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clAny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s the most general OCL-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447840" y="1873080"/>
            <a:ext cx="279360" cy="279720"/>
          </a:xfrm>
          <a:custGeom>
            <a:avLst/>
            <a:gdLst>
              <a:gd name="textAreaLeft" fmla="*/ 18000 w 279360"/>
              <a:gd name="textAreaRight" fmla="*/ 261360 w 279360"/>
              <a:gd name="textAreaTop" fmla="*/ 18000 h 279720"/>
              <a:gd name="textAreaBottom" fmla="*/ 261720 h 279720"/>
            </a:gdLst>
            <a:ahLst/>
            <a:rect l="textAreaLeft" t="textAreaTop" r="textAreaRight" b="textAreaBottom"/>
            <a:pathLst>
              <a:path w="21600" h="21628">
                <a:moveTo>
                  <a:pt x="0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0" y="21628"/>
                </a:lnTo>
                <a:close/>
              </a:path>
              <a:path fill="lightenLess" w="21600" h="21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8">
                <a:moveTo>
                  <a:pt x="21600" y="0"/>
                </a:moveTo>
                <a:lnTo>
                  <a:pt x="21600" y="21628"/>
                </a:lnTo>
                <a:lnTo>
                  <a:pt x="20200" y="20228"/>
                </a:lnTo>
                <a:lnTo>
                  <a:pt x="20200" y="1400"/>
                </a:lnTo>
                <a:close/>
              </a:path>
              <a:path fill="darkenLess" w="21600" h="21628">
                <a:moveTo>
                  <a:pt x="21600" y="21628"/>
                </a:moveTo>
                <a:lnTo>
                  <a:pt x="0" y="21628"/>
                </a:lnTo>
                <a:lnTo>
                  <a:pt x="1400" y="20228"/>
                </a:lnTo>
                <a:lnTo>
                  <a:pt x="20200" y="20228"/>
                </a:lnTo>
                <a:close/>
              </a:path>
              <a:path fill="lighten" w="21600" h="21628">
                <a:moveTo>
                  <a:pt x="0" y="21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8"/>
                </a:lnTo>
                <a:close/>
              </a:path>
              <a:path fill="darken" w="21600" h="21628">
                <a:moveTo>
                  <a:pt x="3794" y="3807"/>
                </a:moveTo>
                <a:lnTo>
                  <a:pt x="17806" y="10814"/>
                </a:lnTo>
                <a:lnTo>
                  <a:pt x="3794" y="178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OCL-Operations for OCL-Collections(2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24076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union(c1:Collection)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ion with collectio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ersection(c2:Collection)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rsection  with Collectio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contains only elements, which appear in the collection as well as in collectio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uftre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cluding(o:OclAny)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llection containing all elements of the  Collection and element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elect(expr:OclExpression) 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bset of all elements of the collection, for which the OCL-expression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p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e Lectur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predic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s, Bags, and Sequ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How do we get  OCL-Collections?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can be generated by explicitly enumerating the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can be generated by navigating along one or more 1-N assoc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vigation along a single 1:n association yields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vigation along a couple of  1:n associations yields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Ba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ultiset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vigation along a single 1:n association labeled  with the constraint {ordered }  yields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Navigation through a 1:n-Associ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480" y="947880"/>
            <a:ext cx="89010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7000"/>
          </a:bodyPr>
          <a:p>
            <a:pPr marL="10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: A Customer should not have more than 4 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Customer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ard-&gt;size &lt;=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53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53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53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lternative writing st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53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53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rd-&gt;size &lt;=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4475160" y="2227320"/>
            <a:ext cx="2426760" cy="4263480"/>
            <a:chOff x="4475160" y="2227320"/>
            <a:chExt cx="2426760" cy="4263480"/>
          </a:xfrm>
        </p:grpSpPr>
        <p:sp>
          <p:nvSpPr>
            <p:cNvPr id="334" name="Freeform 5"/>
            <p:cNvSpPr/>
            <p:nvPr/>
          </p:nvSpPr>
          <p:spPr>
            <a:xfrm>
              <a:off x="4475160" y="2543040"/>
              <a:ext cx="1365120" cy="86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6"/>
            <p:cNvSpPr/>
            <p:nvPr/>
          </p:nvSpPr>
          <p:spPr>
            <a:xfrm>
              <a:off x="4475160" y="2543040"/>
              <a:ext cx="1365120" cy="866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>
              <a:off x="4505040" y="259524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name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8"/>
            <p:cNvSpPr/>
            <p:nvPr/>
          </p:nvSpPr>
          <p:spPr>
            <a:xfrm>
              <a:off x="4939200" y="2595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9"/>
            <p:cNvSpPr/>
            <p:nvPr/>
          </p:nvSpPr>
          <p:spPr>
            <a:xfrm>
              <a:off x="4980240" y="259524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"/>
            <p:cNvSpPr/>
            <p:nvPr/>
          </p:nvSpPr>
          <p:spPr>
            <a:xfrm>
              <a:off x="4504320" y="279360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titel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1"/>
            <p:cNvSpPr/>
            <p:nvPr/>
          </p:nvSpPr>
          <p:spPr>
            <a:xfrm>
              <a:off x="4845960" y="2793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2"/>
            <p:cNvSpPr/>
            <p:nvPr/>
          </p:nvSpPr>
          <p:spPr>
            <a:xfrm>
              <a:off x="4890240" y="279360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4505760" y="299052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ge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"/>
            <p:cNvSpPr/>
            <p:nvPr/>
          </p:nvSpPr>
          <p:spPr>
            <a:xfrm>
              <a:off x="4875840" y="29905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5"/>
            <p:cNvSpPr/>
            <p:nvPr/>
          </p:nvSpPr>
          <p:spPr>
            <a:xfrm>
              <a:off x="4921200" y="299052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Intege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6"/>
            <p:cNvSpPr/>
            <p:nvPr/>
          </p:nvSpPr>
          <p:spPr>
            <a:xfrm>
              <a:off x="4502880" y="3188880"/>
              <a:ext cx="64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birthday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7"/>
            <p:cNvSpPr/>
            <p:nvPr/>
          </p:nvSpPr>
          <p:spPr>
            <a:xfrm>
              <a:off x="5257440" y="31888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5303160" y="31888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9"/>
            <p:cNvSpPr/>
            <p:nvPr/>
          </p:nvSpPr>
          <p:spPr>
            <a:xfrm>
              <a:off x="4475160" y="3409560"/>
              <a:ext cx="13651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0"/>
            <p:cNvSpPr/>
            <p:nvPr/>
          </p:nvSpPr>
          <p:spPr>
            <a:xfrm>
              <a:off x="4475160" y="3409560"/>
              <a:ext cx="1365120" cy="269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1"/>
            <p:cNvSpPr/>
            <p:nvPr/>
          </p:nvSpPr>
          <p:spPr>
            <a:xfrm>
              <a:off x="4503600" y="345888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getage()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2"/>
            <p:cNvSpPr/>
            <p:nvPr/>
          </p:nvSpPr>
          <p:spPr>
            <a:xfrm>
              <a:off x="5257440" y="34588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3"/>
            <p:cNvSpPr/>
            <p:nvPr/>
          </p:nvSpPr>
          <p:spPr>
            <a:xfrm>
              <a:off x="5302080" y="345888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Intege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4"/>
            <p:cNvSpPr/>
            <p:nvPr/>
          </p:nvSpPr>
          <p:spPr>
            <a:xfrm>
              <a:off x="4475160" y="2227320"/>
              <a:ext cx="1365120" cy="31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5"/>
            <p:cNvSpPr/>
            <p:nvPr/>
          </p:nvSpPr>
          <p:spPr>
            <a:xfrm>
              <a:off x="4475160" y="2227320"/>
              <a:ext cx="1365120" cy="315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6"/>
            <p:cNvSpPr/>
            <p:nvPr/>
          </p:nvSpPr>
          <p:spPr>
            <a:xfrm>
              <a:off x="4898880" y="2300040"/>
              <a:ext cx="75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>
              <a:off x="5183280" y="4589280"/>
              <a:ext cx="1718640" cy="126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8"/>
            <p:cNvSpPr/>
            <p:nvPr/>
          </p:nvSpPr>
          <p:spPr>
            <a:xfrm>
              <a:off x="5183280" y="4589280"/>
              <a:ext cx="1718640" cy="1261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9"/>
            <p:cNvSpPr/>
            <p:nvPr/>
          </p:nvSpPr>
          <p:spPr>
            <a:xfrm>
              <a:off x="5212800" y="4636800"/>
              <a:ext cx="41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valid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30"/>
            <p:cNvSpPr/>
            <p:nvPr/>
          </p:nvSpPr>
          <p:spPr>
            <a:xfrm>
              <a:off x="5645880" y="4636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31"/>
            <p:cNvSpPr/>
            <p:nvPr/>
          </p:nvSpPr>
          <p:spPr>
            <a:xfrm>
              <a:off x="5688000" y="4636800"/>
              <a:ext cx="59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Boolea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32"/>
            <p:cNvSpPr/>
            <p:nvPr/>
          </p:nvSpPr>
          <p:spPr>
            <a:xfrm>
              <a:off x="5211720" y="4835160"/>
              <a:ext cx="80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validSince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33"/>
            <p:cNvSpPr/>
            <p:nvPr/>
          </p:nvSpPr>
          <p:spPr>
            <a:xfrm>
              <a:off x="5846040" y="4835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4"/>
            <p:cNvSpPr/>
            <p:nvPr/>
          </p:nvSpPr>
          <p:spPr>
            <a:xfrm>
              <a:off x="5888160" y="483516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35"/>
            <p:cNvSpPr/>
            <p:nvPr/>
          </p:nvSpPr>
          <p:spPr>
            <a:xfrm>
              <a:off x="5213160" y="5036760"/>
              <a:ext cx="56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expires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36"/>
            <p:cNvSpPr/>
            <p:nvPr/>
          </p:nvSpPr>
          <p:spPr>
            <a:xfrm>
              <a:off x="6045120" y="5036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37"/>
            <p:cNvSpPr/>
            <p:nvPr/>
          </p:nvSpPr>
          <p:spPr>
            <a:xfrm>
              <a:off x="6089400" y="503676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38"/>
            <p:cNvSpPr/>
            <p:nvPr/>
          </p:nvSpPr>
          <p:spPr>
            <a:xfrm>
              <a:off x="5213160" y="52336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color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39"/>
            <p:cNvSpPr/>
            <p:nvPr/>
          </p:nvSpPr>
          <p:spPr>
            <a:xfrm>
              <a:off x="5616000" y="52336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0"/>
            <p:cNvSpPr/>
            <p:nvPr/>
          </p:nvSpPr>
          <p:spPr>
            <a:xfrm>
              <a:off x="5703480" y="523368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enum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41"/>
            <p:cNvSpPr/>
            <p:nvPr/>
          </p:nvSpPr>
          <p:spPr>
            <a:xfrm>
              <a:off x="6090480" y="52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42"/>
            <p:cNvSpPr/>
            <p:nvPr/>
          </p:nvSpPr>
          <p:spPr>
            <a:xfrm>
              <a:off x="6133680" y="5233680"/>
              <a:ext cx="8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43"/>
            <p:cNvSpPr/>
            <p:nvPr/>
          </p:nvSpPr>
          <p:spPr>
            <a:xfrm>
              <a:off x="6210720" y="52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44"/>
            <p:cNvSpPr/>
            <p:nvPr/>
          </p:nvSpPr>
          <p:spPr>
            <a:xfrm>
              <a:off x="6255360" y="5233680"/>
              <a:ext cx="44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ilver,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45"/>
            <p:cNvSpPr/>
            <p:nvPr/>
          </p:nvSpPr>
          <p:spPr>
            <a:xfrm>
              <a:off x="6669720" y="52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46"/>
            <p:cNvSpPr/>
            <p:nvPr/>
          </p:nvSpPr>
          <p:spPr>
            <a:xfrm>
              <a:off x="5218560" y="543204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47"/>
            <p:cNvSpPr/>
            <p:nvPr/>
          </p:nvSpPr>
          <p:spPr>
            <a:xfrm>
              <a:off x="6272280" y="54320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gold}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8"/>
            <p:cNvSpPr/>
            <p:nvPr/>
          </p:nvSpPr>
          <p:spPr>
            <a:xfrm>
              <a:off x="5212800" y="563040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printedName :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49"/>
            <p:cNvSpPr/>
            <p:nvPr/>
          </p:nvSpPr>
          <p:spPr>
            <a:xfrm>
              <a:off x="6409080" y="5630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50"/>
            <p:cNvSpPr/>
            <p:nvPr/>
          </p:nvSpPr>
          <p:spPr>
            <a:xfrm>
              <a:off x="6453720" y="563040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51"/>
            <p:cNvSpPr/>
            <p:nvPr/>
          </p:nvSpPr>
          <p:spPr>
            <a:xfrm>
              <a:off x="5183280" y="5851080"/>
              <a:ext cx="171864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52"/>
            <p:cNvSpPr/>
            <p:nvPr/>
          </p:nvSpPr>
          <p:spPr>
            <a:xfrm>
              <a:off x="5183280" y="4273200"/>
              <a:ext cx="1718640" cy="31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53"/>
            <p:cNvSpPr/>
            <p:nvPr/>
          </p:nvSpPr>
          <p:spPr>
            <a:xfrm>
              <a:off x="5183280" y="5851080"/>
              <a:ext cx="1718640" cy="269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54"/>
            <p:cNvSpPr/>
            <p:nvPr/>
          </p:nvSpPr>
          <p:spPr>
            <a:xfrm>
              <a:off x="5183280" y="4273200"/>
              <a:ext cx="1718640" cy="315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55"/>
            <p:cNvSpPr/>
            <p:nvPr/>
          </p:nvSpPr>
          <p:spPr>
            <a:xfrm>
              <a:off x="5504040" y="4346280"/>
              <a:ext cx="110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customerCard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56"/>
            <p:cNvSpPr/>
            <p:nvPr/>
          </p:nvSpPr>
          <p:spPr>
            <a:xfrm>
              <a:off x="4969080" y="37368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owne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5274000" y="405108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58"/>
            <p:cNvSpPr/>
            <p:nvPr/>
          </p:nvSpPr>
          <p:spPr>
            <a:xfrm>
              <a:off x="6083640" y="618624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>
              <a:off x="5502960" y="3679560"/>
              <a:ext cx="539640" cy="593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60"/>
            <p:cNvSpPr/>
            <p:nvPr/>
          </p:nvSpPr>
          <p:spPr>
            <a:xfrm>
              <a:off x="6152040" y="3971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AutoShape 61"/>
          <p:cNvSpPr/>
          <p:nvPr/>
        </p:nvSpPr>
        <p:spPr>
          <a:xfrm>
            <a:off x="420120" y="3601800"/>
            <a:ext cx="2334600" cy="1089360"/>
          </a:xfrm>
          <a:prstGeom prst="wedgeRoundRectCallout">
            <a:avLst>
              <a:gd name="adj1" fmla="val -18782"/>
              <a:gd name="adj2" fmla="val -99518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enot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DE" sz="2000" spc="-1" strike="noStrike">
                <a:solidFill>
                  <a:srgbClr val="0005c5"/>
                </a:solidFill>
                <a:latin typeface="Times New Roman"/>
              </a:rPr>
              <a:t>set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ustomerca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2"/>
          <p:cNvSpPr/>
          <p:nvPr/>
        </p:nvSpPr>
        <p:spPr>
          <a:xfrm>
            <a:off x="5942160" y="3895560"/>
            <a:ext cx="563400" cy="352440"/>
          </a:xfrm>
          <a:prstGeom prst="flowChartConnector">
            <a:avLst/>
          </a:prstGeom>
          <a:noFill/>
          <a:ln w="38160">
            <a:solidFill>
              <a:srgbClr val="c0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63"/>
          <p:cNvSpPr/>
          <p:nvPr/>
        </p:nvSpPr>
        <p:spPr>
          <a:xfrm>
            <a:off x="1876320" y="3127320"/>
            <a:ext cx="330480" cy="198360"/>
          </a:xfrm>
          <a:custGeom>
            <a:avLst/>
            <a:gdLst>
              <a:gd name="textAreaLeft" fmla="*/ 12600 w 330480"/>
              <a:gd name="textAreaRight" fmla="*/ 317880 w 330480"/>
              <a:gd name="textAreaTop" fmla="*/ 12600 h 198360"/>
              <a:gd name="textAreaBottom" fmla="*/ 185760 h 198360"/>
            </a:gdLst>
            <a:ahLst/>
            <a:rect l="textAreaLeft" t="textAreaTop" r="textAreaRight" b="textAreaBottom"/>
            <a:pathLst>
              <a:path w="35961" h="21600">
                <a:moveTo>
                  <a:pt x="0" y="0"/>
                </a:moveTo>
                <a:lnTo>
                  <a:pt x="35961" y="0"/>
                </a:lnTo>
                <a:lnTo>
                  <a:pt x="35961" y="21600"/>
                </a:lnTo>
                <a:lnTo>
                  <a:pt x="0" y="21600"/>
                </a:lnTo>
                <a:close/>
              </a:path>
              <a:path fill="lightenLess" w="35961" h="21600">
                <a:moveTo>
                  <a:pt x="0" y="0"/>
                </a:moveTo>
                <a:lnTo>
                  <a:pt x="35961" y="0"/>
                </a:lnTo>
                <a:lnTo>
                  <a:pt x="34561" y="1400"/>
                </a:lnTo>
                <a:lnTo>
                  <a:pt x="1400" y="1400"/>
                </a:lnTo>
                <a:close/>
              </a:path>
              <a:path fill="darken" w="35961" h="21600">
                <a:moveTo>
                  <a:pt x="35961" y="0"/>
                </a:moveTo>
                <a:lnTo>
                  <a:pt x="35961" y="21600"/>
                </a:lnTo>
                <a:lnTo>
                  <a:pt x="34561" y="20200"/>
                </a:lnTo>
                <a:lnTo>
                  <a:pt x="34561" y="1400"/>
                </a:lnTo>
                <a:close/>
              </a:path>
              <a:path fill="darkenLess" w="35961" h="21600">
                <a:moveTo>
                  <a:pt x="35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1" y="20200"/>
                </a:lnTo>
                <a:close/>
              </a:path>
              <a:path fill="lighten" w="35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1" h="21600">
                <a:moveTo>
                  <a:pt x="10974" y="3794"/>
                </a:moveTo>
                <a:lnTo>
                  <a:pt x="24987" y="10800"/>
                </a:lnTo>
                <a:lnTo>
                  <a:pt x="10974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3916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Navigation through several 1:n-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17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Lucida Sans Typewriter"/>
              </a:rPr>
              <a:t>programPart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Sans Typewriter"/>
              </a:rPr>
              <a:t>nrcustomer = bonusprogram.customer-&gt;s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Freeform 4"/>
          <p:cNvSpPr/>
          <p:nvPr/>
        </p:nvSpPr>
        <p:spPr>
          <a:xfrm>
            <a:off x="679320" y="5915160"/>
            <a:ext cx="168768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79320" y="5915160"/>
            <a:ext cx="168768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12440" y="596412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nrcustomer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1773360" y="5964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816560" y="5964120"/>
            <a:ext cx="54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9"/>
          <p:cNvSpPr/>
          <p:nvPr/>
        </p:nvSpPr>
        <p:spPr>
          <a:xfrm>
            <a:off x="679320" y="6189840"/>
            <a:ext cx="1687680" cy="274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0"/>
          <p:cNvSpPr/>
          <p:nvPr/>
        </p:nvSpPr>
        <p:spPr>
          <a:xfrm>
            <a:off x="679320" y="5594400"/>
            <a:ext cx="168768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679320" y="6189840"/>
            <a:ext cx="1687680" cy="274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679320" y="5594400"/>
            <a:ext cx="1687680" cy="320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783720" y="5668920"/>
            <a:ext cx="13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rogramPartn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24"/>
          <p:cNvSpPr/>
          <p:nvPr/>
        </p:nvSpPr>
        <p:spPr>
          <a:xfrm>
            <a:off x="7423200" y="4527720"/>
            <a:ext cx="1387440" cy="88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7423200" y="4527720"/>
            <a:ext cx="1387440" cy="882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7456320" y="4579920"/>
            <a:ext cx="46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7896240" y="4579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8"/>
          <p:cNvSpPr/>
          <p:nvPr/>
        </p:nvSpPr>
        <p:spPr>
          <a:xfrm>
            <a:off x="7935120" y="457992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7455600" y="4781520"/>
            <a:ext cx="35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titel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30"/>
          <p:cNvSpPr/>
          <p:nvPr/>
        </p:nvSpPr>
        <p:spPr>
          <a:xfrm>
            <a:off x="7800840" y="47815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7844400" y="478152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2"/>
          <p:cNvSpPr/>
          <p:nvPr/>
        </p:nvSpPr>
        <p:spPr>
          <a:xfrm>
            <a:off x="7456320" y="4983120"/>
            <a:ext cx="31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age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3"/>
          <p:cNvSpPr/>
          <p:nvPr/>
        </p:nvSpPr>
        <p:spPr>
          <a:xfrm>
            <a:off x="7832880" y="4983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4"/>
          <p:cNvSpPr/>
          <p:nvPr/>
        </p:nvSpPr>
        <p:spPr>
          <a:xfrm>
            <a:off x="7877880" y="4983120"/>
            <a:ext cx="54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5"/>
          <p:cNvSpPr/>
          <p:nvPr/>
        </p:nvSpPr>
        <p:spPr>
          <a:xfrm>
            <a:off x="7453800" y="518472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birthday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6"/>
          <p:cNvSpPr/>
          <p:nvPr/>
        </p:nvSpPr>
        <p:spPr>
          <a:xfrm>
            <a:off x="8220240" y="5184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8267760" y="5184720"/>
            <a:ext cx="51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Datu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8"/>
          <p:cNvSpPr/>
          <p:nvPr/>
        </p:nvSpPr>
        <p:spPr>
          <a:xfrm>
            <a:off x="7423200" y="5410080"/>
            <a:ext cx="138744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9"/>
          <p:cNvSpPr/>
          <p:nvPr/>
        </p:nvSpPr>
        <p:spPr>
          <a:xfrm>
            <a:off x="7423200" y="5410080"/>
            <a:ext cx="138744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0"/>
          <p:cNvSpPr/>
          <p:nvPr/>
        </p:nvSpPr>
        <p:spPr>
          <a:xfrm>
            <a:off x="7455240" y="5457960"/>
            <a:ext cx="67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getage()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1"/>
          <p:cNvSpPr/>
          <p:nvPr/>
        </p:nvSpPr>
        <p:spPr>
          <a:xfrm>
            <a:off x="8220240" y="54579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2"/>
          <p:cNvSpPr/>
          <p:nvPr/>
        </p:nvSpPr>
        <p:spPr>
          <a:xfrm>
            <a:off x="8266680" y="5457960"/>
            <a:ext cx="54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43"/>
          <p:cNvSpPr/>
          <p:nvPr/>
        </p:nvSpPr>
        <p:spPr>
          <a:xfrm>
            <a:off x="7423200" y="4205160"/>
            <a:ext cx="1387440" cy="32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4"/>
          <p:cNvSpPr/>
          <p:nvPr/>
        </p:nvSpPr>
        <p:spPr>
          <a:xfrm>
            <a:off x="7423200" y="4205160"/>
            <a:ext cx="1387440" cy="3225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5"/>
          <p:cNvSpPr/>
          <p:nvPr/>
        </p:nvSpPr>
        <p:spPr>
          <a:xfrm>
            <a:off x="7856280" y="4280040"/>
            <a:ext cx="8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6"/>
          <p:cNvSpPr/>
          <p:nvPr/>
        </p:nvSpPr>
        <p:spPr>
          <a:xfrm flipV="1">
            <a:off x="1517760" y="4295880"/>
            <a:ext cx="2063520" cy="1293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7"/>
          <p:cNvSpPr/>
          <p:nvPr/>
        </p:nvSpPr>
        <p:spPr>
          <a:xfrm>
            <a:off x="1562040" y="5186520"/>
            <a:ext cx="28116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8"/>
          <p:cNvSpPr/>
          <p:nvPr/>
        </p:nvSpPr>
        <p:spPr>
          <a:xfrm>
            <a:off x="1563120" y="5200560"/>
            <a:ext cx="28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49"/>
          <p:cNvSpPr/>
          <p:nvPr/>
        </p:nvSpPr>
        <p:spPr>
          <a:xfrm>
            <a:off x="3110040" y="4218120"/>
            <a:ext cx="2808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0"/>
          <p:cNvSpPr/>
          <p:nvPr/>
        </p:nvSpPr>
        <p:spPr>
          <a:xfrm>
            <a:off x="3110760" y="4232160"/>
            <a:ext cx="28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2"/>
          <p:cNvSpPr/>
          <p:nvPr/>
        </p:nvSpPr>
        <p:spPr>
          <a:xfrm flipH="1" flipV="1">
            <a:off x="5297040" y="4295880"/>
            <a:ext cx="2125800" cy="1092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14"/>
          <p:cNvSpPr/>
          <p:nvPr/>
        </p:nvSpPr>
        <p:spPr>
          <a:xfrm>
            <a:off x="3581280" y="4184640"/>
            <a:ext cx="171612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3581280" y="4459320"/>
            <a:ext cx="17161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3581280" y="4184640"/>
            <a:ext cx="171612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581280" y="4459320"/>
            <a:ext cx="1716120" cy="272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3615840" y="4506840"/>
            <a:ext cx="78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register(k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0"/>
          <p:cNvSpPr/>
          <p:nvPr/>
        </p:nvSpPr>
        <p:spPr>
          <a:xfrm>
            <a:off x="4437720" y="4506840"/>
            <a:ext cx="8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Customer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1"/>
          <p:cNvSpPr/>
          <p:nvPr/>
        </p:nvSpPr>
        <p:spPr>
          <a:xfrm>
            <a:off x="3581280" y="3862440"/>
            <a:ext cx="171612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3581280" y="3862440"/>
            <a:ext cx="1716120" cy="322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3"/>
          <p:cNvSpPr/>
          <p:nvPr/>
        </p:nvSpPr>
        <p:spPr>
          <a:xfrm>
            <a:off x="3753360" y="3936960"/>
            <a:ext cx="123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Bonusprogra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1"/>
          <p:cNvSpPr/>
          <p:nvPr/>
        </p:nvSpPr>
        <p:spPr>
          <a:xfrm>
            <a:off x="5397840" y="4202280"/>
            <a:ext cx="64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3"/>
          <p:cNvSpPr/>
          <p:nvPr/>
        </p:nvSpPr>
        <p:spPr>
          <a:xfrm>
            <a:off x="5381280" y="4627440"/>
            <a:ext cx="2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4"/>
          <p:cNvSpPr/>
          <p:nvPr/>
        </p:nvSpPr>
        <p:spPr>
          <a:xfrm>
            <a:off x="7077240" y="5106960"/>
            <a:ext cx="28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.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55"/>
          <p:cNvSpPr/>
          <p:nvPr/>
        </p:nvSpPr>
        <p:spPr>
          <a:xfrm>
            <a:off x="6126120" y="1297800"/>
            <a:ext cx="2824200" cy="759960"/>
          </a:xfrm>
          <a:prstGeom prst="wedgeRoundRectCallout">
            <a:avLst>
              <a:gd name="adj1" fmla="val -67356"/>
              <a:gd name="adj2" fmla="val 5814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enotes a </a:t>
            </a:r>
            <a:r>
              <a:rPr b="0" lang="de-DE" sz="2000" spc="-1" strike="noStrike">
                <a:solidFill>
                  <a:srgbClr val="0005c5"/>
                </a:solidFill>
                <a:latin typeface="Times New Roman"/>
              </a:rPr>
              <a:t>multiset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56"/>
          <p:cNvSpPr/>
          <p:nvPr/>
        </p:nvSpPr>
        <p:spPr>
          <a:xfrm>
            <a:off x="160200" y="2516040"/>
            <a:ext cx="2927520" cy="1089360"/>
          </a:xfrm>
          <a:prstGeom prst="wedgeRoundRectCallout">
            <a:avLst>
              <a:gd name="adj1" fmla="val 87055"/>
              <a:gd name="adj2" fmla="val -6991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nusprogra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enotes a </a:t>
            </a:r>
            <a:r>
              <a:rPr b="0" lang="de-DE" sz="2000" spc="-1" strike="noStrike">
                <a:solidFill>
                  <a:srgbClr val="0005c5"/>
                </a:solidFill>
                <a:latin typeface="Times New Roman"/>
              </a:rPr>
              <a:t>set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nusprogra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3000" y="221760"/>
            <a:ext cx="86738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avigation through a constrained Associ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vigation through an association with the constra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ordered}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ields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Bonus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vel-&gt;size =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Freeform 4"/>
          <p:cNvSpPr/>
          <p:nvPr/>
        </p:nvSpPr>
        <p:spPr>
          <a:xfrm>
            <a:off x="5854680" y="2981160"/>
            <a:ext cx="2108160" cy="29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5"/>
          <p:cNvSpPr/>
          <p:nvPr/>
        </p:nvSpPr>
        <p:spPr>
          <a:xfrm>
            <a:off x="5854680" y="3273480"/>
            <a:ext cx="21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854680" y="2981160"/>
            <a:ext cx="1927080" cy="29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5854680" y="3273480"/>
            <a:ext cx="1927080" cy="29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894640" y="332424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(k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7056360" y="3324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6762600" y="3324240"/>
            <a:ext cx="85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11"/>
          <p:cNvSpPr/>
          <p:nvPr/>
        </p:nvSpPr>
        <p:spPr>
          <a:xfrm>
            <a:off x="5854680" y="2638440"/>
            <a:ext cx="2108160" cy="34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5854680" y="2638440"/>
            <a:ext cx="1927080" cy="342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6041160" y="2716200"/>
            <a:ext cx="131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nusprogra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4"/>
          <p:cNvSpPr/>
          <p:nvPr/>
        </p:nvSpPr>
        <p:spPr>
          <a:xfrm flipH="1">
            <a:off x="5508360" y="3565440"/>
            <a:ext cx="1261800" cy="1906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807080" y="5153040"/>
            <a:ext cx="81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16"/>
          <p:cNvSpPr/>
          <p:nvPr/>
        </p:nvSpPr>
        <p:spPr>
          <a:xfrm>
            <a:off x="5191200" y="5815080"/>
            <a:ext cx="126684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5191200" y="5815080"/>
            <a:ext cx="1266840" cy="29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5231160" y="58705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5695920" y="5870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20"/>
          <p:cNvSpPr/>
          <p:nvPr/>
        </p:nvSpPr>
        <p:spPr>
          <a:xfrm>
            <a:off x="5744880" y="587052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21"/>
          <p:cNvSpPr/>
          <p:nvPr/>
        </p:nvSpPr>
        <p:spPr>
          <a:xfrm>
            <a:off x="5191200" y="6107040"/>
            <a:ext cx="1266840" cy="29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reeform 22"/>
          <p:cNvSpPr/>
          <p:nvPr/>
        </p:nvSpPr>
        <p:spPr>
          <a:xfrm>
            <a:off x="5191200" y="5472000"/>
            <a:ext cx="126684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3"/>
          <p:cNvSpPr/>
          <p:nvPr/>
        </p:nvSpPr>
        <p:spPr>
          <a:xfrm>
            <a:off x="5191200" y="6107040"/>
            <a:ext cx="1266840" cy="29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4"/>
          <p:cNvSpPr/>
          <p:nvPr/>
        </p:nvSpPr>
        <p:spPr>
          <a:xfrm>
            <a:off x="5191200" y="5472000"/>
            <a:ext cx="1266840" cy="343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5"/>
          <p:cNvSpPr/>
          <p:nvPr/>
        </p:nvSpPr>
        <p:spPr>
          <a:xfrm>
            <a:off x="5568840" y="554976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6"/>
          <p:cNvSpPr/>
          <p:nvPr/>
        </p:nvSpPr>
        <p:spPr>
          <a:xfrm>
            <a:off x="5743080" y="5216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7"/>
          <p:cNvSpPr/>
          <p:nvPr/>
        </p:nvSpPr>
        <p:spPr>
          <a:xfrm>
            <a:off x="461880" y="3898080"/>
            <a:ext cx="2932200" cy="759960"/>
          </a:xfrm>
          <a:prstGeom prst="wedgeRoundRectCallout">
            <a:avLst>
              <a:gd name="adj1" fmla="val -6694"/>
              <a:gd name="adj2" fmla="val -14848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v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a </a:t>
            </a:r>
            <a:r>
              <a:rPr b="0" lang="en-US" sz="2000" spc="-1" strike="noStrike">
                <a:solidFill>
                  <a:srgbClr val="0005c5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ve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Conversion between OCL-Collec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CL offers operations to convert OCL-Collec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Set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forms a multiset or sequence into a 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Bag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forms a set or sequence into a multi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sSequence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forms a set or multiset into a sequ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Example of a Convers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1166400"/>
            <a:ext cx="8001000" cy="34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programPart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rcustomer = bonusprogram.Customer-&gt;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4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is  expression may contain customer multiple times, we can  get the number of unique customers as follows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programPart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rcustomer = bonusprogram.Customer-&gt;asSet-&gt;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Freeform 4"/>
          <p:cNvSpPr/>
          <p:nvPr/>
        </p:nvSpPr>
        <p:spPr>
          <a:xfrm>
            <a:off x="679320" y="5972040"/>
            <a:ext cx="168768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679320" y="5972040"/>
            <a:ext cx="168768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712440" y="602136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nrcustomer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773360" y="60213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1816560" y="6021360"/>
            <a:ext cx="54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9"/>
          <p:cNvSpPr/>
          <p:nvPr/>
        </p:nvSpPr>
        <p:spPr>
          <a:xfrm>
            <a:off x="679320" y="6246720"/>
            <a:ext cx="168768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10"/>
          <p:cNvSpPr/>
          <p:nvPr/>
        </p:nvSpPr>
        <p:spPr>
          <a:xfrm>
            <a:off x="679320" y="5651640"/>
            <a:ext cx="168768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79320" y="6246720"/>
            <a:ext cx="168768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679320" y="5651640"/>
            <a:ext cx="1687680" cy="320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783720" y="5726160"/>
            <a:ext cx="13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rogramPartn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14"/>
          <p:cNvSpPr/>
          <p:nvPr/>
        </p:nvSpPr>
        <p:spPr>
          <a:xfrm>
            <a:off x="7423200" y="4584600"/>
            <a:ext cx="1387440" cy="88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7423200" y="4584600"/>
            <a:ext cx="1387440" cy="882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7456320" y="4637160"/>
            <a:ext cx="46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7896240" y="4637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7935120" y="463716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7455600" y="4838760"/>
            <a:ext cx="35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titel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0"/>
          <p:cNvSpPr/>
          <p:nvPr/>
        </p:nvSpPr>
        <p:spPr>
          <a:xfrm>
            <a:off x="7800840" y="48387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1"/>
          <p:cNvSpPr/>
          <p:nvPr/>
        </p:nvSpPr>
        <p:spPr>
          <a:xfrm>
            <a:off x="7844400" y="483876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7456320" y="5040360"/>
            <a:ext cx="31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age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3"/>
          <p:cNvSpPr/>
          <p:nvPr/>
        </p:nvSpPr>
        <p:spPr>
          <a:xfrm>
            <a:off x="7832880" y="50403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4"/>
          <p:cNvSpPr/>
          <p:nvPr/>
        </p:nvSpPr>
        <p:spPr>
          <a:xfrm>
            <a:off x="7877880" y="5040360"/>
            <a:ext cx="54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5"/>
          <p:cNvSpPr/>
          <p:nvPr/>
        </p:nvSpPr>
        <p:spPr>
          <a:xfrm>
            <a:off x="7453800" y="524196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birthday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6"/>
          <p:cNvSpPr/>
          <p:nvPr/>
        </p:nvSpPr>
        <p:spPr>
          <a:xfrm>
            <a:off x="8220240" y="52419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8267760" y="5241960"/>
            <a:ext cx="51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Datu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28"/>
          <p:cNvSpPr/>
          <p:nvPr/>
        </p:nvSpPr>
        <p:spPr>
          <a:xfrm>
            <a:off x="7423200" y="5467320"/>
            <a:ext cx="138744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7423200" y="5467320"/>
            <a:ext cx="138744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0"/>
          <p:cNvSpPr/>
          <p:nvPr/>
        </p:nvSpPr>
        <p:spPr>
          <a:xfrm>
            <a:off x="7455240" y="5514840"/>
            <a:ext cx="67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getage()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31"/>
          <p:cNvSpPr/>
          <p:nvPr/>
        </p:nvSpPr>
        <p:spPr>
          <a:xfrm>
            <a:off x="8220240" y="55148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8266680" y="5514840"/>
            <a:ext cx="54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33"/>
          <p:cNvSpPr/>
          <p:nvPr/>
        </p:nvSpPr>
        <p:spPr>
          <a:xfrm>
            <a:off x="7423200" y="4262400"/>
            <a:ext cx="138744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4"/>
          <p:cNvSpPr/>
          <p:nvPr/>
        </p:nvSpPr>
        <p:spPr>
          <a:xfrm>
            <a:off x="7423200" y="4262400"/>
            <a:ext cx="1387440" cy="322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5"/>
          <p:cNvSpPr/>
          <p:nvPr/>
        </p:nvSpPr>
        <p:spPr>
          <a:xfrm>
            <a:off x="7856280" y="4336920"/>
            <a:ext cx="8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36"/>
          <p:cNvSpPr/>
          <p:nvPr/>
        </p:nvSpPr>
        <p:spPr>
          <a:xfrm flipV="1">
            <a:off x="1517760" y="4352760"/>
            <a:ext cx="2063520" cy="1293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7"/>
          <p:cNvSpPr/>
          <p:nvPr/>
        </p:nvSpPr>
        <p:spPr>
          <a:xfrm>
            <a:off x="1562040" y="5243400"/>
            <a:ext cx="28116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38"/>
          <p:cNvSpPr/>
          <p:nvPr/>
        </p:nvSpPr>
        <p:spPr>
          <a:xfrm>
            <a:off x="1563120" y="5257800"/>
            <a:ext cx="28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39"/>
          <p:cNvSpPr/>
          <p:nvPr/>
        </p:nvSpPr>
        <p:spPr>
          <a:xfrm>
            <a:off x="3110040" y="4275000"/>
            <a:ext cx="2808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0"/>
          <p:cNvSpPr/>
          <p:nvPr/>
        </p:nvSpPr>
        <p:spPr>
          <a:xfrm>
            <a:off x="3110760" y="4289400"/>
            <a:ext cx="28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41"/>
          <p:cNvSpPr/>
          <p:nvPr/>
        </p:nvSpPr>
        <p:spPr>
          <a:xfrm flipH="1" flipV="1">
            <a:off x="5297040" y="4352760"/>
            <a:ext cx="2125800" cy="1092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42"/>
          <p:cNvSpPr/>
          <p:nvPr/>
        </p:nvSpPr>
        <p:spPr>
          <a:xfrm>
            <a:off x="3581280" y="4241880"/>
            <a:ext cx="171612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43"/>
          <p:cNvSpPr/>
          <p:nvPr/>
        </p:nvSpPr>
        <p:spPr>
          <a:xfrm>
            <a:off x="3581280" y="4516560"/>
            <a:ext cx="17161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4"/>
          <p:cNvSpPr/>
          <p:nvPr/>
        </p:nvSpPr>
        <p:spPr>
          <a:xfrm>
            <a:off x="3581280" y="4241880"/>
            <a:ext cx="1716120" cy="27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5"/>
          <p:cNvSpPr/>
          <p:nvPr/>
        </p:nvSpPr>
        <p:spPr>
          <a:xfrm>
            <a:off x="3581280" y="4516560"/>
            <a:ext cx="1716120" cy="272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3615840" y="4564080"/>
            <a:ext cx="78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register(k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4437720" y="4564080"/>
            <a:ext cx="8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Customer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48"/>
          <p:cNvSpPr/>
          <p:nvPr/>
        </p:nvSpPr>
        <p:spPr>
          <a:xfrm>
            <a:off x="3581280" y="3919680"/>
            <a:ext cx="171612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3581280" y="3919680"/>
            <a:ext cx="1716120" cy="322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0"/>
          <p:cNvSpPr/>
          <p:nvPr/>
        </p:nvSpPr>
        <p:spPr>
          <a:xfrm>
            <a:off x="3753360" y="3994200"/>
            <a:ext cx="123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Bonusprogra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1"/>
          <p:cNvSpPr/>
          <p:nvPr/>
        </p:nvSpPr>
        <p:spPr>
          <a:xfrm>
            <a:off x="5397840" y="4259160"/>
            <a:ext cx="64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52"/>
          <p:cNvSpPr/>
          <p:nvPr/>
        </p:nvSpPr>
        <p:spPr>
          <a:xfrm>
            <a:off x="5381280" y="4684680"/>
            <a:ext cx="2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7077240" y="5164200"/>
            <a:ext cx="28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.*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entury Gothic"/>
              </a:rPr>
              <a:t>Operations on OCL-Type </a:t>
            </a:r>
            <a:r>
              <a:rPr b="1" lang="de-DE" sz="3000" spc="-1" strike="noStrike">
                <a:solidFill>
                  <a:srgbClr val="000000"/>
                </a:solidFill>
                <a:latin typeface="Courier New"/>
              </a:rPr>
              <a:t>Seque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003320"/>
            <a:ext cx="804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irst: 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The first element of a  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st: T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The last element of a  seque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t(index:Integer): T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e element with index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in the 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The first Level, you can reach in the  bonusprogram has the name 'Silber'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CL-Invari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ourier New"/>
              </a:rPr>
              <a:t>Bonusprogram: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level-&gt;first.name = "Silber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5640" y="221760"/>
            <a:ext cx="86770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pecifying the Model Constraints: Using asSe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200" y="1198440"/>
            <a:ext cx="589428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attribute nav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ontext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Tournamen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inv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end - start &lt;= Calendar.W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ly related class nav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ontext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Tournament::acceptPlayer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league.players-&gt;includes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1" name="Group 4"/>
          <p:cNvGrpSpPr/>
          <p:nvPr/>
        </p:nvGrpSpPr>
        <p:grpSpPr>
          <a:xfrm>
            <a:off x="5410080" y="1247760"/>
            <a:ext cx="3563640" cy="4989600"/>
            <a:chOff x="5410080" y="1247760"/>
            <a:chExt cx="3563640" cy="4989600"/>
          </a:xfrm>
        </p:grpSpPr>
        <p:sp>
          <p:nvSpPr>
            <p:cNvPr id="532" name="Freeform 5"/>
            <p:cNvSpPr/>
            <p:nvPr/>
          </p:nvSpPr>
          <p:spPr>
            <a:xfrm>
              <a:off x="7602840" y="2448000"/>
              <a:ext cx="129240" cy="306360"/>
            </a:xfrm>
            <a:prstGeom prst="pi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 flipV="1">
              <a:off x="7668360" y="2731680"/>
              <a:ext cx="1080" cy="5446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7"/>
            <p:cNvSpPr/>
            <p:nvPr/>
          </p:nvSpPr>
          <p:spPr>
            <a:xfrm>
              <a:off x="5697720" y="525780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player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7520760" y="309564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9"/>
            <p:cNvSpPr/>
            <p:nvPr/>
          </p:nvSpPr>
          <p:spPr>
            <a:xfrm>
              <a:off x="7804080" y="3095640"/>
              <a:ext cx="116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tournament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6772680" y="2813040"/>
              <a:ext cx="87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{ordered}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11"/>
            <p:cNvGrpSpPr/>
            <p:nvPr/>
          </p:nvGrpSpPr>
          <p:grpSpPr>
            <a:xfrm>
              <a:off x="6442560" y="3295800"/>
              <a:ext cx="2452320" cy="1177920"/>
              <a:chOff x="6442560" y="3295800"/>
              <a:chExt cx="2452320" cy="1177920"/>
            </a:xfrm>
          </p:grpSpPr>
          <p:grpSp>
            <p:nvGrpSpPr>
              <p:cNvPr id="539" name="Group 12"/>
              <p:cNvGrpSpPr/>
              <p:nvPr/>
            </p:nvGrpSpPr>
            <p:grpSpPr>
              <a:xfrm>
                <a:off x="6442560" y="3295800"/>
                <a:ext cx="2450880" cy="423720"/>
                <a:chOff x="6442560" y="3295800"/>
                <a:chExt cx="2450880" cy="423720"/>
              </a:xfrm>
            </p:grpSpPr>
            <p:sp>
              <p:nvSpPr>
                <p:cNvPr id="540" name="Rectangle 13"/>
                <p:cNvSpPr/>
                <p:nvPr/>
              </p:nvSpPr>
              <p:spPr>
                <a:xfrm>
                  <a:off x="6442560" y="3295800"/>
                  <a:ext cx="2450880" cy="42372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14"/>
                <p:cNvSpPr/>
                <p:nvPr/>
              </p:nvSpPr>
              <p:spPr>
                <a:xfrm>
                  <a:off x="7155000" y="3394080"/>
                  <a:ext cx="1116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Tournament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15"/>
              <p:cNvGrpSpPr/>
              <p:nvPr/>
            </p:nvGrpSpPr>
            <p:grpSpPr>
              <a:xfrm>
                <a:off x="6442560" y="3718080"/>
                <a:ext cx="2450880" cy="446040"/>
                <a:chOff x="6442560" y="3718080"/>
                <a:chExt cx="2450880" cy="446040"/>
              </a:xfrm>
            </p:grpSpPr>
            <p:sp>
              <p:nvSpPr>
                <p:cNvPr id="543" name="Rectangle 16"/>
                <p:cNvSpPr/>
                <p:nvPr/>
              </p:nvSpPr>
              <p:spPr>
                <a:xfrm>
                  <a:off x="6442560" y="3718080"/>
                  <a:ext cx="2450880" cy="4460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Group 17"/>
                <p:cNvGrpSpPr/>
                <p:nvPr/>
              </p:nvGrpSpPr>
              <p:grpSpPr>
                <a:xfrm>
                  <a:off x="6580080" y="3733920"/>
                  <a:ext cx="1077840" cy="417600"/>
                  <a:chOff x="6580080" y="3733920"/>
                  <a:chExt cx="1077840" cy="417600"/>
                </a:xfrm>
              </p:grpSpPr>
              <p:sp>
                <p:nvSpPr>
                  <p:cNvPr id="545" name="Rectangle 18"/>
                  <p:cNvSpPr/>
                  <p:nvPr/>
                </p:nvSpPr>
                <p:spPr>
                  <a:xfrm>
                    <a:off x="6658920" y="3733920"/>
                    <a:ext cx="999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start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19"/>
                  <p:cNvSpPr/>
                  <p:nvPr/>
                </p:nvSpPr>
                <p:spPr>
                  <a:xfrm>
                    <a:off x="6580080" y="3922920"/>
                    <a:ext cx="927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end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Group 20"/>
              <p:cNvGrpSpPr/>
              <p:nvPr/>
            </p:nvGrpSpPr>
            <p:grpSpPr>
              <a:xfrm>
                <a:off x="6442560" y="4168800"/>
                <a:ext cx="2452320" cy="304920"/>
                <a:chOff x="6442560" y="4168800"/>
                <a:chExt cx="2452320" cy="304920"/>
              </a:xfrm>
            </p:grpSpPr>
            <p:sp>
              <p:nvSpPr>
                <p:cNvPr id="548" name="Rectangle 21"/>
                <p:cNvSpPr/>
                <p:nvPr/>
              </p:nvSpPr>
              <p:spPr>
                <a:xfrm>
                  <a:off x="6442560" y="4168800"/>
                  <a:ext cx="2450880" cy="30492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22"/>
                <p:cNvSpPr/>
                <p:nvPr/>
              </p:nvSpPr>
              <p:spPr>
                <a:xfrm>
                  <a:off x="6803280" y="4206960"/>
                  <a:ext cx="2091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acceptPlayer(p:Player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0" name="Rectangle 23"/>
            <p:cNvSpPr/>
            <p:nvPr/>
          </p:nvSpPr>
          <p:spPr>
            <a:xfrm>
              <a:off x="6320520" y="156528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6462720" y="1247760"/>
              <a:ext cx="2452680" cy="1201680"/>
              <a:chOff x="6462720" y="1247760"/>
              <a:chExt cx="2452680" cy="1201680"/>
            </a:xfrm>
          </p:grpSpPr>
          <p:grpSp>
            <p:nvGrpSpPr>
              <p:cNvPr id="552" name="Group 25"/>
              <p:cNvGrpSpPr/>
              <p:nvPr/>
            </p:nvGrpSpPr>
            <p:grpSpPr>
              <a:xfrm>
                <a:off x="6462720" y="1247760"/>
                <a:ext cx="2452680" cy="447840"/>
                <a:chOff x="6462720" y="1247760"/>
                <a:chExt cx="2452680" cy="447840"/>
              </a:xfrm>
            </p:grpSpPr>
            <p:sp>
              <p:nvSpPr>
                <p:cNvPr id="553" name="Rectangle 26"/>
                <p:cNvSpPr/>
                <p:nvPr/>
              </p:nvSpPr>
              <p:spPr>
                <a:xfrm>
                  <a:off x="6462720" y="1247760"/>
                  <a:ext cx="2452680" cy="4478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27"/>
                <p:cNvSpPr/>
                <p:nvPr/>
              </p:nvSpPr>
              <p:spPr>
                <a:xfrm>
                  <a:off x="7389720" y="1357560"/>
                  <a:ext cx="659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League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28"/>
              <p:cNvGrpSpPr/>
              <p:nvPr/>
            </p:nvGrpSpPr>
            <p:grpSpPr>
              <a:xfrm>
                <a:off x="6462720" y="1695600"/>
                <a:ext cx="2452680" cy="447480"/>
                <a:chOff x="6462720" y="1695600"/>
                <a:chExt cx="2452680" cy="447480"/>
              </a:xfrm>
            </p:grpSpPr>
            <p:sp>
              <p:nvSpPr>
                <p:cNvPr id="556" name="Rectangle 29"/>
                <p:cNvSpPr/>
                <p:nvPr/>
              </p:nvSpPr>
              <p:spPr>
                <a:xfrm>
                  <a:off x="6462720" y="1695600"/>
                  <a:ext cx="2452680" cy="44748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Group 30"/>
                <p:cNvGrpSpPr/>
                <p:nvPr/>
              </p:nvGrpSpPr>
              <p:grpSpPr>
                <a:xfrm>
                  <a:off x="6591240" y="1711080"/>
                  <a:ext cx="1077120" cy="415800"/>
                  <a:chOff x="6591240" y="1711080"/>
                  <a:chExt cx="1077120" cy="415800"/>
                </a:xfrm>
              </p:grpSpPr>
              <p:sp>
                <p:nvSpPr>
                  <p:cNvPr id="558" name="Rectangle 31"/>
                  <p:cNvSpPr/>
                  <p:nvPr/>
                </p:nvSpPr>
                <p:spPr>
                  <a:xfrm>
                    <a:off x="6669360" y="1711080"/>
                    <a:ext cx="9990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start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Rectangle 32"/>
                  <p:cNvSpPr/>
                  <p:nvPr/>
                </p:nvSpPr>
                <p:spPr>
                  <a:xfrm>
                    <a:off x="6591240" y="1898280"/>
                    <a:ext cx="927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Lucida Sans Typewriter"/>
                      </a:rPr>
                      <a:t>+end:Date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0" name="Group 33"/>
              <p:cNvGrpSpPr/>
              <p:nvPr/>
            </p:nvGrpSpPr>
            <p:grpSpPr>
              <a:xfrm>
                <a:off x="6462720" y="2143080"/>
                <a:ext cx="2452680" cy="306360"/>
                <a:chOff x="6462720" y="2143080"/>
                <a:chExt cx="2452680" cy="306360"/>
              </a:xfrm>
            </p:grpSpPr>
            <p:sp>
              <p:nvSpPr>
                <p:cNvPr id="561" name="Rectangle 34"/>
                <p:cNvSpPr/>
                <p:nvPr/>
              </p:nvSpPr>
              <p:spPr>
                <a:xfrm>
                  <a:off x="6462720" y="2143080"/>
                  <a:ext cx="2452680" cy="30636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Rectangle 35"/>
                <p:cNvSpPr/>
                <p:nvPr/>
              </p:nvSpPr>
              <p:spPr>
                <a:xfrm>
                  <a:off x="6776640" y="2181240"/>
                  <a:ext cx="1704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getActivePlayers(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Rectangle 36"/>
            <p:cNvSpPr/>
            <p:nvPr/>
          </p:nvSpPr>
          <p:spPr>
            <a:xfrm>
              <a:off x="6320520" y="56149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Group 37"/>
            <p:cNvGrpSpPr/>
            <p:nvPr/>
          </p:nvGrpSpPr>
          <p:grpSpPr>
            <a:xfrm>
              <a:off x="6442560" y="5369040"/>
              <a:ext cx="2450880" cy="423720"/>
              <a:chOff x="6442560" y="5369040"/>
              <a:chExt cx="2450880" cy="423720"/>
            </a:xfrm>
          </p:grpSpPr>
          <p:sp>
            <p:nvSpPr>
              <p:cNvPr id="565" name="Rectangle 38"/>
              <p:cNvSpPr/>
              <p:nvPr/>
            </p:nvSpPr>
            <p:spPr>
              <a:xfrm>
                <a:off x="6442560" y="5369040"/>
                <a:ext cx="2450880" cy="42372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39"/>
              <p:cNvSpPr/>
              <p:nvPr/>
            </p:nvSpPr>
            <p:spPr>
              <a:xfrm>
                <a:off x="7421760" y="5467320"/>
                <a:ext cx="556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Lucida Sans Typewriter"/>
                  </a:rPr>
                  <a:t>Player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40"/>
            <p:cNvGrpSpPr/>
            <p:nvPr/>
          </p:nvGrpSpPr>
          <p:grpSpPr>
            <a:xfrm>
              <a:off x="6442560" y="5789520"/>
              <a:ext cx="2450880" cy="447840"/>
              <a:chOff x="6442560" y="5789520"/>
              <a:chExt cx="2450880" cy="447840"/>
            </a:xfrm>
          </p:grpSpPr>
          <p:sp>
            <p:nvSpPr>
              <p:cNvPr id="568" name="Rectangle 41"/>
              <p:cNvSpPr/>
              <p:nvPr/>
            </p:nvSpPr>
            <p:spPr>
              <a:xfrm>
                <a:off x="6442560" y="5789520"/>
                <a:ext cx="2450880" cy="44784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Group 42"/>
              <p:cNvGrpSpPr/>
              <p:nvPr/>
            </p:nvGrpSpPr>
            <p:grpSpPr>
              <a:xfrm>
                <a:off x="6603120" y="5805360"/>
                <a:ext cx="1255320" cy="415800"/>
                <a:chOff x="6603120" y="5805360"/>
                <a:chExt cx="1255320" cy="415800"/>
              </a:xfrm>
            </p:grpSpPr>
            <p:sp>
              <p:nvSpPr>
                <p:cNvPr id="570" name="Rectangle 43"/>
                <p:cNvSpPr/>
                <p:nvPr/>
              </p:nvSpPr>
              <p:spPr>
                <a:xfrm>
                  <a:off x="6603120" y="5805360"/>
                  <a:ext cx="12092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name:String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44"/>
                <p:cNvSpPr/>
                <p:nvPr/>
              </p:nvSpPr>
              <p:spPr>
                <a:xfrm>
                  <a:off x="6669000" y="5992560"/>
                  <a:ext cx="1189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email:String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2" name="Line 45"/>
            <p:cNvSpPr/>
            <p:nvPr/>
          </p:nvSpPr>
          <p:spPr>
            <a:xfrm flipV="1">
              <a:off x="7668360" y="4479480"/>
              <a:ext cx="1080" cy="893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46"/>
            <p:cNvSpPr/>
            <p:nvPr/>
          </p:nvSpPr>
          <p:spPr>
            <a:xfrm>
              <a:off x="7520760" y="512136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47"/>
            <p:cNvSpPr/>
            <p:nvPr/>
          </p:nvSpPr>
          <p:spPr>
            <a:xfrm>
              <a:off x="7834680" y="512136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player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48"/>
            <p:cNvSpPr/>
            <p:nvPr/>
          </p:nvSpPr>
          <p:spPr>
            <a:xfrm>
              <a:off x="7804080" y="4508640"/>
              <a:ext cx="116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tournaments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49"/>
            <p:cNvSpPr/>
            <p:nvPr/>
          </p:nvSpPr>
          <p:spPr>
            <a:xfrm>
              <a:off x="7520760" y="450864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ucida Sans Typewriter"/>
                </a:rPr>
                <a:t>*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50"/>
            <p:cNvSpPr/>
            <p:nvPr/>
          </p:nvSpPr>
          <p:spPr>
            <a:xfrm>
              <a:off x="5410080" y="1506600"/>
              <a:ext cx="1052640" cy="4051080"/>
            </a:xfrm>
            <a:prstGeom prst="pie">
              <a:avLst/>
            </a:pr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Rectangle 55"/>
          <p:cNvSpPr/>
          <p:nvPr/>
        </p:nvSpPr>
        <p:spPr>
          <a:xfrm>
            <a:off x="5167440" y="304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56"/>
          <p:cNvSpPr/>
          <p:nvPr/>
        </p:nvSpPr>
        <p:spPr>
          <a:xfrm>
            <a:off x="7586640" y="4924440"/>
            <a:ext cx="1066680" cy="6094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57"/>
          <p:cNvSpPr/>
          <p:nvPr/>
        </p:nvSpPr>
        <p:spPr>
          <a:xfrm>
            <a:off x="1638360" y="5519880"/>
            <a:ext cx="1654200" cy="6094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9"/>
          <p:cNvSpPr/>
          <p:nvPr/>
        </p:nvSpPr>
        <p:spPr>
          <a:xfrm>
            <a:off x="7696080" y="2895480"/>
            <a:ext cx="1295640" cy="60984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60"/>
          <p:cNvSpPr/>
          <p:nvPr/>
        </p:nvSpPr>
        <p:spPr>
          <a:xfrm>
            <a:off x="3263760" y="5532480"/>
            <a:ext cx="1030320" cy="609480"/>
          </a:xfrm>
          <a:prstGeom prst="ellipse">
            <a:avLst/>
          </a:prstGeom>
          <a:noFill/>
          <a:ln w="38160">
            <a:solidFill>
              <a:srgbClr val="000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61"/>
          <p:cNvSpPr/>
          <p:nvPr/>
        </p:nvSpPr>
        <p:spPr>
          <a:xfrm>
            <a:off x="4322880" y="5510160"/>
            <a:ext cx="1028520" cy="609480"/>
          </a:xfrm>
          <a:prstGeom prst="ellipse">
            <a:avLst/>
          </a:prstGeom>
          <a:noFill/>
          <a:ln w="38160">
            <a:solidFill>
              <a:srgbClr val="c0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67"/>
          <p:cNvGrpSpPr/>
          <p:nvPr/>
        </p:nvGrpSpPr>
        <p:grpSpPr>
          <a:xfrm>
            <a:off x="7296120" y="2971800"/>
            <a:ext cx="533520" cy="1905120"/>
            <a:chOff x="7296120" y="2971800"/>
            <a:chExt cx="533520" cy="1905120"/>
          </a:xfrm>
        </p:grpSpPr>
        <p:sp>
          <p:nvSpPr>
            <p:cNvPr id="585" name="Oval 62"/>
            <p:cNvSpPr/>
            <p:nvPr/>
          </p:nvSpPr>
          <p:spPr>
            <a:xfrm>
              <a:off x="7296120" y="2971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c02e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Oval 64"/>
            <p:cNvSpPr/>
            <p:nvPr/>
          </p:nvSpPr>
          <p:spPr>
            <a:xfrm>
              <a:off x="7372440" y="4419720"/>
              <a:ext cx="457200" cy="457200"/>
            </a:xfrm>
            <a:prstGeom prst="ellipse">
              <a:avLst/>
            </a:prstGeom>
            <a:noFill/>
            <a:ln w="38160">
              <a:solidFill>
                <a:srgbClr val="c02e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65"/>
          <p:cNvSpPr/>
          <p:nvPr/>
        </p:nvSpPr>
        <p:spPr>
          <a:xfrm>
            <a:off x="1638360" y="4876920"/>
            <a:ext cx="914400" cy="457200"/>
          </a:xfrm>
          <a:prstGeom prst="rect">
            <a:avLst/>
          </a:prstGeom>
          <a:noFill/>
          <a:ln w="57240">
            <a:solidFill>
              <a:srgbClr val="005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6477120" y="1219320"/>
            <a:ext cx="2133360" cy="457200"/>
          </a:xfrm>
          <a:prstGeom prst="rect">
            <a:avLst/>
          </a:prstGeom>
          <a:noFill/>
          <a:ln w="57240">
            <a:solidFill>
              <a:srgbClr val="005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68"/>
          <p:cNvSpPr/>
          <p:nvPr/>
        </p:nvSpPr>
        <p:spPr>
          <a:xfrm>
            <a:off x="8001000" y="1676520"/>
            <a:ext cx="152280" cy="1218960"/>
          </a:xfrm>
          <a:prstGeom prst="line">
            <a:avLst/>
          </a:prstGeom>
          <a:ln w="57240">
            <a:solidFill>
              <a:srgbClr val="0005c5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69"/>
          <p:cNvSpPr/>
          <p:nvPr/>
        </p:nvSpPr>
        <p:spPr>
          <a:xfrm flipH="1">
            <a:off x="8076960" y="3505320"/>
            <a:ext cx="75960" cy="1371600"/>
          </a:xfrm>
          <a:prstGeom prst="line">
            <a:avLst/>
          </a:prstGeom>
          <a:ln w="57240">
            <a:solidFill>
              <a:srgbClr val="0005c5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0"/>
          <p:cNvSpPr/>
          <p:nvPr/>
        </p:nvSpPr>
        <p:spPr>
          <a:xfrm>
            <a:off x="6480" y="4629240"/>
            <a:ext cx="58942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ly related class navig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ontext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League::getActivePlayers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ost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result=tournaments.players-&gt;asS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71"/>
          <p:cNvSpPr/>
          <p:nvPr/>
        </p:nvSpPr>
        <p:spPr>
          <a:xfrm flipV="1">
            <a:off x="4651200" y="4650480"/>
            <a:ext cx="373320" cy="225720"/>
          </a:xfrm>
          <a:custGeom>
            <a:avLst/>
            <a:gdLst>
              <a:gd name="textAreaLeft" fmla="*/ 14400 w 373320"/>
              <a:gd name="textAreaRight" fmla="*/ 358920 w 373320"/>
              <a:gd name="textAreaTop" fmla="*/ 14400 h 225720"/>
              <a:gd name="textAreaBottom" fmla="*/ 211320 h 225720"/>
            </a:gdLst>
            <a:ahLst/>
            <a:rect l="textAreaLeft" t="textAreaTop" r="textAreaRight" b="textAreaBottom"/>
            <a:pathLst>
              <a:path w="35702" h="21600">
                <a:moveTo>
                  <a:pt x="0" y="0"/>
                </a:moveTo>
                <a:lnTo>
                  <a:pt x="35702" y="0"/>
                </a:lnTo>
                <a:lnTo>
                  <a:pt x="35702" y="21600"/>
                </a:lnTo>
                <a:lnTo>
                  <a:pt x="0" y="21600"/>
                </a:lnTo>
                <a:close/>
              </a:path>
              <a:path fill="lightenLess" w="35702" h="21600">
                <a:moveTo>
                  <a:pt x="0" y="0"/>
                </a:moveTo>
                <a:lnTo>
                  <a:pt x="35702" y="0"/>
                </a:lnTo>
                <a:lnTo>
                  <a:pt x="34302" y="1400"/>
                </a:lnTo>
                <a:lnTo>
                  <a:pt x="1400" y="1400"/>
                </a:lnTo>
                <a:close/>
              </a:path>
              <a:path fill="darken" w="35702" h="21600">
                <a:moveTo>
                  <a:pt x="35702" y="0"/>
                </a:moveTo>
                <a:lnTo>
                  <a:pt x="35702" y="21600"/>
                </a:lnTo>
                <a:lnTo>
                  <a:pt x="34302" y="20200"/>
                </a:lnTo>
                <a:lnTo>
                  <a:pt x="34302" y="1400"/>
                </a:lnTo>
                <a:close/>
              </a:path>
              <a:path fill="darkenLess" w="35702" h="21600">
                <a:moveTo>
                  <a:pt x="3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02" y="20200"/>
                </a:lnTo>
                <a:close/>
              </a:path>
              <a:path fill="lighten" w="3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02" h="21600">
                <a:moveTo>
                  <a:pt x="10844" y="3794"/>
                </a:moveTo>
                <a:lnTo>
                  <a:pt x="24857" y="10800"/>
                </a:lnTo>
                <a:lnTo>
                  <a:pt x="10844" y="17806"/>
                </a:lnTo>
                <a:close/>
              </a:path>
            </a:pathLst>
          </a:cu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valuating OCL Expres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42640" y="1195200"/>
            <a:ext cx="8521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an OCL expression is an object or a collection of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976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9760" indent="-239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ity of the association-end is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of the OCL expression is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singl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76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9760" indent="-239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ity is 0.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 is an empty set if there is no object, otherwise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singl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760" indent="0">
              <a:lnSpc>
                <a:spcPts val="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9760" indent="-239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ity of the association-end is 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 is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collection of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6012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default, the navigation result is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6012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association is {ordered}, the navigation results in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6012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“1-Many” associations result in a </a:t>
            </a:r>
            <a:r>
              <a:rPr b="0" lang="en-US" sz="2000" spc="-1" strike="noStrike">
                <a:solidFill>
                  <a:srgbClr val="0005c5"/>
                </a:solidFill>
                <a:latin typeface="Verdana"/>
              </a:rPr>
              <a:t>B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Reading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8680" y="1080720"/>
            <a:ext cx="8358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.B. Warmer, A.G. Klep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Constraint Language: Getting your Models ready for MDA, Addison-Wesley,  2nd edition, 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 Me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-Oriented Software Construction, 2nd edition, Prentice Hall, 1997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 Meye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by Contract: The Lesson of Ariane, Computer, IEEE, Vol. 30, No. 2, pp. 129-130, January 1997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archive.eiffel.com/doc/manuals/technology/contract/ariane/page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A. R. Hoar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xiomatic basis for computer programming. Communications of the ACM, 12(10):576-585, October 1969. (Good starting point for Hoare logic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en.wikipedia.org/wiki/Hoare_log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: Object Constraint Languag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language for expressing constraints over a set of objects and their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of the UML stand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write constraints that cannot otherwise be expressed in a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ide eff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ntrol f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Sets and Multi 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55680" y="1203480"/>
            <a:ext cx="802152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aints are predicates (often boolean expressions) on UML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acts are constraints on a class that enable class users, implementors and extenders to share the same assumption about the class (“Design by contract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L is the example of a formal language that allows us to express constraints on UML mod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icated constrains involving more than one class, attribute or operation can be expressed with 3 basic navigation typ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Backup and Additional Slid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solidFill>
            <a:srgbClr val="c02e06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Constraints on this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ournament’s planned duration must be under one we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can be accepted in a Tournament only if they are already registered with the corresponding Leagu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active Players in a League are those that have taken part in at least one Tournament of the Leag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184320" y="1270080"/>
            <a:ext cx="850680" cy="50148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7823160" y="6485040"/>
            <a:ext cx="257040" cy="149040"/>
          </a:xfrm>
          <a:custGeom>
            <a:avLst/>
            <a:gdLst>
              <a:gd name="textAreaLeft" fmla="*/ 9360 w 257040"/>
              <a:gd name="textAreaRight" fmla="*/ 247680 w 25704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37214" h="21600">
                <a:moveTo>
                  <a:pt x="0" y="0"/>
                </a:moveTo>
                <a:lnTo>
                  <a:pt x="37214" y="0"/>
                </a:lnTo>
                <a:lnTo>
                  <a:pt x="37214" y="21600"/>
                </a:lnTo>
                <a:lnTo>
                  <a:pt x="0" y="21600"/>
                </a:lnTo>
                <a:close/>
              </a:path>
              <a:path fill="lightenLess" w="37214" h="21600">
                <a:moveTo>
                  <a:pt x="0" y="0"/>
                </a:moveTo>
                <a:lnTo>
                  <a:pt x="37214" y="0"/>
                </a:lnTo>
                <a:lnTo>
                  <a:pt x="35814" y="1400"/>
                </a:lnTo>
                <a:lnTo>
                  <a:pt x="1400" y="1400"/>
                </a:lnTo>
                <a:close/>
              </a:path>
              <a:path fill="darken" w="37214" h="21600">
                <a:moveTo>
                  <a:pt x="37214" y="0"/>
                </a:moveTo>
                <a:lnTo>
                  <a:pt x="37214" y="21600"/>
                </a:lnTo>
                <a:lnTo>
                  <a:pt x="35814" y="20200"/>
                </a:lnTo>
                <a:lnTo>
                  <a:pt x="35814" y="1400"/>
                </a:lnTo>
                <a:close/>
              </a:path>
              <a:path fill="darkenLess" w="37214" h="21600">
                <a:moveTo>
                  <a:pt x="37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4" y="20200"/>
                </a:lnTo>
                <a:close/>
              </a:path>
              <a:path fill="lighten" w="37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4" h="21600">
                <a:moveTo>
                  <a:pt x="11601" y="7493"/>
                </a:moveTo>
                <a:lnTo>
                  <a:pt x="15108" y="7493"/>
                </a:lnTo>
                <a:lnTo>
                  <a:pt x="15108" y="12828"/>
                </a:lnTo>
                <a:cubicBezTo>
                  <a:pt x="15108" y="13751"/>
                  <a:pt x="15909" y="14482"/>
                  <a:pt x="16945" y="14482"/>
                </a:cubicBezTo>
                <a:lnTo>
                  <a:pt x="18607" y="14482"/>
                </a:lnTo>
                <a:cubicBezTo>
                  <a:pt x="19643" y="14482"/>
                  <a:pt x="20444" y="13751"/>
                  <a:pt x="20444" y="12828"/>
                </a:cubicBezTo>
                <a:lnTo>
                  <a:pt x="20444" y="7493"/>
                </a:lnTo>
                <a:lnTo>
                  <a:pt x="18607" y="7493"/>
                </a:lnTo>
                <a:lnTo>
                  <a:pt x="22115" y="3985"/>
                </a:lnTo>
                <a:lnTo>
                  <a:pt x="25788" y="7493"/>
                </a:lnTo>
                <a:lnTo>
                  <a:pt x="23951" y="7493"/>
                </a:lnTo>
                <a:lnTo>
                  <a:pt x="23951" y="12828"/>
                </a:lnTo>
                <a:cubicBezTo>
                  <a:pt x="23951" y="15596"/>
                  <a:pt x="21375" y="18155"/>
                  <a:pt x="18607" y="18155"/>
                </a:cubicBezTo>
                <a:lnTo>
                  <a:pt x="16945" y="18155"/>
                </a:lnTo>
                <a:cubicBezTo>
                  <a:pt x="14177" y="18155"/>
                  <a:pt x="11601" y="15596"/>
                  <a:pt x="11601" y="12828"/>
                </a:cubicBezTo>
                <a:close/>
              </a:path>
            </a:pathLst>
          </a:cu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Constraints on this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ournament’s planned duration must be under one we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can be accepted in a Tournament only if they are already registered with the corresponding Leagu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active Players in a League are those that have taken part in at least one Tournament of the Leag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7823160" y="6485040"/>
            <a:ext cx="257040" cy="149040"/>
          </a:xfrm>
          <a:custGeom>
            <a:avLst/>
            <a:gdLst>
              <a:gd name="textAreaLeft" fmla="*/ 9360 w 257040"/>
              <a:gd name="textAreaRight" fmla="*/ 247680 w 25704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37214" h="21600">
                <a:moveTo>
                  <a:pt x="0" y="0"/>
                </a:moveTo>
                <a:lnTo>
                  <a:pt x="37214" y="0"/>
                </a:lnTo>
                <a:lnTo>
                  <a:pt x="37214" y="21600"/>
                </a:lnTo>
                <a:lnTo>
                  <a:pt x="0" y="21600"/>
                </a:lnTo>
                <a:close/>
              </a:path>
              <a:path fill="lightenLess" w="37214" h="21600">
                <a:moveTo>
                  <a:pt x="0" y="0"/>
                </a:moveTo>
                <a:lnTo>
                  <a:pt x="37214" y="0"/>
                </a:lnTo>
                <a:lnTo>
                  <a:pt x="35814" y="1400"/>
                </a:lnTo>
                <a:lnTo>
                  <a:pt x="1400" y="1400"/>
                </a:lnTo>
                <a:close/>
              </a:path>
              <a:path fill="darken" w="37214" h="21600">
                <a:moveTo>
                  <a:pt x="37214" y="0"/>
                </a:moveTo>
                <a:lnTo>
                  <a:pt x="37214" y="21600"/>
                </a:lnTo>
                <a:lnTo>
                  <a:pt x="35814" y="20200"/>
                </a:lnTo>
                <a:lnTo>
                  <a:pt x="35814" y="1400"/>
                </a:lnTo>
                <a:close/>
              </a:path>
              <a:path fill="darkenLess" w="37214" h="21600">
                <a:moveTo>
                  <a:pt x="37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4" y="20200"/>
                </a:lnTo>
                <a:close/>
              </a:path>
              <a:path fill="lighten" w="37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4" h="21600">
                <a:moveTo>
                  <a:pt x="11601" y="7493"/>
                </a:moveTo>
                <a:lnTo>
                  <a:pt x="15108" y="7493"/>
                </a:lnTo>
                <a:lnTo>
                  <a:pt x="15108" y="12828"/>
                </a:lnTo>
                <a:cubicBezTo>
                  <a:pt x="15108" y="13751"/>
                  <a:pt x="15909" y="14482"/>
                  <a:pt x="16945" y="14482"/>
                </a:cubicBezTo>
                <a:lnTo>
                  <a:pt x="18607" y="14482"/>
                </a:lnTo>
                <a:cubicBezTo>
                  <a:pt x="19643" y="14482"/>
                  <a:pt x="20444" y="13751"/>
                  <a:pt x="20444" y="12828"/>
                </a:cubicBezTo>
                <a:lnTo>
                  <a:pt x="20444" y="7493"/>
                </a:lnTo>
                <a:lnTo>
                  <a:pt x="18607" y="7493"/>
                </a:lnTo>
                <a:lnTo>
                  <a:pt x="22115" y="3985"/>
                </a:lnTo>
                <a:lnTo>
                  <a:pt x="25788" y="7493"/>
                </a:lnTo>
                <a:lnTo>
                  <a:pt x="23951" y="7493"/>
                </a:lnTo>
                <a:lnTo>
                  <a:pt x="23951" y="12828"/>
                </a:lnTo>
                <a:cubicBezTo>
                  <a:pt x="23951" y="15596"/>
                  <a:pt x="21375" y="18155"/>
                  <a:pt x="18607" y="18155"/>
                </a:cubicBezTo>
                <a:lnTo>
                  <a:pt x="16945" y="18155"/>
                </a:lnTo>
                <a:cubicBezTo>
                  <a:pt x="14177" y="18155"/>
                  <a:pt x="11601" y="15596"/>
                  <a:pt x="11601" y="12828"/>
                </a:cubicBezTo>
                <a:close/>
              </a:path>
            </a:pathLst>
          </a:cu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184320" y="2013120"/>
            <a:ext cx="850680" cy="50148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Constraints on this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ournament’s planned duration must be under one we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can be accepted in a Tournament only if they are already registered with the corresponding Leagu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active Players in a League are those that have taken part in at least one Tournament of the Leag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184320" y="3141720"/>
            <a:ext cx="850680" cy="50148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7823160" y="6485040"/>
            <a:ext cx="257040" cy="149040"/>
          </a:xfrm>
          <a:custGeom>
            <a:avLst/>
            <a:gdLst>
              <a:gd name="textAreaLeft" fmla="*/ 9360 w 257040"/>
              <a:gd name="textAreaRight" fmla="*/ 247680 w 25704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37214" h="21600">
                <a:moveTo>
                  <a:pt x="0" y="0"/>
                </a:moveTo>
                <a:lnTo>
                  <a:pt x="37214" y="0"/>
                </a:lnTo>
                <a:lnTo>
                  <a:pt x="37214" y="21600"/>
                </a:lnTo>
                <a:lnTo>
                  <a:pt x="0" y="21600"/>
                </a:lnTo>
                <a:close/>
              </a:path>
              <a:path fill="lightenLess" w="37214" h="21600">
                <a:moveTo>
                  <a:pt x="0" y="0"/>
                </a:moveTo>
                <a:lnTo>
                  <a:pt x="37214" y="0"/>
                </a:lnTo>
                <a:lnTo>
                  <a:pt x="35814" y="1400"/>
                </a:lnTo>
                <a:lnTo>
                  <a:pt x="1400" y="1400"/>
                </a:lnTo>
                <a:close/>
              </a:path>
              <a:path fill="darken" w="37214" h="21600">
                <a:moveTo>
                  <a:pt x="37214" y="0"/>
                </a:moveTo>
                <a:lnTo>
                  <a:pt x="37214" y="21600"/>
                </a:lnTo>
                <a:lnTo>
                  <a:pt x="35814" y="20200"/>
                </a:lnTo>
                <a:lnTo>
                  <a:pt x="35814" y="1400"/>
                </a:lnTo>
                <a:close/>
              </a:path>
              <a:path fill="darkenLess" w="37214" h="21600">
                <a:moveTo>
                  <a:pt x="37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4" y="20200"/>
                </a:lnTo>
                <a:close/>
              </a:path>
              <a:path fill="lighten" w="37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4" h="21600">
                <a:moveTo>
                  <a:pt x="11601" y="7493"/>
                </a:moveTo>
                <a:lnTo>
                  <a:pt x="15108" y="7493"/>
                </a:lnTo>
                <a:lnTo>
                  <a:pt x="15108" y="12828"/>
                </a:lnTo>
                <a:cubicBezTo>
                  <a:pt x="15108" y="13751"/>
                  <a:pt x="15909" y="14482"/>
                  <a:pt x="16945" y="14482"/>
                </a:cubicBezTo>
                <a:lnTo>
                  <a:pt x="18607" y="14482"/>
                </a:lnTo>
                <a:cubicBezTo>
                  <a:pt x="19643" y="14482"/>
                  <a:pt x="20444" y="13751"/>
                  <a:pt x="20444" y="12828"/>
                </a:cubicBezTo>
                <a:lnTo>
                  <a:pt x="20444" y="7493"/>
                </a:lnTo>
                <a:lnTo>
                  <a:pt x="18607" y="7493"/>
                </a:lnTo>
                <a:lnTo>
                  <a:pt x="22115" y="3985"/>
                </a:lnTo>
                <a:lnTo>
                  <a:pt x="25788" y="7493"/>
                </a:lnTo>
                <a:lnTo>
                  <a:pt x="23951" y="7493"/>
                </a:lnTo>
                <a:lnTo>
                  <a:pt x="23951" y="12828"/>
                </a:lnTo>
                <a:cubicBezTo>
                  <a:pt x="23951" y="15596"/>
                  <a:pt x="21375" y="18155"/>
                  <a:pt x="18607" y="18155"/>
                </a:cubicBezTo>
                <a:lnTo>
                  <a:pt x="16945" y="18155"/>
                </a:lnTo>
                <a:cubicBezTo>
                  <a:pt x="14177" y="18155"/>
                  <a:pt x="11601" y="15596"/>
                  <a:pt x="11601" y="12828"/>
                </a:cubicBezTo>
                <a:close/>
              </a:path>
            </a:pathLst>
          </a:custGeom>
          <a:solidFill>
            <a:srgbClr val="c02e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supports Quantific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L forall quant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/* All Matches in a Tournament occur within the Tournament’s time frame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atches-&gt;forAll(m:Match 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.start.after(t.start) and m.end.before(t.end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L exists quant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/* Each Tournament conducts at least one Match on the first day of the Tournament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atches-&gt;exists(m:Match | m.start.equals(start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8680" y="222120"/>
            <a:ext cx="430524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e- and post-conditions for ordering operations on TournamentContro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2123640"/>
            <a:ext cx="8593200" cy="42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ournamentControl::selectSponsors(advertisers)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re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interestedSponsors-&gt;notEmpty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ournament.sponsors-&gt;isEmp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ournamentControl::selectSponsors(advertisers)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ournament.sponsors.equals(advertiser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ournamentControl::advertiseTournament()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re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ournament.sponsors-&gt;isEmpty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not tournament.advert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ournamentControl::advertiseTournament()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ournament.advert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ournamentControl::acceptPlayer(p)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re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ournament.advertised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interestedPlayers-&gt;includes(p)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not isPlayerOverbooked(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 TournamentControl::acceptPlayer(p)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ournament.players-&gt;includes(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7" name="Group 4"/>
          <p:cNvGrpSpPr/>
          <p:nvPr/>
        </p:nvGrpSpPr>
        <p:grpSpPr>
          <a:xfrm>
            <a:off x="4952880" y="152280"/>
            <a:ext cx="4003560" cy="1706760"/>
            <a:chOff x="4952880" y="152280"/>
            <a:chExt cx="4003560" cy="1706760"/>
          </a:xfrm>
        </p:grpSpPr>
        <p:grpSp>
          <p:nvGrpSpPr>
            <p:cNvPr id="618" name="Group 5"/>
            <p:cNvGrpSpPr/>
            <p:nvPr/>
          </p:nvGrpSpPr>
          <p:grpSpPr>
            <a:xfrm>
              <a:off x="4952880" y="152280"/>
              <a:ext cx="4003560" cy="425520"/>
              <a:chOff x="4952880" y="152280"/>
              <a:chExt cx="4003560" cy="425520"/>
            </a:xfrm>
          </p:grpSpPr>
          <p:sp>
            <p:nvSpPr>
              <p:cNvPr id="619" name="Rectangle 6"/>
              <p:cNvSpPr/>
              <p:nvPr/>
            </p:nvSpPr>
            <p:spPr>
              <a:xfrm>
                <a:off x="4952880" y="152280"/>
                <a:ext cx="4003560" cy="42552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7"/>
              <p:cNvSpPr/>
              <p:nvPr/>
            </p:nvSpPr>
            <p:spPr>
              <a:xfrm>
                <a:off x="6067440" y="250920"/>
                <a:ext cx="1782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Lucida Sans Typewriter"/>
                  </a:rPr>
                  <a:t>TournamentControl</a:t>
                </a:r>
                <a:endParaRPr b="1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8"/>
            <p:cNvSpPr/>
            <p:nvPr/>
          </p:nvSpPr>
          <p:spPr>
            <a:xfrm>
              <a:off x="4952880" y="573120"/>
              <a:ext cx="4003560" cy="23796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Group 9"/>
            <p:cNvGrpSpPr/>
            <p:nvPr/>
          </p:nvGrpSpPr>
          <p:grpSpPr>
            <a:xfrm>
              <a:off x="4952880" y="817560"/>
              <a:ext cx="4003560" cy="1041480"/>
              <a:chOff x="4952880" y="817560"/>
              <a:chExt cx="4003560" cy="1041480"/>
            </a:xfrm>
          </p:grpSpPr>
          <p:sp>
            <p:nvSpPr>
              <p:cNvPr id="623" name="Rectangle 10"/>
              <p:cNvSpPr/>
              <p:nvPr/>
            </p:nvSpPr>
            <p:spPr>
              <a:xfrm>
                <a:off x="4952880" y="817560"/>
                <a:ext cx="4003560" cy="104148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Group 11"/>
              <p:cNvGrpSpPr/>
              <p:nvPr/>
            </p:nvGrpSpPr>
            <p:grpSpPr>
              <a:xfrm>
                <a:off x="5122080" y="846360"/>
                <a:ext cx="3272760" cy="985680"/>
                <a:chOff x="5122080" y="846360"/>
                <a:chExt cx="3272760" cy="985680"/>
              </a:xfrm>
            </p:grpSpPr>
            <p:sp>
              <p:nvSpPr>
                <p:cNvPr id="625" name="Rectangle 12"/>
                <p:cNvSpPr/>
                <p:nvPr/>
              </p:nvSpPr>
              <p:spPr>
                <a:xfrm>
                  <a:off x="5460480" y="846360"/>
                  <a:ext cx="2934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selectSponsors(advertisers):List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3"/>
                <p:cNvSpPr/>
                <p:nvPr/>
              </p:nvSpPr>
              <p:spPr>
                <a:xfrm>
                  <a:off x="5213520" y="1035000"/>
                  <a:ext cx="21664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advertizeTournament(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14"/>
                <p:cNvSpPr/>
                <p:nvPr/>
              </p:nvSpPr>
              <p:spPr>
                <a:xfrm>
                  <a:off x="5210280" y="1225440"/>
                  <a:ext cx="1483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acceptPlayer(p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15"/>
                <p:cNvSpPr/>
                <p:nvPr/>
              </p:nvSpPr>
              <p:spPr>
                <a:xfrm>
                  <a:off x="5122080" y="1414440"/>
                  <a:ext cx="2233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announceTournament()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6"/>
                <p:cNvSpPr/>
                <p:nvPr/>
              </p:nvSpPr>
              <p:spPr>
                <a:xfrm>
                  <a:off x="5290560" y="1603440"/>
                  <a:ext cx="2815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ucida Sans Typewriter"/>
                    </a:rPr>
                    <a:t>+isPlayerOverbooked():boolean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pecifying invariants on Tournament and Tournament Contro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ish: “All Matches of in a Tournament must occur within the time frame of the Tournamen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atches-&gt;forAll(m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.start.after(start) and m.start.before(end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ish: “No Player can take part in two or more Tournaments that overlap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Control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urnament.players-&gt;forAll(p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.tournaments-&gt;forAll(t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 &lt;&gt; tournament impl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ot t.overlap(tournament)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pecifying invariants on Match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3498840"/>
            <a:ext cx="8001000" cy="232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ish: “A match can only involve players who are accepted in the tournamen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7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Match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layers-&gt;forAll(p|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.tournaments-&gt;exists(t|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.matches-&gt;includes(self)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7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Match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layers.tournaments.matches.includes(self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1487520" y="1720800"/>
            <a:ext cx="66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lay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reeform 5"/>
          <p:cNvSpPr/>
          <p:nvPr/>
        </p:nvSpPr>
        <p:spPr>
          <a:xfrm>
            <a:off x="3139920" y="2030400"/>
            <a:ext cx="4042080" cy="7635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7107120" y="2030400"/>
            <a:ext cx="147600" cy="3207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3370320" y="1519200"/>
            <a:ext cx="77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lay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3373920" y="184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6615360" y="1720800"/>
            <a:ext cx="133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urnam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476360" y="270684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at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3294360" y="2505240"/>
            <a:ext cx="91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match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3229560" y="2878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5582160" y="15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4277880" y="1882800"/>
            <a:ext cx="140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ourna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5"/>
          <p:cNvSpPr/>
          <p:nvPr/>
        </p:nvSpPr>
        <p:spPr>
          <a:xfrm flipV="1">
            <a:off x="1760400" y="2030400"/>
            <a:ext cx="1800" cy="54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6"/>
          <p:cNvSpPr/>
          <p:nvPr/>
        </p:nvSpPr>
        <p:spPr>
          <a:xfrm>
            <a:off x="838080" y="2289240"/>
            <a:ext cx="77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lay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1842120" y="2343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355680" y="1587600"/>
            <a:ext cx="2809800" cy="46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9"/>
          <p:cNvSpPr/>
          <p:nvPr/>
        </p:nvSpPr>
        <p:spPr>
          <a:xfrm>
            <a:off x="355680" y="2571840"/>
            <a:ext cx="2809800" cy="4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5776920" y="1587600"/>
            <a:ext cx="2808360" cy="46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1"/>
          <p:cNvSpPr/>
          <p:nvPr/>
        </p:nvSpPr>
        <p:spPr>
          <a:xfrm flipH="1">
            <a:off x="3139560" y="1808280"/>
            <a:ext cx="263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Basic Concep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L expr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evaluated in a specified context, either a class or an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constraints apply to all in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Simple Predicat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urna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getMaxNumPlayers() &g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ximum number of players in any tournament should be a postive number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” denotes all instances of “Tourna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L uses the same dot notation as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Precondi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urnament::acceptPlayer(p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t self.isPlayerAccepted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cceptPlayer(p) operation can only be invoked if player p has not yet been accepted in the tournament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ext of a precondtion is an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PlayerAccepted(p) is an operation defined by the class Tourn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Postcondi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urnament::acceptPlayer(p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getNumPlayers()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@pre.getNumPlayers() +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8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umber of accepted player in a tournament increases by one after the completion of acceptPlayer()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@pre denotes the state of the tournament before the invocation of the ope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 denotes the state of the tournament after the completion of the ope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Contract for acceptPlayer() in  Tourna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accept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ot isPlayerAccepted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accept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getNumPlayers() &lt; getMaxNumPlayer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accept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isPlayerAccepted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accept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getNumPlayers() = @pre.getNumPlayers()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CL Contract for removePlayer()  in Tourna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remove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isPlayerAccepted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remove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not isPlayerAccepted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Tournament::removePlayer(p)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t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getNumPlayers() = @pre.getNumPlayers() -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6T12:11:40Z</dcterms:created>
  <dc:creator>Bernd Bruegge &amp; Allen Dutoit</dc:creator>
  <dc:description/>
  <cp:keywords/>
  <dc:language>en-US</dc:language>
  <cp:lastModifiedBy>Bernd Bruegge</cp:lastModifiedBy>
  <cp:lastPrinted>2005-01-25T06:35:44Z</cp:lastPrinted>
  <dcterms:modified xsi:type="dcterms:W3CDTF">2009-08-04T06:52:41Z</dcterms:modified>
  <cp:revision>260</cp:revision>
  <dc:subject>Object-Oriented Software Engineering</dc:subject>
  <dc:title>Lecture for Chapter 9, Object Design: Specifying Interfaces</dc:title>
</cp:coreProperties>
</file>