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9670-2CAA-4776-B74B-2ABC45A7B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C7EE-2830-4E60-B5BB-4ED9594A6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8FBF-EC2A-4261-94EC-1A36D4439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8A2A-FA15-4F0A-92FD-C19198B81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DF3F-2A12-442A-BB79-6B10B75F5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6A01-3347-4682-8CCF-04253F73C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3F31-99B3-4BEB-BB55-933920CC5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9D65-6D6E-4B23-8D7D-F7578BDAD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67816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4AC2-4C98-445E-B225-B2821D6E2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B9C5-EC4E-4F19-80E6-31CA3C933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89E5-5181-4A43-A261-754036AFF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ADAD-1998-4B93-A0F9-58BE75AB6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07555-3652-4178-BB96-555FEE7079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371600" y="1143000"/>
            <a:ext cx="548496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it" descr=""/>
          <p:cNvPicPr/>
          <p:nvPr/>
        </p:nvPicPr>
        <p:blipFill>
          <a:blip r:embed="rId2"/>
          <a:stretch/>
        </p:blipFill>
        <p:spPr>
          <a:xfrm>
            <a:off x="7391520" y="152280"/>
            <a:ext cx="1587240" cy="787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ontrib.andrew.cmu.edu/~parkison/SE/javadoc/index.html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217400" y="3549600"/>
            <a:ext cx="251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66720" y="6550200"/>
            <a:ext cx="8464680" cy="25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23880" y="6489720"/>
            <a:ext cx="8462880" cy="25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31400" cy="6845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480" y="43488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480" y="67320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80" y="91116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480" y="112716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480" y="134604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480" y="156384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480" y="180036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80" y="201780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480" y="223668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480" y="247320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80" y="269064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480" y="290988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480" y="314640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480" y="336384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480" y="360216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80" y="381780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80" y="405612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480" y="427500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480" y="449100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80" y="471024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80" y="494820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80" y="516420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80" y="538164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80" y="561816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" y="583740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0" y="605484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80" y="629136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80" y="651024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80" y="672768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3652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252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6672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0504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11924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35720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7176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80828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02392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3848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47644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71296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4948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4316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37968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1800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3220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04820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26240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0072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1492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95288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16744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0396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61960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85612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7212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8668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52464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73884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97716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21368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42788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4388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88040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09640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1060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54856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76312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99964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969840" y="336600"/>
            <a:ext cx="7237440" cy="6313320"/>
            <a:chOff x="969840" y="336600"/>
            <a:chExt cx="7237440" cy="6313320"/>
          </a:xfrm>
        </p:grpSpPr>
        <p:sp>
          <p:nvSpPr>
            <p:cNvPr id="117" name=""/>
            <p:cNvSpPr/>
            <p:nvPr/>
          </p:nvSpPr>
          <p:spPr>
            <a:xfrm>
              <a:off x="992160" y="336600"/>
              <a:ext cx="7215120" cy="6313320"/>
            </a:xfrm>
            <a:custGeom>
              <a:avLst/>
              <a:gdLst/>
              <a:ahLst/>
              <a:rect l="l" t="t" r="r" b="b"/>
              <a:pathLst>
                <a:path w="4545" h="3977">
                  <a:moveTo>
                    <a:pt x="0" y="445"/>
                  </a:moveTo>
                  <a:lnTo>
                    <a:pt x="445" y="3976"/>
                  </a:lnTo>
                  <a:lnTo>
                    <a:pt x="4544" y="3437"/>
                  </a:lnTo>
                  <a:lnTo>
                    <a:pt x="4091" y="0"/>
                  </a:lnTo>
                  <a:lnTo>
                    <a:pt x="0" y="4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336600"/>
              <a:ext cx="7237440" cy="6313320"/>
            </a:xfrm>
            <a:custGeom>
              <a:avLst/>
              <a:gdLst/>
              <a:ahLst/>
              <a:rect l="l" t="t" r="r" b="b"/>
              <a:pathLst>
                <a:path w="4559" h="3977">
                  <a:moveTo>
                    <a:pt x="0" y="445"/>
                  </a:moveTo>
                  <a:lnTo>
                    <a:pt x="446" y="3976"/>
                  </a:lnTo>
                  <a:lnTo>
                    <a:pt x="4558" y="3437"/>
                  </a:lnTo>
                  <a:lnTo>
                    <a:pt x="4104" y="0"/>
                  </a:lnTo>
                  <a:lnTo>
                    <a:pt x="0" y="44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925560" y="276120"/>
            <a:ext cx="7215120" cy="6332760"/>
            <a:chOff x="925560" y="276120"/>
            <a:chExt cx="7215120" cy="6332760"/>
          </a:xfrm>
        </p:grpSpPr>
        <p:sp>
          <p:nvSpPr>
            <p:cNvPr id="120" name=""/>
            <p:cNvSpPr/>
            <p:nvPr/>
          </p:nvSpPr>
          <p:spPr>
            <a:xfrm>
              <a:off x="925560" y="297000"/>
              <a:ext cx="7215120" cy="6311880"/>
            </a:xfrm>
            <a:custGeom>
              <a:avLst/>
              <a:gdLst/>
              <a:ahLst/>
              <a:rect l="l" t="t" r="r" b="b"/>
              <a:pathLst>
                <a:path w="4545" h="3976">
                  <a:moveTo>
                    <a:pt x="0" y="445"/>
                  </a:moveTo>
                  <a:lnTo>
                    <a:pt x="445" y="3975"/>
                  </a:lnTo>
                  <a:lnTo>
                    <a:pt x="4544" y="3436"/>
                  </a:lnTo>
                  <a:lnTo>
                    <a:pt x="4091" y="0"/>
                  </a:lnTo>
                  <a:lnTo>
                    <a:pt x="0" y="44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925560" y="276120"/>
              <a:ext cx="7215120" cy="6332760"/>
            </a:xfrm>
            <a:custGeom>
              <a:avLst/>
              <a:gdLst/>
              <a:ahLst/>
              <a:rect l="l" t="t" r="r" b="b"/>
              <a:pathLst>
                <a:path w="4545" h="3989">
                  <a:moveTo>
                    <a:pt x="0" y="447"/>
                  </a:moveTo>
                  <a:lnTo>
                    <a:pt x="445" y="3988"/>
                  </a:lnTo>
                  <a:lnTo>
                    <a:pt x="4544" y="3447"/>
                  </a:lnTo>
                  <a:lnTo>
                    <a:pt x="4091" y="0"/>
                  </a:lnTo>
                  <a:lnTo>
                    <a:pt x="0" y="44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4581000" y="485604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02360" y="915840"/>
            <a:ext cx="897120" cy="561960"/>
          </a:xfrm>
          <a:prstGeom prst="rect">
            <a:avLst/>
          </a:prstGeom>
          <a:solidFill>
            <a:srgbClr val="0000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939000" y="878040"/>
            <a:ext cx="912600" cy="56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38280" y="985680"/>
            <a:ext cx="890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-4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30200" y="2498760"/>
            <a:ext cx="626436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Brian Park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Workflow T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TARS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arnegie Mellon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23 November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Object Design Re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10B0-EAD6-426A-BF6F-0EDC9266C1B6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ware Requi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ent: JavaR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er: JavaRMI.  Also, LotusNotes must be running for authentication and notification.  The database subsystem also needs a database backend to store all of the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FC8D-24BF-4A3C-8F25-5A516B7323D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es About the Data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tusNotes has a 254 character limit on field sizes when using JDB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tusNotes only supports JDBC 1.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flow is currently looking at other DBMS’s to use as the backe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E530-404D-4EF8-A3EF-5D27417865B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base Fiel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ields need to be specified to the Workflow team ahead of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flow will be adding additional fields, mostly for internal manag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fields will be accessible by other subsyst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A5F5-FA14-474D-A5C6-1CFF12BB29E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ded Fiel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vious_ver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rent_wri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ialized_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field names cannot be used by other subsystem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50E9-4B09-4E2A-AF38-C8C9DC0410A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us of Sub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ing on imple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face to front end is defined and ready to impl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ck end server access to database is proceeding in earn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and Notification subsystem are somewhat lacking in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MI is in the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2F99-5F66-4BB6-999E-0DBF7005C6C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e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" y="2209680"/>
            <a:ext cx="822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" y="2362320"/>
            <a:ext cx="56386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080" y="1828800"/>
            <a:ext cx="95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v 23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640840" y="1828800"/>
            <a:ext cx="81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c 5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733920" y="2895480"/>
            <a:ext cx="23619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t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355200" y="1828800"/>
            <a:ext cx="79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c 1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638680" y="3352680"/>
            <a:ext cx="3124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155440" y="1752480"/>
            <a:ext cx="81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c 9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17680" y="4114800"/>
            <a:ext cx="8169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have not decided on the exact order of implementation for each subsystem.  We’ll take whatever we can g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F7A9-15C7-4301-84C3-806D0CFB5F0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RMI the best way to do the network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atabase will replace LotusNot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o we deal with dead network connection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are we going to implement and test all of this in a timely mann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6514-390F-4A0E-8E66-44E0BBF4E15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mitDocument Scen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ck, an IETM author in Montana, finishes his first draft and needs to submit it to the Authoring Database for review.  (submitDocument(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BClient notices that this is the first time Jack has accessed the database, and asks him to login. (authenticateUser(), which is not a public metho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A5C3-6E62-4D59-8B5F-70D733069E3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mitDocument (co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successful authentication, the DBClient initiates a call to the DBServer to carry out the submit request. (API undecid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on successful completion of the task, the ID of the newly submitted document is return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ck realizes this is the last thing he needs to do today, and logs out.  (logout(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E8A4-70A1-4681-95CC-1D23974150A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04920" y="1874880"/>
            <a:ext cx="3200400" cy="160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447920" y="2895480"/>
            <a:ext cx="1768320" cy="42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B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447920" y="2057400"/>
            <a:ext cx="1768320" cy="42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twork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7080" y="2438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0" y="2625840"/>
            <a:ext cx="24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343400" y="1905120"/>
            <a:ext cx="4648320" cy="380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057400"/>
            <a:ext cx="1752480" cy="42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twork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248616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200400" y="22860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276720" y="2075040"/>
            <a:ext cx="24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28640" y="2016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643560" y="1971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48320" y="2968560"/>
            <a:ext cx="1752480" cy="419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B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486400" y="2478240"/>
            <a:ext cx="0" cy="49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257800" y="2687760"/>
            <a:ext cx="24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257800" y="2476440"/>
            <a:ext cx="24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29200" y="4267080"/>
            <a:ext cx="914400" cy="1189080"/>
          </a:xfrm>
          <a:prstGeom prst="flowChartMagneticDisk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13360" y="4753080"/>
            <a:ext cx="93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259240" y="33876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259240" y="40194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162920" y="2057400"/>
            <a:ext cx="1752480" cy="42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162920" y="3387600"/>
            <a:ext cx="1752480" cy="42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tus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162920" y="4788000"/>
            <a:ext cx="1752480" cy="42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943600" y="5029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001000" y="3808440"/>
            <a:ext cx="0" cy="97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8001000" y="2478240"/>
            <a:ext cx="0" cy="90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400800" y="310824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7620120" y="2478240"/>
            <a:ext cx="0" cy="63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391520" y="247644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400800" y="282744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001000" y="2476440"/>
            <a:ext cx="24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01000" y="3108240"/>
            <a:ext cx="24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001000" y="3808440"/>
            <a:ext cx="24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001000" y="4510080"/>
            <a:ext cx="24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867280" y="4718160"/>
            <a:ext cx="24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34320" y="4718160"/>
            <a:ext cx="24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486400" y="3387600"/>
            <a:ext cx="0" cy="911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488560" y="37339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D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174360" y="46483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D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0880" y="3124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2680" y="29145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220760" y="29145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4560" y="1523880"/>
            <a:ext cx="16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343400" y="1523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RS DB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 Model (Simplifi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15F5-404F-4A2D-A35D-4F699EC57E8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es on the Object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subsystems should only interact with the DBCli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BServer creates threads for each connection from the NetworkServ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a result, the authentication and notification subsystems will be thread-saf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3C8F-691D-4342-AC55-D5D9A43F65A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amous Docu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n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id addSubscriber(String usernam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 getDatatype(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ection getAuthorizedReaders(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ection getAuthorizedWriters(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ection getSubscribers(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ection getSearchableData(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A72E-0D2B-41FC-BEE0-4B3677C3BBB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submitDocument(Document dat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 retrieveDocument(int docID, String datatype, boolean forRead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updateDocument(int docID, Document dat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ection listDocuments(Collection criteria, Collection desiredFiel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2EC5-82C0-4A0E-976D-9BA2B996BED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76C35-97BA-42E9-8120-2C0F0A829B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I (co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id addSubscriber(String username, int DocID, String datatyp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 getUsername(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id logout(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doc: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www.contrib.andrew.cmu.edu/~parkison/SE/javadoc/index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rdware Requi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ent: PEDD, desktop – we’re not the bottleneck in hardware need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er: Dedicated STARS DB Server with 100-300 GB of disk sp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ent/Server: Any network connection, but the faster, the bet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44C9-1FAA-4C1C-8398-5FD68E1616C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9:50:21Z</dcterms:created>
  <dc:creator>Eric Stein</dc:creator>
  <dc:description/>
  <dc:language>en-US</dc:language>
  <cp:lastModifiedBy>parkison</cp:lastModifiedBy>
  <cp:lastPrinted>1999-11-04T21:32:38Z</cp:lastPrinted>
  <dcterms:modified xsi:type="dcterms:W3CDTF">1999-11-23T19:53:56Z</dcterms:modified>
  <cp:revision>26</cp:revision>
  <dc:subject/>
  <dc:title>Title</dc:title>
</cp:coreProperties>
</file>