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47A8-A4BB-4D67-8CF1-CC447DD44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301-72CB-47DA-8B02-5994D666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CA58-3ABB-48AA-9431-B8BBF999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6E3-14F1-40D0-966F-E7FF665C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30B-CECE-4572-8441-5FDAE797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0CB-9766-4639-89D1-70E5C1F8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E28-6433-4179-BF39-D6D7D38A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183-84E4-428E-A5C6-71E2B3F4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065-66C0-4623-A7B5-511A5E89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7A4-4955-4A76-9A2E-9A45A056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10A-0412-48D7-93D8-DC0C50B8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FF1-21D0-4CC2-A8C5-F727B0A7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3BB-3D57-4339-850E-DDC44E09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D970-A95B-4519-9024-C0BCA0005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71600" y="1143000"/>
            <a:ext cx="5484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587240" cy="78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ontrib.andrew.cmu.edu/~fortson/ODD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217400" y="35496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6720" y="6550200"/>
            <a:ext cx="8464680" cy="2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3880" y="6489720"/>
            <a:ext cx="84628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80" y="4348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80" y="673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" y="91116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80" y="1127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80" y="13460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0" y="1563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80" y="1800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80" y="20178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80" y="2236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0" y="2473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80" y="26906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80" y="290988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80" y="3146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80" y="33638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80" y="3602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80" y="38178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80" y="405612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" y="4275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0" y="4491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0" y="47102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80" y="4948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80" y="5164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80" y="53816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80" y="5618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80" y="5837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80" y="6054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80" y="6291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80" y="65102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80" y="6727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2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6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50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192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572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717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082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239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384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764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129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494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31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796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180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32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48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24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149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674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039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196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56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72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86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24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388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771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13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27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438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80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6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106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5485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7631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999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69840" y="336600"/>
            <a:ext cx="7237440" cy="6313320"/>
            <a:chOff x="969840" y="336600"/>
            <a:chExt cx="7237440" cy="6313320"/>
          </a:xfrm>
        </p:grpSpPr>
        <p:sp>
          <p:nvSpPr>
            <p:cNvPr id="124" name=""/>
            <p:cNvSpPr/>
            <p:nvPr/>
          </p:nvSpPr>
          <p:spPr>
            <a:xfrm>
              <a:off x="992160" y="336600"/>
              <a:ext cx="7215120" cy="6313320"/>
            </a:xfrm>
            <a:custGeom>
              <a:avLst/>
              <a:gdLst/>
              <a:ahLst/>
              <a:rect l="l" t="t" r="r" b="b"/>
              <a:pathLst>
                <a:path w="4545" h="3977">
                  <a:moveTo>
                    <a:pt x="0" y="445"/>
                  </a:moveTo>
                  <a:lnTo>
                    <a:pt x="445" y="3976"/>
                  </a:lnTo>
                  <a:lnTo>
                    <a:pt x="4544" y="3437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69840" y="336600"/>
              <a:ext cx="7237440" cy="6313320"/>
            </a:xfrm>
            <a:custGeom>
              <a:avLst/>
              <a:gdLst/>
              <a:ahLst/>
              <a:rect l="l" t="t" r="r" b="b"/>
              <a:pathLst>
                <a:path w="4559" h="3977">
                  <a:moveTo>
                    <a:pt x="0" y="445"/>
                  </a:moveTo>
                  <a:lnTo>
                    <a:pt x="446" y="3976"/>
                  </a:lnTo>
                  <a:lnTo>
                    <a:pt x="4558" y="3437"/>
                  </a:lnTo>
                  <a:lnTo>
                    <a:pt x="4104" y="0"/>
                  </a:lnTo>
                  <a:lnTo>
                    <a:pt x="0" y="4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925560" y="276120"/>
            <a:ext cx="7215120" cy="6332760"/>
            <a:chOff x="925560" y="276120"/>
            <a:chExt cx="7215120" cy="6332760"/>
          </a:xfrm>
        </p:grpSpPr>
        <p:sp>
          <p:nvSpPr>
            <p:cNvPr id="127" name=""/>
            <p:cNvSpPr/>
            <p:nvPr/>
          </p:nvSpPr>
          <p:spPr>
            <a:xfrm>
              <a:off x="925560" y="297000"/>
              <a:ext cx="7215120" cy="6311880"/>
            </a:xfrm>
            <a:custGeom>
              <a:avLst/>
              <a:gdLst/>
              <a:ahLst/>
              <a:rect l="l" t="t" r="r" b="b"/>
              <a:pathLst>
                <a:path w="4545" h="3976">
                  <a:moveTo>
                    <a:pt x="0" y="445"/>
                  </a:moveTo>
                  <a:lnTo>
                    <a:pt x="445" y="3975"/>
                  </a:lnTo>
                  <a:lnTo>
                    <a:pt x="4544" y="3436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25560" y="276120"/>
              <a:ext cx="7215120" cy="6332760"/>
            </a:xfrm>
            <a:custGeom>
              <a:avLst/>
              <a:gdLst/>
              <a:ahLst/>
              <a:rect l="l" t="t" r="r" b="b"/>
              <a:pathLst>
                <a:path w="4545" h="3989">
                  <a:moveTo>
                    <a:pt x="0" y="447"/>
                  </a:moveTo>
                  <a:lnTo>
                    <a:pt x="445" y="3988"/>
                  </a:lnTo>
                  <a:lnTo>
                    <a:pt x="4544" y="3447"/>
                  </a:lnTo>
                  <a:lnTo>
                    <a:pt x="4091" y="0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581000" y="48560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02360" y="915840"/>
            <a:ext cx="897120" cy="561960"/>
          </a:xfrm>
          <a:prstGeom prst="rect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39000" y="878040"/>
            <a:ext cx="912600" cy="56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8280" y="985680"/>
            <a:ext cx="89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-4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30200" y="2498760"/>
            <a:ext cx="626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chael Fort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ugmented Reality/UI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TAR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23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bject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E0D-B81F-4AB3-BB20-14481F492CA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Interface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I Mani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(register)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(unregister)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display status of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 to even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UIManager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67668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267-17D2-440A-9261-E7A818388C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cky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placement of sticki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a changed position or orientation of the mecha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IStatus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s a change in the display of a UI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eventInterfaces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2955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6E29-A3E5-4F1F-A8B4-23B455C919F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Liste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3885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ddEventListener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serInterfaceManag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to listen to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listenerInterface.jpg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5243760" cy="241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DFB5-A37F-4F47-BFE5-7037B34C6D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tion &amp; Ori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Dev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 device (GPS) o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iptPosition may simulate mov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 device (3-axis Gyroscope) o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iptOrientation may simulate head mov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devices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371840" cy="42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C6F-80A5-461A-95D1-1A48712B1CB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 Javado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avado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B94-EE69-4FF2-B7F2-5203DFC148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s used by 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 and Destructor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at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s authentication and retrieval of data for other sub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nance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ible for beginning an inspection/repair s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774-FF94-44FA-9060-E890EE8E8BC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rated 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initSequence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39152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24A-0BA5-4E72-880E-DC36D939AA0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m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fa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include a specific user interface, how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ation and termination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fac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dependencies on the other sub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E2C6-2E20-42F7-87D7-349CDE657A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– System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d except for specific user interface iss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wly formed/recognized UI subsystem is intended to complete this analysis and de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C42-BF7B-4816-A405-9100269B22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– Object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d except for miscellaneous implementation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handled during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9AE3-F2F7-4E45-BA12-9DBAB55F34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ario from Project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/ Software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 Subsystem Object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I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ce Diagram for 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6C0E-0E28-4F00-B358-EE8E5AC750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–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s ASAP (after Thanksgiv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23AC-D65B-4612-98B5-1B15A2BCF1C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– Initi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b turns on his PEDD and establishes a network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selects “Get Workorder” from the pulldown men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uthentication window appears, requesting username/pass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uthentication, a workorder is retrieved, the UI is configured for an insp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13A-4D14-46B2-A546-5BD5349B16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ization –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libration panel is added to the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del view is added to the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rent view is from the front of the plane, approximately 5 feet from the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b walks to the front of the plane and aligns his own view with th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b clicks “finish calibrati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b’s position/orientation are now reflected in the model 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6615-A18D-44DD-9D56-7222D7973A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ware 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SystemConnectivity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152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4D6-4F42-4DF8-99F9-FFBE8DB40FC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ware 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 concerned with man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oning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hardware is managed by other sub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3E7-4E4C-4820-BD1A-6456071699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ser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serInterface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Ev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EventListe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on and Orientation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e or end calib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0ED-FE50-42A5-8505-02BE83FE30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s provide two user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-Screen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but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ailed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ed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ed to fit into one of the smaller pan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UserInterface" descr=""/>
          <p:cNvPicPr/>
          <p:nvPr/>
        </p:nvPicPr>
        <p:blipFill>
          <a:blip r:embed="rId1"/>
          <a:stretch/>
        </p:blipFill>
        <p:spPr>
          <a:xfrm>
            <a:off x="5638680" y="1523880"/>
            <a:ext cx="193680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2B0-9F4D-4C78-94AA-6175912674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Interface Mock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uimockup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248000" cy="296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621-36D5-459B-BAFB-184CB6385BC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9:50:21Z</dcterms:created>
  <dc:creator>Eric Stein</dc:creator>
  <dc:description/>
  <dc:language>en-US</dc:language>
  <cp:lastModifiedBy>Michael Fortson</cp:lastModifiedBy>
  <cp:lastPrinted>1999-11-04T21:32:38Z</cp:lastPrinted>
  <dcterms:modified xsi:type="dcterms:W3CDTF">1999-11-23T07:09:40Z</dcterms:modified>
  <cp:revision>15</cp:revision>
  <dc:subject/>
  <dc:title>Title</dc:title>
</cp:coreProperties>
</file>