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32C-49C9-405B-98BD-A03E59E8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760-9B94-4B2B-BF0B-63752FBF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47B-0C04-4401-AC45-022B1629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588-4FD0-4313-80A5-A13121FC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031-31AD-458D-A927-3AC34E99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044-41A5-4572-9B01-357C38F1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B66-5382-4CB2-A6A1-5974BFAC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E3F-EBD4-4889-AA6D-F45C3421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298-780D-41EB-AEB1-B3747ECA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2D0-50CE-4292-996B-2226794C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71B-BE57-477D-9E47-DD1CFDDE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5B1-231C-40E3-8C9F-D49E2272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DF94-B269-474B-8742-BF3ADE6F9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D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19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2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heng Guang Zh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odeling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s We N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Workf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store and retrieve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obtain a list of work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retrieve any work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and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ed with object design and is ready to imp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ublic API's finalized by Dec.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, Nov. 22 - Dec.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Tests, Dec.1 - Dec.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Testing, Dec. 4 - Dec.8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I We P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TARS.Modeling.Package" descr=""/>
          <p:cNvPicPr/>
          <p:nvPr/>
        </p:nvPicPr>
        <p:blipFill>
          <a:blip r:embed="rId1"/>
          <a:stretch/>
        </p:blipFill>
        <p:spPr>
          <a:xfrm>
            <a:off x="34920" y="1208160"/>
            <a:ext cx="91090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dware/Software Al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: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: Java3D package, CAD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I We Prov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2209680"/>
          <a:ext cx="9144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or starts up the system, authentic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mself, and gets a work or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Control.initialize(IETM ietm, Panel 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Thread modelthread =  new ModelThrea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mentedReality.EventManager.addVectorEventListener(VectorListener v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thread.star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then goes to the plane and inspect as asked in the work order. If he find any defects, he would place a st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Location loc = Modeling.ModelControl.convertTo3D(int x, int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Control.addSticky(Location loc, String ID, int severit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he finish with the work order,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s with server and exit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r is pretty much the same except it may want to highlight a specific st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Control.highlightSticky(String 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he may want to remove a sticky after he is finished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Control.removeSticky(String 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Sequence.Sequence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07:38:14Z</dcterms:created>
  <dc:creator>Cheng Zhao</dc:creator>
  <dc:description/>
  <dc:language>en-US</dc:language>
  <cp:lastModifiedBy>Cheng Zhao</cp:lastModifiedBy>
  <dcterms:modified xsi:type="dcterms:W3CDTF">1999-11-23T11:52:23Z</dcterms:modified>
  <cp:revision>4</cp:revision>
  <dc:subject/>
  <dc:title>ODD Presentation</dc:title>
</cp:coreProperties>
</file>