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B0C4-2CD8-44F6-80C8-4B6DF556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BC45-C1EA-40E3-B01A-9BD4279E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06D6-3835-46B7-8A2E-75D3B78F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7F89-866A-445B-B20D-4638BD1F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DB85-FC08-4165-9E8A-5A7F7FF4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C6CF-1AC8-40A2-ADC8-40820559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985F-5682-4A78-B269-28D7FB64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56DD-55D9-465D-8DEC-7B072CCB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E201-C2D5-495B-B77A-D50C76FB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9366-0EC1-4851-AE6C-C0C062DE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3C34-8EFC-4BA4-B6B5-B64625BB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AC36-C799-4C37-AE32-40E082F1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6C6B-8431-406E-9FBF-758696495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71600" y="1295280"/>
            <a:ext cx="54849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t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587240" cy="78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ontrib.andrew.cmu.edu/~wortham/SE/index.html" TargetMode="External"/><Relationship Id="rId2" Type="http://schemas.openxmlformats.org/officeDocument/2006/relationships/hyperlink" Target="http://www.contrib.andrew.cmu.edu/~wortham/SE/index.html" TargetMode="External"/><Relationship Id="rId3" Type="http://schemas.openxmlformats.org/officeDocument/2006/relationships/hyperlink" Target="http://www.contrib.andrew.cmu.edu/~wortham/SE/index.html" TargetMode="External"/><Relationship Id="rId4" Type="http://schemas.openxmlformats.org/officeDocument/2006/relationships/hyperlink" Target="http://www.contrib.andrew.cmu.edu/~wortham/SE/index.html" TargetMode="External"/><Relationship Id="rId5" Type="http://schemas.openxmlformats.org/officeDocument/2006/relationships/hyperlink" Target="http://www.contrib.andrew.cmu.edu/~wortham/SE/index.html" TargetMode="External"/><Relationship Id="rId6" Type="http://schemas.openxmlformats.org/officeDocument/2006/relationships/hyperlink" Target="http://www.contrib.andrew.cmu.edu/~wortham/SE/index.html" TargetMode="External"/><Relationship Id="rId7" Type="http://schemas.openxmlformats.org/officeDocument/2006/relationships/hyperlink" Target="http://www.contrib.andrew.cmu.edu/~wortham/SE/index.html" TargetMode="External"/><Relationship Id="rId8" Type="http://schemas.openxmlformats.org/officeDocument/2006/relationships/hyperlink" Target="http://www.contrib.andrew.cmu.edu/~wortham/SE/index.html" TargetMode="External"/><Relationship Id="rId9" Type="http://schemas.openxmlformats.org/officeDocument/2006/relationships/hyperlink" Target="http://www.contrib.andrew.cmu.edu/~wortham/SE/index.html" TargetMode="External"/><Relationship Id="rId10" Type="http://schemas.openxmlformats.org/officeDocument/2006/relationships/hyperlink" Target="http://www.contrib.andrew.cmu.edu/~wortham/SE/index.html" TargetMode="External"/><Relationship Id="rId11" Type="http://schemas.openxmlformats.org/officeDocument/2006/relationships/hyperlink" Target="http://www.contrib.andrew.cmu.edu/~wortham/SE/index.html" TargetMode="External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217400" y="35496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6720" y="6550200"/>
            <a:ext cx="8464680" cy="25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3880" y="6489720"/>
            <a:ext cx="846288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80" y="4348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80" y="6732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80" y="91116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80" y="1127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13460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80" y="15638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80" y="18003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80" y="20178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80" y="22366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80" y="24732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80" y="26906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80" y="290988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80" y="31464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80" y="33638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80" y="3602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80" y="38178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80" y="405612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80" y="42750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80" y="44910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80" y="47102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80" y="49482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80" y="51642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80" y="53816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80" y="5618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" y="58374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0" y="60548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80" y="62913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80" y="65102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80" y="67276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5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25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67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050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192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572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717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082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239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384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7644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129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494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431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796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180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322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482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24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149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674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039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196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561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721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866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246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3884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771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136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278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438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804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964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106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5485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631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9996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69840" y="336600"/>
            <a:ext cx="7237440" cy="6313320"/>
            <a:chOff x="969840" y="336600"/>
            <a:chExt cx="7237440" cy="6313320"/>
          </a:xfrm>
        </p:grpSpPr>
        <p:sp>
          <p:nvSpPr>
            <p:cNvPr id="117" name=""/>
            <p:cNvSpPr/>
            <p:nvPr/>
          </p:nvSpPr>
          <p:spPr>
            <a:xfrm>
              <a:off x="992160" y="336600"/>
              <a:ext cx="7215120" cy="6313320"/>
            </a:xfrm>
            <a:custGeom>
              <a:avLst/>
              <a:gdLst/>
              <a:ahLst/>
              <a:rect l="l" t="t" r="r" b="b"/>
              <a:pathLst>
                <a:path w="4545" h="3977">
                  <a:moveTo>
                    <a:pt x="0" y="445"/>
                  </a:moveTo>
                  <a:lnTo>
                    <a:pt x="445" y="3976"/>
                  </a:lnTo>
                  <a:lnTo>
                    <a:pt x="4544" y="3437"/>
                  </a:lnTo>
                  <a:lnTo>
                    <a:pt x="4091" y="0"/>
                  </a:lnTo>
                  <a:lnTo>
                    <a:pt x="0" y="4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336600"/>
              <a:ext cx="7237440" cy="6313320"/>
            </a:xfrm>
            <a:custGeom>
              <a:avLst/>
              <a:gdLst/>
              <a:ahLst/>
              <a:rect l="l" t="t" r="r" b="b"/>
              <a:pathLst>
                <a:path w="4559" h="3977">
                  <a:moveTo>
                    <a:pt x="0" y="445"/>
                  </a:moveTo>
                  <a:lnTo>
                    <a:pt x="446" y="3976"/>
                  </a:lnTo>
                  <a:lnTo>
                    <a:pt x="4558" y="3437"/>
                  </a:lnTo>
                  <a:lnTo>
                    <a:pt x="4104" y="0"/>
                  </a:lnTo>
                  <a:lnTo>
                    <a:pt x="0" y="4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925560" y="276120"/>
            <a:ext cx="7215120" cy="6332760"/>
            <a:chOff x="925560" y="276120"/>
            <a:chExt cx="7215120" cy="6332760"/>
          </a:xfrm>
        </p:grpSpPr>
        <p:sp>
          <p:nvSpPr>
            <p:cNvPr id="120" name=""/>
            <p:cNvSpPr/>
            <p:nvPr/>
          </p:nvSpPr>
          <p:spPr>
            <a:xfrm>
              <a:off x="925560" y="297000"/>
              <a:ext cx="7215120" cy="6311880"/>
            </a:xfrm>
            <a:custGeom>
              <a:avLst/>
              <a:gdLst/>
              <a:ahLst/>
              <a:rect l="l" t="t" r="r" b="b"/>
              <a:pathLst>
                <a:path w="4545" h="3976">
                  <a:moveTo>
                    <a:pt x="0" y="445"/>
                  </a:moveTo>
                  <a:lnTo>
                    <a:pt x="445" y="3975"/>
                  </a:lnTo>
                  <a:lnTo>
                    <a:pt x="4544" y="3436"/>
                  </a:lnTo>
                  <a:lnTo>
                    <a:pt x="4091" y="0"/>
                  </a:lnTo>
                  <a:lnTo>
                    <a:pt x="0" y="44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25560" y="276120"/>
              <a:ext cx="7215120" cy="6332760"/>
            </a:xfrm>
            <a:custGeom>
              <a:avLst/>
              <a:gdLst/>
              <a:ahLst/>
              <a:rect l="l" t="t" r="r" b="b"/>
              <a:pathLst>
                <a:path w="4545" h="3989">
                  <a:moveTo>
                    <a:pt x="0" y="447"/>
                  </a:moveTo>
                  <a:lnTo>
                    <a:pt x="445" y="3988"/>
                  </a:lnTo>
                  <a:lnTo>
                    <a:pt x="4544" y="3447"/>
                  </a:lnTo>
                  <a:lnTo>
                    <a:pt x="4091" y="0"/>
                  </a:lnTo>
                  <a:lnTo>
                    <a:pt x="0" y="4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581000" y="485604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02360" y="915840"/>
            <a:ext cx="897120" cy="561960"/>
          </a:xfrm>
          <a:prstGeom prst="rect">
            <a:avLst/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9000" y="878040"/>
            <a:ext cx="912600" cy="56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8280" y="985680"/>
            <a:ext cx="890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-4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30200" y="2498760"/>
            <a:ext cx="62643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racey Worth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nspection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TARS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23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Object Design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A03-37F2-48C2-8F4B-A6B03F28EDE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I - Services needed by Mainte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Cli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 submitDocument(Document 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ocument retrieveDocument(int docID, boolean forRead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 updateDocument(int docID, Document 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809880" y="1523880"/>
            <a:ext cx="4800600" cy="2209680"/>
            <a:chOff x="3809880" y="1523880"/>
            <a:chExt cx="4800600" cy="2209680"/>
          </a:xfrm>
        </p:grpSpPr>
        <p:sp>
          <p:nvSpPr>
            <p:cNvPr id="203" name=""/>
            <p:cNvSpPr/>
            <p:nvPr/>
          </p:nvSpPr>
          <p:spPr>
            <a:xfrm>
              <a:off x="4800600" y="1523880"/>
              <a:ext cx="3809880" cy="2133360"/>
            </a:xfrm>
            <a:prstGeom prst="rect">
              <a:avLst/>
            </a:prstGeom>
            <a:solidFill>
              <a:srgbClr val="2cb3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23000" y="15238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5257440" y="312408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5638680" y="3428640"/>
              <a:ext cx="1371600" cy="763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62360" y="251424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00800" y="251424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62560" y="20570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72200" y="175248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72200" y="1752480"/>
              <a:ext cx="7617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29200" y="175248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72400" y="2590560"/>
              <a:ext cx="0" cy="7621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05160" y="2285640"/>
              <a:ext cx="1371600" cy="304920"/>
            </a:xfrm>
            <a:prstGeom prst="rect">
              <a:avLst/>
            </a:prstGeom>
            <a:solidFill>
              <a:srgbClr val="8f83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76560" y="1599840"/>
              <a:ext cx="1676520" cy="304920"/>
            </a:xfrm>
            <a:prstGeom prst="rect">
              <a:avLst/>
            </a:prstGeom>
            <a:solidFill>
              <a:srgbClr val="a3e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58000" y="1981080"/>
              <a:ext cx="1676160" cy="304560"/>
            </a:xfrm>
            <a:prstGeom prst="rect">
              <a:avLst/>
            </a:prstGeom>
            <a:solidFill>
              <a:srgbClr val="86b1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pee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200040"/>
              <a:ext cx="1676520" cy="304920"/>
            </a:xfrm>
            <a:prstGeom prst="rect">
              <a:avLst/>
            </a:prstGeom>
            <a:solidFill>
              <a:srgbClr val="2cd480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ork Or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76560" y="2895480"/>
              <a:ext cx="1676520" cy="304560"/>
            </a:xfrm>
            <a:prstGeom prst="rect">
              <a:avLst/>
            </a:prstGeom>
            <a:solidFill>
              <a:srgbClr val="c27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05360" y="2514240"/>
              <a:ext cx="1524240" cy="304920"/>
            </a:xfrm>
            <a:prstGeom prst="rect">
              <a:avLst/>
            </a:prstGeom>
            <a:solidFill>
              <a:srgbClr val="64dcd9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9880" y="3428640"/>
              <a:ext cx="1905120" cy="304920"/>
            </a:xfrm>
            <a:prstGeom prst="rect">
              <a:avLst/>
            </a:prstGeom>
            <a:solidFill>
              <a:srgbClr val="b6da02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 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D051-69B1-45E2-80F4-E9A8FEE617E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I - Services needed by Maintenance 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Interf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 addUI(UI newui, int frame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sition getPositio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809880" y="1523880"/>
            <a:ext cx="4800600" cy="2209680"/>
            <a:chOff x="3809880" y="1523880"/>
            <a:chExt cx="4800600" cy="2209680"/>
          </a:xfrm>
        </p:grpSpPr>
        <p:sp>
          <p:nvSpPr>
            <p:cNvPr id="224" name=""/>
            <p:cNvSpPr/>
            <p:nvPr/>
          </p:nvSpPr>
          <p:spPr>
            <a:xfrm>
              <a:off x="4800600" y="1523880"/>
              <a:ext cx="3809880" cy="2133360"/>
            </a:xfrm>
            <a:prstGeom prst="rect">
              <a:avLst/>
            </a:prstGeom>
            <a:solidFill>
              <a:srgbClr val="2cb3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23000" y="15238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257440" y="312408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5638680" y="3428640"/>
              <a:ext cx="1371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62360" y="251424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00800" y="251424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62560" y="20570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72200" y="175248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72200" y="1752480"/>
              <a:ext cx="761760" cy="838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29200" y="175248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772400" y="25905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05160" y="2285640"/>
              <a:ext cx="1371600" cy="304920"/>
            </a:xfrm>
            <a:prstGeom prst="rect">
              <a:avLst/>
            </a:prstGeom>
            <a:solidFill>
              <a:srgbClr val="8f83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76560" y="1599840"/>
              <a:ext cx="1676520" cy="304920"/>
            </a:xfrm>
            <a:prstGeom prst="rect">
              <a:avLst/>
            </a:prstGeom>
            <a:solidFill>
              <a:srgbClr val="a3eff5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58000" y="1981080"/>
              <a:ext cx="1676160" cy="304560"/>
            </a:xfrm>
            <a:prstGeom prst="rect">
              <a:avLst/>
            </a:prstGeom>
            <a:solidFill>
              <a:srgbClr val="86b1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pee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81680" y="3200040"/>
              <a:ext cx="1676520" cy="304920"/>
            </a:xfrm>
            <a:prstGeom prst="rect">
              <a:avLst/>
            </a:prstGeom>
            <a:solidFill>
              <a:srgbClr val="2cd4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ork Or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76560" y="2895480"/>
              <a:ext cx="1676520" cy="304560"/>
            </a:xfrm>
            <a:prstGeom prst="rect">
              <a:avLst/>
            </a:prstGeom>
            <a:solidFill>
              <a:srgbClr val="c27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05360" y="2514240"/>
              <a:ext cx="1524240" cy="304920"/>
            </a:xfrm>
            <a:prstGeom prst="rect">
              <a:avLst/>
            </a:prstGeom>
            <a:solidFill>
              <a:srgbClr val="64dcd9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09880" y="3428640"/>
              <a:ext cx="1905120" cy="304920"/>
            </a:xfrm>
            <a:prstGeom prst="rect">
              <a:avLst/>
            </a:prstGeom>
            <a:solidFill>
              <a:srgbClr val="b6da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 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FA89-2856-4C22-9BE9-5861C1CF98B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I - Services needed by Inspection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oid addSticky(Position stickylocation, ID sticky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oid removeAllStickies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oid highlightSticky(ID sticky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Manual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809880" y="1523880"/>
            <a:ext cx="4800600" cy="2209680"/>
            <a:chOff x="3809880" y="1523880"/>
            <a:chExt cx="4800600" cy="2209680"/>
          </a:xfrm>
        </p:grpSpPr>
        <p:sp>
          <p:nvSpPr>
            <p:cNvPr id="245" name=""/>
            <p:cNvSpPr/>
            <p:nvPr/>
          </p:nvSpPr>
          <p:spPr>
            <a:xfrm>
              <a:off x="4800600" y="1523880"/>
              <a:ext cx="3809880" cy="2133360"/>
            </a:xfrm>
            <a:prstGeom prst="rect">
              <a:avLst/>
            </a:prstGeom>
            <a:solidFill>
              <a:srgbClr val="2cb3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23000" y="15238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257440" y="312408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5638680" y="3428640"/>
              <a:ext cx="1371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360" y="251424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00800" y="251424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62560" y="20570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72200" y="175248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72200" y="1752480"/>
              <a:ext cx="7617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29200" y="175248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772400" y="25905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05160" y="2285640"/>
              <a:ext cx="1371600" cy="304920"/>
            </a:xfrm>
            <a:prstGeom prst="rect">
              <a:avLst/>
            </a:prstGeom>
            <a:solidFill>
              <a:srgbClr val="8f83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76560" y="1599840"/>
              <a:ext cx="1676520" cy="304920"/>
            </a:xfrm>
            <a:prstGeom prst="rect">
              <a:avLst/>
            </a:prstGeom>
            <a:solidFill>
              <a:srgbClr val="a3e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0" y="1981080"/>
              <a:ext cx="1676160" cy="304560"/>
            </a:xfrm>
            <a:prstGeom prst="rect">
              <a:avLst/>
            </a:prstGeom>
            <a:solidFill>
              <a:srgbClr val="86b1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pee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81680" y="3200040"/>
              <a:ext cx="1676520" cy="304920"/>
            </a:xfrm>
            <a:prstGeom prst="rect">
              <a:avLst/>
            </a:prstGeom>
            <a:solidFill>
              <a:srgbClr val="2cd4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ork Or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76560" y="2895480"/>
              <a:ext cx="1676520" cy="304560"/>
            </a:xfrm>
            <a:prstGeom prst="rect">
              <a:avLst/>
            </a:prstGeom>
            <a:solidFill>
              <a:srgbClr val="c276e0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05360" y="2514240"/>
              <a:ext cx="1524240" cy="304920"/>
            </a:xfrm>
            <a:prstGeom prst="rect">
              <a:avLst/>
            </a:prstGeom>
            <a:solidFill>
              <a:srgbClr val="64dcd9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09880" y="3428640"/>
              <a:ext cx="1905120" cy="304920"/>
            </a:xfrm>
            <a:prstGeom prst="rect">
              <a:avLst/>
            </a:prstGeom>
            <a:solidFill>
              <a:srgbClr val="b6da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 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6552720" y="2819160"/>
              <a:ext cx="152280" cy="76320"/>
            </a:xfrm>
            <a:prstGeom prst="line">
              <a:avLst/>
            </a:prstGeom>
            <a:ln w="316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BAA1-332D-4C73-B1BD-86D1B37B882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 of Maintenance Sub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 Analysis is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design is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design is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on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ing out how to use the WebManual IETM vie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57FA-E620-419C-B4DD-79619672E2D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752480" y="1752480"/>
            <a:ext cx="5639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600200"/>
            <a:ext cx="7238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0" y="3200400"/>
            <a:ext cx="106668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1981080"/>
            <a:ext cx="63248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8280" y="50292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/22/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0" y="50292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/09/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90720" y="495288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114300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0720" y="4952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2133720"/>
            <a:ext cx="533376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92400" y="50292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/05/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06400" y="50292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/01/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3200400"/>
            <a:ext cx="2286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17280" y="1752480"/>
            <a:ext cx="39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(11/22/99-12/05/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0520" y="2819520"/>
            <a:ext cx="359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t Testing (12/01/99-12/05/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86400" y="4191120"/>
            <a:ext cx="274320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55560" y="3809880"/>
            <a:ext cx="403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Tests (12/04/99-12/09/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6552-328F-4206-BEC5-9C46C448268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memory do we need for the Maintenance subsyst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API for the WebManual IETM view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6CF8-DFAC-4668-8590-89C8B482D80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 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 Objec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S Subsystem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s Maintenance prov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s Maintenance expects from other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CD87-80F8-4414-B92D-00CDB9ECC35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intenance Subsystem Scenar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 Insp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Discrep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35AA-006A-48AF-A145-BAB4F995C5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enario - Report Discrepa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pector Joe finds rust spots on the right wing of the airplane during a 14-day periodic rust inspection and reports i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shButto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 is presented with a screen on which he can enter the sticky information. He presses a ‘Done’ button when he is finish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nterStickyInfo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1583-1EBF-4746-9611-713A24EB9E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ort Discrepancy (co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he sticky information has been entered, a set of crosshairs will be displayed for Joe to identify the location of the stick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tSticky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etStickyPositio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ew sticky will be instantiated and submitted to the databa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bmitDocumen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5DC8-2452-453D-A08B-3CD990D082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ort Discrepancy Sequence Dia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5800" y="1523880"/>
          <a:ext cx="7761240" cy="456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761240" cy="45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514600" y="1447920"/>
            <a:ext cx="6392880" cy="4800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1447920"/>
            <a:ext cx="24832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pector Joe finds ru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ots on the right w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airplane during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-day periodic ru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pection and reports 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-1080" y="3276720"/>
            <a:ext cx="2206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 enters the stick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2160" y="4114800"/>
            <a:ext cx="2169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 identifie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the stick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2520" y="4952880"/>
            <a:ext cx="26467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new sticky will b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antiated and submit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the datab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D935-405C-44B0-B280-D3A1F978659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tenance Objec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15328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CEB6-7A10-4226-BA92-36ACEAC7552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762120" y="1752480"/>
            <a:ext cx="7695720" cy="4190760"/>
            <a:chOff x="762120" y="1752480"/>
            <a:chExt cx="7695720" cy="4190760"/>
          </a:xfrm>
        </p:grpSpPr>
        <p:sp>
          <p:nvSpPr>
            <p:cNvPr id="147" name=""/>
            <p:cNvSpPr/>
            <p:nvPr/>
          </p:nvSpPr>
          <p:spPr>
            <a:xfrm>
              <a:off x="762120" y="1752480"/>
              <a:ext cx="7695720" cy="41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49680" y="1931040"/>
              <a:ext cx="2440080" cy="2496240"/>
            </a:xfrm>
            <a:prstGeom prst="rect">
              <a:avLst/>
            </a:prstGeom>
            <a:solidFill>
              <a:srgbClr val="ffd0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77680" y="1931040"/>
              <a:ext cx="4692600" cy="2496240"/>
            </a:xfrm>
            <a:prstGeom prst="rect">
              <a:avLst/>
            </a:prstGeom>
            <a:solidFill>
              <a:srgbClr val="2cb3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49680" y="4784040"/>
              <a:ext cx="7320600" cy="98064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05320" y="4784040"/>
              <a:ext cx="16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abase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50040" y="1931040"/>
              <a:ext cx="13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utho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ork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53480" y="193104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26360" y="3179160"/>
              <a:ext cx="375480" cy="10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140720" y="3803400"/>
              <a:ext cx="656640" cy="62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609800" y="4159800"/>
              <a:ext cx="168912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15840" y="3089880"/>
              <a:ext cx="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48680" y="3089880"/>
              <a:ext cx="84456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86840" y="2554920"/>
              <a:ext cx="0" cy="80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67160" y="2198520"/>
              <a:ext cx="112608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67160" y="2198520"/>
              <a:ext cx="938160" cy="9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59200" y="2198520"/>
              <a:ext cx="0" cy="142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38160" y="3179160"/>
              <a:ext cx="0" cy="89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52800" y="2822400"/>
              <a:ext cx="1689120" cy="356760"/>
            </a:xfrm>
            <a:prstGeom prst="rect">
              <a:avLst/>
            </a:prstGeom>
            <a:solidFill>
              <a:srgbClr val="8f83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71280" y="2019960"/>
              <a:ext cx="2064960" cy="356760"/>
            </a:xfrm>
            <a:prstGeom prst="rect">
              <a:avLst/>
            </a:prstGeom>
            <a:solidFill>
              <a:srgbClr val="a3e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11720" y="2466000"/>
              <a:ext cx="2064240" cy="356040"/>
            </a:xfrm>
            <a:prstGeom prst="rect">
              <a:avLst/>
            </a:prstGeom>
            <a:solidFill>
              <a:srgbClr val="86b1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pee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17760" y="3892320"/>
              <a:ext cx="2064960" cy="356760"/>
            </a:xfrm>
            <a:prstGeom prst="rect">
              <a:avLst/>
            </a:prstGeom>
            <a:solidFill>
              <a:srgbClr val="2cd4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ork Or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71280" y="3535920"/>
              <a:ext cx="2064960" cy="356040"/>
            </a:xfrm>
            <a:prstGeom prst="rect">
              <a:avLst/>
            </a:prstGeom>
            <a:solidFill>
              <a:srgbClr val="c27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23800" y="3089880"/>
              <a:ext cx="1877400" cy="356760"/>
            </a:xfrm>
            <a:prstGeom prst="rect">
              <a:avLst/>
            </a:prstGeom>
            <a:solidFill>
              <a:srgbClr val="64dc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37240" y="3000960"/>
              <a:ext cx="2064960" cy="356040"/>
            </a:xfrm>
            <a:prstGeom prst="rect">
              <a:avLst/>
            </a:prstGeom>
            <a:solidFill>
              <a:srgbClr val="fff97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utho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83720" y="4427280"/>
              <a:ext cx="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826360" y="4873320"/>
              <a:ext cx="469440" cy="62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59200" y="4873320"/>
              <a:ext cx="28152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57280" y="4694760"/>
              <a:ext cx="2346480" cy="356760"/>
            </a:xfrm>
            <a:prstGeom prst="rect">
              <a:avLst/>
            </a:prstGeom>
            <a:solidFill>
              <a:srgbClr val="f990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 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71280" y="5229720"/>
              <a:ext cx="2064960" cy="356760"/>
            </a:xfrm>
            <a:prstGeom prst="rect">
              <a:avLst/>
            </a:prstGeom>
            <a:solidFill>
              <a:srgbClr val="fe7c4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t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25160" y="5229720"/>
              <a:ext cx="2064240" cy="356760"/>
            </a:xfrm>
            <a:prstGeom prst="rect">
              <a:avLst/>
            </a:prstGeom>
            <a:solidFill>
              <a:srgbClr val="fd87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uthent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57280" y="4159800"/>
              <a:ext cx="2346480" cy="356760"/>
            </a:xfrm>
            <a:prstGeom prst="rect">
              <a:avLst/>
            </a:prstGeom>
            <a:solidFill>
              <a:srgbClr val="b6da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 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RS Subsystem Decompo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8674-D603-4610-96E2-F3514411055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I - Services provided by Mainte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icky pickStick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id attachSticky(Sticky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to get and set the Workorder and Sticky attribu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id setStatus(int statu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doc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ntrib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andrew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cmu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edu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~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wortham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/SE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114800" y="1600200"/>
            <a:ext cx="4800600" cy="2209680"/>
            <a:chOff x="4114800" y="1600200"/>
            <a:chExt cx="4800600" cy="2209680"/>
          </a:xfrm>
        </p:grpSpPr>
        <p:sp>
          <p:nvSpPr>
            <p:cNvPr id="182" name=""/>
            <p:cNvSpPr/>
            <p:nvPr/>
          </p:nvSpPr>
          <p:spPr>
            <a:xfrm>
              <a:off x="5105520" y="1600200"/>
              <a:ext cx="3809880" cy="2133360"/>
            </a:xfrm>
            <a:prstGeom prst="rect">
              <a:avLst/>
            </a:prstGeom>
            <a:solidFill>
              <a:srgbClr val="2cb3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27920" y="160020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5562360" y="320040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943600" y="3504960"/>
              <a:ext cx="1371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67280" y="25905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05720" y="259056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67480" y="2133360"/>
              <a:ext cx="0" cy="6858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77120" y="182880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1828800"/>
              <a:ext cx="7617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34120" y="182880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77320" y="26668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2361960"/>
              <a:ext cx="1371600" cy="304920"/>
            </a:xfrm>
            <a:prstGeom prst="rect">
              <a:avLst/>
            </a:prstGeom>
            <a:solidFill>
              <a:srgbClr val="8f83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81480" y="1676160"/>
              <a:ext cx="1676520" cy="304920"/>
            </a:xfrm>
            <a:prstGeom prst="rect">
              <a:avLst/>
            </a:prstGeom>
            <a:solidFill>
              <a:srgbClr val="a3e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62920" y="2057400"/>
              <a:ext cx="1676160" cy="304560"/>
            </a:xfrm>
            <a:prstGeom prst="rect">
              <a:avLst/>
            </a:prstGeom>
            <a:solidFill>
              <a:srgbClr val="86b1dc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pee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86600" y="3276360"/>
              <a:ext cx="1676520" cy="304920"/>
            </a:xfrm>
            <a:prstGeom prst="rect">
              <a:avLst/>
            </a:prstGeom>
            <a:solidFill>
              <a:srgbClr val="2cd4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ork Or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81480" y="2971800"/>
              <a:ext cx="1676520" cy="304560"/>
            </a:xfrm>
            <a:prstGeom prst="rect">
              <a:avLst/>
            </a:prstGeom>
            <a:solidFill>
              <a:srgbClr val="c27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10280" y="2590560"/>
              <a:ext cx="1524240" cy="304920"/>
            </a:xfrm>
            <a:prstGeom prst="rect">
              <a:avLst/>
            </a:prstGeom>
            <a:solidFill>
              <a:srgbClr val="64dcd9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14800" y="3504960"/>
              <a:ext cx="1905120" cy="304920"/>
            </a:xfrm>
            <a:prstGeom prst="rect">
              <a:avLst/>
            </a:prstGeom>
            <a:solidFill>
              <a:srgbClr val="b6da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 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4001-449C-45A4-A654-F897C675861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9:50:21Z</dcterms:created>
  <dc:creator>Eric Stein</dc:creator>
  <dc:description/>
  <dc:language>en-US</dc:language>
  <cp:lastModifiedBy>Tracey Wortham</cp:lastModifiedBy>
  <cp:lastPrinted>1999-11-04T21:32:38Z</cp:lastPrinted>
  <dcterms:modified xsi:type="dcterms:W3CDTF">1999-11-23T13:44:55Z</dcterms:modified>
  <cp:revision>111</cp:revision>
  <dc:subject/>
  <dc:title>Title</dc:title>
</cp:coreProperties>
</file>