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781-532A-46D9-AD9B-754BD061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21A-0912-4041-B88C-0353BEDC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624-4959-49DE-AAC3-B225800C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6DB-CA37-42B8-B312-03063B42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AE1-E9DD-4F34-B22E-6C789D54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570-7806-4AE6-9C5A-EB06BB7B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A41-876B-42E7-AF12-6A75A374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0D8-C7E5-4632-ADF4-B571F18F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91B-96EA-4A22-8800-94DC1102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2E0-CE61-45DE-846A-5DF7B4AC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2F6-2190-44F1-BDB7-5BBF6278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DBA-3083-414E-8968-8D96DBE7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A10-D476-4AA2-81F8-BEE27F564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rig/javadoc/inde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achel I. Gold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pair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032-92BF-4791-B308-0207B441A58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.grammar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rammar" descr=""/>
          <p:cNvPicPr/>
          <p:nvPr/>
        </p:nvPicPr>
        <p:blipFill>
          <a:blip r:embed="rId1"/>
          <a:stretch/>
        </p:blipFill>
        <p:spPr>
          <a:xfrm>
            <a:off x="380880" y="1366920"/>
            <a:ext cx="8371080" cy="48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DC9-B5ED-47F5-BA99-74F91262A6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d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doc:</a:t>
            </a:r>
            <a:br>
              <a:rPr sz="3200"/>
            </a:br>
            <a:r>
              <a:rPr b="0" lang="en-US" sz="3200" spc="-1" strike="noStrike" u="sng">
                <a:solidFill>
                  <a:srgbClr val="009900"/>
                </a:solidFill>
                <a:uFillTx/>
                <a:latin typeface="Times New Roman"/>
                <a:hlinkClick r:id="rId1"/>
              </a:rPr>
              <a:t>http://www.contrib.andrew.cmu.edu/~rig/javadoc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93A-C983-4CD8-8295-356C7E3594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dware/Software Al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ch subsystem will use IBM ViaVoice with JSAPI extensions as its speech eng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Voice needs a maximum 260 MB in disk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Voice needs a maximum 48 MB RAM (including 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DD5-E5BC-4053-AECA-097816C9D0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provided by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peech.Initialization.initializ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the UI subsystem to start the speech sub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ech subsystem will be running as long as the STARS executable is running on the PE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589-7AFD-44E0-8D59-5FB123CCCC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needed by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Maintenance sub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a workorder to the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ubmitWorkor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the current sti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nextStick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current sticky back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eviousStick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status of a work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Status(int stat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2514600"/>
            <a:ext cx="3268800" cy="1830240"/>
          </a:xfrm>
          <a:prstGeom prst="rect">
            <a:avLst/>
          </a:prstGeom>
          <a:solidFill>
            <a:srgbClr val="2cb3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60040" y="25146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92800" y="33638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2080" y="3363840"/>
            <a:ext cx="58716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07240" y="3036960"/>
            <a:ext cx="0" cy="5889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15160" y="2711520"/>
            <a:ext cx="78408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15160" y="2711520"/>
            <a:ext cx="6541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35600" y="2711520"/>
            <a:ext cx="0" cy="10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96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00760" y="3168720"/>
            <a:ext cx="1176480" cy="261720"/>
          </a:xfrm>
          <a:prstGeom prst="rect">
            <a:avLst/>
          </a:prstGeom>
          <a:solidFill>
            <a:srgbClr val="8f8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03840" y="2579760"/>
            <a:ext cx="1438200" cy="261720"/>
          </a:xfrm>
          <a:prstGeom prst="rect">
            <a:avLst/>
          </a:prstGeom>
          <a:solidFill>
            <a:srgbClr val="a3ef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2895480"/>
            <a:ext cx="1438200" cy="262080"/>
          </a:xfrm>
          <a:prstGeom prst="rect">
            <a:avLst/>
          </a:prstGeom>
          <a:solidFill>
            <a:srgbClr val="86b1d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38960" y="3952800"/>
            <a:ext cx="1438200" cy="262080"/>
          </a:xfrm>
          <a:prstGeom prst="rect">
            <a:avLst/>
          </a:prstGeom>
          <a:solidFill>
            <a:srgbClr val="2cd4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03840" y="3691080"/>
            <a:ext cx="1438200" cy="261720"/>
          </a:xfrm>
          <a:prstGeom prst="rect">
            <a:avLst/>
          </a:prstGeom>
          <a:solidFill>
            <a:srgbClr val="c276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429000"/>
            <a:ext cx="1306440" cy="262080"/>
          </a:xfrm>
          <a:prstGeom prst="rect">
            <a:avLst/>
          </a:prstGeom>
          <a:solidFill>
            <a:srgbClr val="64dcd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47F-4BBC-4375-A1DA-BC999A4A40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vices needed by Speech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UI sub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displayed screen from model to IETM and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displayUserInterfa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userInterfaceID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nt displayStatu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nt panel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1447920"/>
            <a:ext cx="3268800" cy="1830240"/>
          </a:xfrm>
          <a:prstGeom prst="rect">
            <a:avLst/>
          </a:prstGeom>
          <a:solidFill>
            <a:srgbClr val="2cb3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7040" y="14479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9800" y="22971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9080" y="2297160"/>
            <a:ext cx="58716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64240" y="19699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72160" y="1644480"/>
            <a:ext cx="784080" cy="1954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72160" y="1644480"/>
            <a:ext cx="6541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92600" y="164448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7760" y="2101680"/>
            <a:ext cx="1176480" cy="262080"/>
          </a:xfrm>
          <a:prstGeom prst="rect">
            <a:avLst/>
          </a:prstGeom>
          <a:solidFill>
            <a:srgbClr val="8f8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0840" y="1512720"/>
            <a:ext cx="1535040" cy="316080"/>
          </a:xfrm>
          <a:prstGeom prst="rect">
            <a:avLst/>
          </a:prstGeom>
          <a:solidFill>
            <a:srgbClr val="a3eff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1828800"/>
            <a:ext cx="1438200" cy="262080"/>
          </a:xfrm>
          <a:prstGeom prst="rect">
            <a:avLst/>
          </a:prstGeom>
          <a:solidFill>
            <a:srgbClr val="86b1d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5960" y="2886120"/>
            <a:ext cx="1438200" cy="261720"/>
          </a:xfrm>
          <a:prstGeom prst="rect">
            <a:avLst/>
          </a:prstGeom>
          <a:solidFill>
            <a:srgbClr val="2cd4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0840" y="2624040"/>
            <a:ext cx="1438200" cy="262080"/>
          </a:xfrm>
          <a:prstGeom prst="rect">
            <a:avLst/>
          </a:prstGeom>
          <a:solidFill>
            <a:srgbClr val="c276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2362320"/>
            <a:ext cx="1306440" cy="261720"/>
          </a:xfrm>
          <a:prstGeom prst="rect">
            <a:avLst/>
          </a:prstGeom>
          <a:solidFill>
            <a:srgbClr val="64d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DC5-F297-4B55-B627-202EC5492C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the Speech Sub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Analys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Design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sign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into the API for WebManual IETM 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izing all grammars: global, workorder, model, IE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DD5-32AD-4712-A175-6B37EE2CDF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2 to 12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 to 12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4 to 1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Acceptanc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631-7FAE-4443-86FC-372F863655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Manual AP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r creation of a dynamic IETM grammar depends on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78D-9E69-4433-B26C-DDAFEF74BD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 Subsystem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in spoken text and performs appropriate actions / API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valid words and phrases that the recognition engine is expecting at a particular point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FB8-801F-4641-96EE-7DC5B36502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: API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 Bob has a workorder with stickies.  A view of the model is displayed on his PE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show IETM” in order to change the display from the model to the IE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nterpreter.Global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i.UserInterfaceManager.displayUser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userInterfaceI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splayStat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anel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81680" y="152388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852-13BA-4922-8F6D-F35621DD124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activate IETM” in order to switch grammars to the IETM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nterpreter.Global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grammar.CentralGrammarHand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tiveGrammarHandler(IETMGrammar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next step” and the speech system speaks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ep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CentralInterpreter.ActiveInterpreter. 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ETM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Synthesis.speakSte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A78-1CBC-4B1D-95AE-A73666BC63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performs the step spoken to him and continues saying “next step” until he is done with the re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activate workorder” in order to switch the active grammar to the workorder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nterpreter.CentralInterpreter. Global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grammar.CentralGrammarHand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tiveGrammarHandler(WorkorderGrammar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F04-C9D4-496C-AD5A-DE6B20E375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  “submit” in order to automatically set the status to awaiting approval and submit the completed workorder to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CentralInterpreter.Active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Workorder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tenance.submitWorkor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5F4-757A-459F-88CF-BB00F4DBA3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6248520"/>
            <a:ext cx="31104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eq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925040" cy="53341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: Sequenc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28800"/>
            <a:ext cx="1197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: Bob says “show IETM” in order to change the display from the model to the IE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590920"/>
            <a:ext cx="1197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: Bob says, “activate IETM” in order to switch grammars to the IETM gram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94160"/>
            <a:ext cx="11970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: Bob says, “next step” and the speech system speaks a step to hi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92720"/>
            <a:ext cx="119700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: Bob says, “activate workorder” in order to switch the active grammar to the workorder gramma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276880"/>
            <a:ext cx="1197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 Bob says “submit” in order to submit the completed workorder to the databa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6172200"/>
            <a:ext cx="609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763-DEA3-4519-A070-D0D8C2B119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peech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C39-3BAB-4282-8671-421CCD2DA5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.interpreter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interpreter" descr=""/>
          <p:cNvPicPr/>
          <p:nvPr/>
        </p:nvPicPr>
        <p:blipFill>
          <a:blip r:embed="rId1"/>
          <a:stretch/>
        </p:blipFill>
        <p:spPr>
          <a:xfrm>
            <a:off x="609480" y="1300320"/>
            <a:ext cx="7925040" cy="48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341-D97F-44D1-9993-858724B8EE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rig</cp:lastModifiedBy>
  <cp:lastPrinted>1999-11-04T21:32:38Z</cp:lastPrinted>
  <dcterms:modified xsi:type="dcterms:W3CDTF">1999-11-23T07:57:39Z</dcterms:modified>
  <cp:revision>92</cp:revision>
  <dc:subject/>
  <dc:title>Title</dc:title>
</cp:coreProperties>
</file>